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16A-597E-4D55-89C6-02F5628D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CB5-067A-47C1-AB3B-0E8B5518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302-B364-47B3-898D-B31D281E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024-4934-44A0-9B01-86465622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18C-451D-4404-9AF0-B6122F35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F49-9A36-4D05-9710-67B1F5AE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1CB-3F46-481E-BE7B-8CBD0169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5A6-8606-43A2-85FC-E9092B71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164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56E-FC0A-4FBF-B6C8-D0889EBD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3E2-3CE8-4C2C-9669-4BAEAF16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7E1-20E0-495F-9A4E-1F17C823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20F-DB51-4921-A2EA-0D1DFB3A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5165280"/>
            <a:ext cx="319500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D6C71C-712B-4FD2-ADAB-92A2625C4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ormal.eit</Template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7:18:23Z</dcterms:created>
  <dc:creator>Cynthia</dc:creator>
  <dc:description/>
  <dc:language>en-US</dc:language>
  <cp:lastModifiedBy>Cynthia</cp:lastModifiedBy>
  <dcterms:modified xsi:type="dcterms:W3CDTF">2019-04-02T07:18:47Z</dcterms:modified>
  <cp:revision>0</cp:revision>
  <dc:subject/>
  <dc:title/>
</cp:coreProperties>
</file>