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3.wmf" ContentType="image/x-wmf"/>
  <Override PartName="/ppt/media/image13.png" ContentType="image/png"/>
  <Override PartName="/ppt/media/image11.png" ContentType="image/png"/>
  <Override PartName="/ppt/media/image3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type.wav" ContentType="audio/x-wav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4720" y="72972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7080" y="8442360"/>
            <a:ext cx="302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C645D-9813-40A4-8361-7D4AB43BD41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8720" y="8723160"/>
            <a:ext cx="951120" cy="212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4360" y="36360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era APEX 20K Devic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D7DB-D4E2-4796-B849-143A237BF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D650-7839-4398-A444-9EB0DA225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74E2-27CC-4E28-B081-1F0CA70FE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1AFA-3712-4BB9-A3AE-7C6683083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3C4D-A3C0-4736-9BF2-35757AEA0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48DB-F53F-4162-B179-A6BAEEE82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6812-BEEC-480E-AB99-5D050D55C0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9552-04C0-4D0C-89EA-09DE15EAE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5A59-8507-4F18-B394-8B5514111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BFA7-5BA5-4A75-ADDD-B976E33568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752B-5996-4228-8896-46DFF4880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FB11-5F8D-47CC-8094-C062AA26F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9FCA-F94B-4874-9222-958E86B95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8735-2B38-4BDE-9277-0F685845EB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11B3-C525-467B-9908-976DE019AD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84BD-BBFB-44DD-B9FA-EBFE3509F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D7BC-2D56-412E-B097-740380F7D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DCD-9BF0-44A0-A864-2092AEF47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A735-F249-4FF3-A599-D5F38C698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D257-9D3A-4106-82F4-9E703428A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9025-B4A6-4680-9605-882D16585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9B7A-2CAA-42E1-8AA4-07C225D9E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26F2-E4DD-43C9-AE95-5392D6366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7CBE-F7E5-4923-8591-BEF77AF02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6248520"/>
            <a:ext cx="2890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6324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9F79-A084-4771-B1E8-3B1A07028F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37440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76D-7034-435F-9939-940A43DDCC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4343400"/>
            <a:ext cx="339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104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流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7AB6-EEA0-462D-90F5-511D673A7972}" type="slidenum">
              <a:t>1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程安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9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的仿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出仿真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术公司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91080" cy="3832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53000" y="1676520"/>
            <a:ext cx="84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main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主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2440" y="3352680"/>
            <a:ext cx="116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tructur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结构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process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处理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0" y="5257800"/>
            <a:ext cx="202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ignal&amp;variabl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信号和变量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880" y="57913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dataflow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数据流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8000" y="1523880"/>
            <a:ext cx="89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ourc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源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1616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Wave&amp;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波形和列表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828800"/>
            <a:ext cx="6858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429000"/>
            <a:ext cx="304920" cy="763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495680"/>
            <a:ext cx="30492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24080" y="3504960"/>
            <a:ext cx="76212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4080" y="4648320"/>
            <a:ext cx="7621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81320" y="1752480"/>
            <a:ext cx="685800" cy="5335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781680" y="365760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81680" y="4114800"/>
            <a:ext cx="4572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62520" y="4952520"/>
            <a:ext cx="68580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6E54-8AA0-4C21-995F-6F7F6A95BCD2}" type="slidenum">
              <a:t>11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现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互式的命令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唯一的界面是控制台的命令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用户界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接受菜单输入和命令行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程主要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运行批处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3A4E-562D-451B-AF54-ABAB8DD87C61}" type="slidenum">
              <a:t>12</a:t>
            </a:fld>
          </a:p>
        </p:txBody>
      </p:sp>
    </p:spTree>
  </p:cSld>
  <p:transition advTm="18000">
    <p:random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仿真步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9720" y="1204920"/>
            <a:ext cx="834732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映射库到物理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译源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必须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5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CAAB-6865-4653-B80D-F94A1730F4EA}" type="slidenum">
              <a:t>13</a:t>
            </a:fld>
          </a:p>
        </p:txBody>
      </p:sp>
    </p:spTree>
  </p:cSld>
  <p:transition advTm="17000"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7280" y="3352680"/>
            <a:ext cx="666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lib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库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C8F1-245F-483F-91EC-ABE1B7648936}" type="slidenum">
              <a:t>14</a:t>
            </a:fld>
          </a:p>
        </p:txBody>
      </p:sp>
    </p:spTree>
  </p:cSld>
  <p:transition advTm="20000">
    <p:random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9720" y="1204920"/>
            <a:ext cx="8347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编译设计单元的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被编译到库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当前被编译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前必须建立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编译只允许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能被当前编译引用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编译期间允许多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句引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BAFA-E4F4-4ADC-B042-4D109DF18A3D}" type="slidenum">
              <a:t>15</a:t>
            </a:fld>
          </a:p>
        </p:txBody>
      </p:sp>
    </p:spTree>
  </p:cSld>
  <p:transition advTm="22000">
    <p:random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219320"/>
            <a:ext cx="40500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特定的库中必须有唯一的名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Decla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声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Defined Primitive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定义原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1760" y="1233360"/>
            <a:ext cx="4049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相同的库里单元可以用一个普通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次要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A21D-6D51-4369-B376-3D49F63AC9E2}" type="slidenum">
              <a:t>16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x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学者不要去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可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_1164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预编译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sy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算法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先确定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5478-08E6-4517-8164-DD01C80BA555}" type="slidenum">
              <a:t>17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li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305928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值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1680" y="1447920"/>
            <a:ext cx="1765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_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8480" y="1828800"/>
            <a:ext cx="67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6280" y="2514600"/>
            <a:ext cx="2218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erilog_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1720" y="2514600"/>
            <a:ext cx="1585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hdl_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60480" y="1828800"/>
            <a:ext cx="712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95560" y="2971800"/>
            <a:ext cx="1499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rimary.v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62080" y="2971800"/>
            <a:ext cx="2084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67080" y="1676520"/>
            <a:ext cx="106704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29200" y="1828800"/>
            <a:ext cx="5335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1828800"/>
            <a:ext cx="3049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676520"/>
            <a:ext cx="106668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4956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dat -    Verilog modul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vhd -   Verilo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端口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陈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dat - VHD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系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log.asm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asm –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执行代码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555A-0BD0-451F-BB4A-A92FCCBC6D05}" type="slidenum">
              <a:t>18</a:t>
            </a:fld>
          </a:p>
        </p:txBody>
      </p:sp>
    </p:spTree>
  </p:cSld>
  <p:transition advTm="61000">
    <p:random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42900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6400800" y="2514600"/>
            <a:ext cx="25146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76560" y="2971800"/>
            <a:ext cx="1600200" cy="3049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43040" y="2971800"/>
            <a:ext cx="2133720" cy="914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886200"/>
            <a:ext cx="22100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子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7200" y="5715000"/>
            <a:ext cx="170928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lpm_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9C7A-AFB2-4B50-930E-1A68AA900BFA}" type="slidenum">
              <a:t>19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0800000">
            <a:off x="6400800" y="5562360"/>
            <a:ext cx="1295280" cy="152280"/>
          </a:xfrm>
          <a:prstGeom prst="leftArrow">
            <a:avLst>
              <a:gd name="adj1" fmla="val 50000"/>
              <a:gd name="adj2" fmla="val 55249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562720" y="4952880"/>
            <a:ext cx="2133360" cy="152640"/>
          </a:xfrm>
          <a:prstGeom prst="leftArrow">
            <a:avLst>
              <a:gd name="adj1" fmla="val 50000"/>
              <a:gd name="adj2" fmla="val 9078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4800240" y="4343040"/>
            <a:ext cx="2895480" cy="152280"/>
          </a:xfrm>
          <a:prstGeom prst="leftArrow">
            <a:avLst>
              <a:gd name="adj1" fmla="val 50000"/>
              <a:gd name="adj2" fmla="val 123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962160" y="3733560"/>
            <a:ext cx="3733560" cy="152280"/>
          </a:xfrm>
          <a:prstGeom prst="leftArrow">
            <a:avLst>
              <a:gd name="adj1" fmla="val 50000"/>
              <a:gd name="adj2" fmla="val 15925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276720" y="2513880"/>
            <a:ext cx="4419360" cy="152280"/>
          </a:xfrm>
          <a:prstGeom prst="leftArrow">
            <a:avLst>
              <a:gd name="adj1" fmla="val 50000"/>
              <a:gd name="adj2" fmla="val 188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5791320"/>
            <a:ext cx="152280" cy="380880"/>
          </a:xfrm>
          <a:prstGeom prst="downArrow">
            <a:avLst>
              <a:gd name="adj1" fmla="val 50000"/>
              <a:gd name="adj2" fmla="val 1250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1676520"/>
            <a:ext cx="152640" cy="761760"/>
          </a:xfrm>
          <a:prstGeom prst="upArrow">
            <a:avLst>
              <a:gd name="adj1" fmla="val 50000"/>
              <a:gd name="adj2" fmla="val 16667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00200"/>
            <a:ext cx="3504960" cy="152280"/>
          </a:xfrm>
          <a:prstGeom prst="leftArrow">
            <a:avLst>
              <a:gd name="adj1" fmla="val 50000"/>
              <a:gd name="adj2" fmla="val 14950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81080"/>
            <a:ext cx="152280" cy="457200"/>
          </a:xfrm>
          <a:prstGeom prst="downArrow">
            <a:avLst>
              <a:gd name="adj1" fmla="val 50000"/>
              <a:gd name="adj2" fmla="val 7387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119160" cy="380880"/>
          </a:xfrm>
          <a:prstGeom prst="downArrow">
            <a:avLst>
              <a:gd name="adj1" fmla="val 50000"/>
              <a:gd name="adj2" fmla="val 15983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181480"/>
            <a:ext cx="152280" cy="292320"/>
          </a:xfrm>
          <a:prstGeom prst="downArrow">
            <a:avLst>
              <a:gd name="adj1" fmla="val 50000"/>
              <a:gd name="adj2" fmla="val 9599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74320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35268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962520"/>
            <a:ext cx="152640" cy="291960"/>
          </a:xfrm>
          <a:prstGeom prst="downArrow">
            <a:avLst>
              <a:gd name="adj1" fmla="val 50000"/>
              <a:gd name="adj2" fmla="val 9564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152280" cy="291960"/>
          </a:xfrm>
          <a:prstGeom prst="downArrow">
            <a:avLst>
              <a:gd name="adj1" fmla="val 50000"/>
              <a:gd name="adj2" fmla="val 958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194520"/>
            <a:ext cx="2270160" cy="291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8280" y="1241280"/>
            <a:ext cx="2197080" cy="292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1600" y="617220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3920" y="121932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438280"/>
            <a:ext cx="152640" cy="1371600"/>
          </a:xfrm>
          <a:prstGeom prst="upArrow">
            <a:avLst>
              <a:gd name="adj1" fmla="val 50000"/>
              <a:gd name="adj2" fmla="val 31446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3809880"/>
            <a:ext cx="152640" cy="533520"/>
          </a:xfrm>
          <a:prstGeom prst="upArrow">
            <a:avLst>
              <a:gd name="adj1" fmla="val 50000"/>
              <a:gd name="adj2" fmla="val 5976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345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4440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0538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综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2728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门级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6633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局和布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826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4921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上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499760"/>
            <a:ext cx="152388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改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343400"/>
            <a:ext cx="152640" cy="685800"/>
          </a:xfrm>
          <a:prstGeom prst="upArrow">
            <a:avLst>
              <a:gd name="adj1" fmla="val 50000"/>
              <a:gd name="adj2" fmla="val 76816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029200"/>
            <a:ext cx="152640" cy="609480"/>
          </a:xfrm>
          <a:prstGeom prst="upArrow">
            <a:avLst>
              <a:gd name="adj1" fmla="val 50000"/>
              <a:gd name="adj2" fmla="val 6826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1524240" cy="152280"/>
          </a:xfrm>
          <a:prstGeom prst="leftArrow">
            <a:avLst>
              <a:gd name="adj1" fmla="val 50000"/>
              <a:gd name="adj2" fmla="val 6501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A5DD-68BB-4BB4-BDA0-9B95E2F5A2A0}" type="slidenum">
              <a:t>2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映射一个逻辑库名到库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库路径里的文件必须已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相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绝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软件路径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库在工作目录里没有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1A51-AB50-4A42-96EE-E80D8A0D97A0}" type="slidenum">
              <a:t>20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486400" y="1828800"/>
          <a:ext cx="3448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828800"/>
                    <a:ext cx="344808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ogical_name&gt; &lt;directory_pa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7339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体的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map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_work c:/my_design/my_lib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887E-85FA-474E-99AA-0D1F305E8450}" type="slidenum">
              <a:t>21</a:t>
            </a:fld>
          </a:p>
        </p:txBody>
      </p:sp>
    </p:spTree>
  </p:cSld>
  <p:transition advTm="29000">
    <p:random/>
    <p:sndAc>
      <p:stSnd>
        <p:snd r:embed="rId3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50532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09680" y="1981080"/>
          <a:ext cx="313380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313380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95880" y="1905120"/>
            <a:ext cx="20574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map to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85840" y="2362320"/>
            <a:ext cx="2133720" cy="10666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12956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浏览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120" y="3733920"/>
            <a:ext cx="114300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895480"/>
            <a:ext cx="1523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200400"/>
            <a:ext cx="274320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这个命令可映射一个设计单元已经预编译的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4560" y="5486400"/>
            <a:ext cx="415980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map lpm_sim c:/Quartus/library/l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5ACF-DB8E-4F7F-8C10-C8999324F110}" type="slidenum">
              <a:t>22</a:t>
            </a:fld>
          </a:p>
        </p:txBody>
      </p:sp>
    </p:spTree>
  </p:cSld>
  <p:transition advTm="30000">
    <p:random/>
    <p:sndAc>
      <p:stSnd>
        <p:snd r:embed="rId4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1143000"/>
          <a:ext cx="35053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3505320" cy="20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981080"/>
            <a:ext cx="25146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and a logical mapping to 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09680" y="1905120"/>
          <a:ext cx="3124440" cy="26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905120"/>
                    <a:ext cx="3124440" cy="269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>
            <a:off x="3809520" y="2362320"/>
            <a:ext cx="2210040" cy="990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76720"/>
            <a:ext cx="190476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目录然后为它设立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480" y="5234040"/>
            <a:ext cx="2457360" cy="64260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vmap my_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286000"/>
            <a:ext cx="21337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50F0-55AC-47D6-846F-08F017CC08CB}" type="slidenum">
              <a:t>23</a:t>
            </a:fld>
          </a:p>
        </p:txBody>
      </p:sp>
    </p:spTree>
  </p:cSld>
  <p:transition advTm="42000">
    <p:random/>
    <p:sndAc>
      <p:stSnd>
        <p:snd r:embed="rId5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44808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48783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6324480" y="2895480"/>
            <a:ext cx="1981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按钮建立一个新的库和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4572000"/>
            <a:ext cx="609480" cy="6094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440" y="3276720"/>
            <a:ext cx="3352680" cy="1523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7978-C01E-4CB8-A4E3-F8D1783019B0}" type="slidenum">
              <a:t>24</a:t>
            </a:fld>
          </a:p>
        </p:txBody>
      </p:sp>
    </p:spTree>
  </p:cSld>
  <p:transition advTm="9000">
    <p:random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的库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指定的库中删除一个完整的库或者一个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Library Brow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库或者映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设计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 &lt;design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指定库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975C-F618-4B42-84F9-599D81552AC6}" type="slidenum">
              <a:t>25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54568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order/dependencies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缺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Defaul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设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第一个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工作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com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58672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C482-80C5-406D-B649-411AEDFAF694}" type="slidenum">
              <a:t>26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Design Units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bef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Declaration before Packag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units must compiled before being 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before Entity/Architectures us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/Configurations before Architectures referen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s are compil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8194-6C5D-4B00-B1A4-C08FCA50C667}" type="slidenum">
              <a:t>27</a:t>
            </a:fld>
          </a:p>
        </p:txBody>
      </p:sp>
    </p:spTree>
  </p:cSld>
  <p:transition advTm="1000"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erilo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的顺序或者编辑的顺序不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增量式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51055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5919-B7CF-4953-A10A-E2BC79C26E66}" type="slidenum">
              <a:t>28</a:t>
            </a:fld>
          </a:p>
        </p:txBody>
      </p:sp>
    </p:spTree>
  </p:cSld>
  <p:transition advTm="25000">
    <p:random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量编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被改变的设计单元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或者手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动更有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在命令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in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例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仿真时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些错误在编辑时将不能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的模块没有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端口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5800-74AA-4E03-83E5-1916B96D1769}" type="slidenum">
              <a:t>29</a:t>
            </a:fld>
          </a:p>
        </p:txBody>
      </p:sp>
    </p:spTree>
  </p:cSld>
  <p:transition advTm="31000"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的行为或结构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逻辑模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使用时间延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设计翻译成原始的目标工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2360" indent="-158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适的面积要求和性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局和布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映射设计到目标工艺里指定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的布线资源应被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FD7D-5CD6-43B0-B235-B93B339BE81A}" type="slidenum">
              <a:t>3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8148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1004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934320" y="2895480"/>
            <a:ext cx="19810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亮一个或多个文件并点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124080" y="3276720"/>
            <a:ext cx="38102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3276720"/>
            <a:ext cx="68580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4B89-5EF2-4E21-8256-AAEC35CF7C76}" type="slidenum">
              <a:t>30</a:t>
            </a:fld>
          </a:p>
        </p:txBody>
      </p:sp>
    </p:spTree>
  </p:cSld>
  <p:transition advTm="12000">
    <p:random/>
    <p:sndAc>
      <p:stSnd>
        <p:snd r:embed="rId3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信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67080" y="1143000"/>
          <a:ext cx="47293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729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5810400" cy="3005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295280" y="1600200"/>
            <a:ext cx="19051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错误信息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zh-CN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981080"/>
            <a:ext cx="3657600" cy="5335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828800"/>
            <a:ext cx="99072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1148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信息上双击，引起错误的代码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被点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47760" y="4419720"/>
            <a:ext cx="3352680" cy="7617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CDFD-6CC5-4CB6-8A01-9292C039C815}" type="slidenum">
              <a:t>31</a:t>
            </a:fld>
          </a:p>
        </p:txBody>
      </p:sp>
    </p:spTree>
  </p:cSld>
  <p:transition advTm="0">
    <p:random/>
    <p:sndAc>
      <p:stSnd>
        <p:snd r:embed="rId4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&lt;top_level_desig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entity top_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能选择一个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level1 top_leve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C4AF-E5BE-4AD3-946A-61A89B6625A1}" type="slidenum">
              <a:t>32</a:t>
            </a:fld>
          </a:p>
        </p:txBody>
      </p:sp>
    </p:spTree>
  </p:cSld>
  <p:transition advTm="35000">
    <p:random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3912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4097160" cy="34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715000" y="1447920"/>
            <a:ext cx="20574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仿真器的分辨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2362320"/>
            <a:ext cx="838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200400"/>
            <a:ext cx="20574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顶级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entity/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1600200"/>
            <a:ext cx="2438280" cy="1371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00600" y="2514600"/>
            <a:ext cx="175248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038480" y="3429000"/>
            <a:ext cx="28958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0F73-A642-4CE7-9967-F2C21BF6A3F2}" type="slidenum">
              <a:t>33</a:t>
            </a:fld>
          </a:p>
        </p:txBody>
      </p:sp>
    </p:spTree>
  </p:cSld>
  <p:transition advTm="19000">
    <p:random/>
    <p:sndAc>
      <p:stSnd>
        <p:snd r:embed="rId3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19720" y="1523880"/>
          <a:ext cx="4333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333680" cy="3773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124080" y="2895480"/>
          <a:ext cx="45529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95480"/>
                    <a:ext cx="4552920" cy="16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14400" y="2286000"/>
            <a:ext cx="18288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3434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使用定时值的等级的类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如果不是顶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514600"/>
            <a:ext cx="45720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666880" y="3733920"/>
            <a:ext cx="152424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FD0A-45B0-4D3D-9BA1-038DF25FF1E1}" type="slidenum">
              <a:t>34</a:t>
            </a:fld>
          </a:p>
        </p:txBody>
      </p:sp>
    </p:spTree>
  </p:cSld>
  <p:transition advTm="34000">
    <p:random/>
    <p:sndAc>
      <p:stSnd>
        <p:snd r:embed="rId5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的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仿真的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以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, min, h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用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使用整个设计中的最小的时间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dfmin | -sdftyp | -sdf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stance&gt;=&lt;sdf_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实例名也是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没有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3ADB-7D7F-4A70-84AB-04FF57A5F31B}" type="slidenum">
              <a:t>3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6183360" cy="19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ime_step&gt; &lt;time_unit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的时间长度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855D-6B67-4EC8-B03C-6BA58E702FD0}" type="slidenum">
              <a:t>36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0" y="1905120"/>
          <a:ext cx="3249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3249720" cy="184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066680" y="2666880"/>
            <a:ext cx="22860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量就可以执行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352680" y="2743200"/>
            <a:ext cx="25909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267080"/>
            <a:ext cx="27432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tar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装任何已改动的设计元素并把仿真时间设为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re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876920" y="3581280"/>
            <a:ext cx="1143000" cy="10670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7C9D-16A8-4A64-A1ED-CE7169A32616}" type="slidenum">
              <a:t>37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选的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&lt;timesteps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运行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the next HD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上次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断点后的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仿真器直到没有其他的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ADA9-E70A-4F7F-82CA-68900A38909D}" type="slidenum">
              <a:t>38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time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运行仿真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step 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FB41-1C22-4211-9244-550A8D9668C1}" type="slidenum">
              <a:t>39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门级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设计一旦编程或配置将能在目标工艺里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验证合乎性能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图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版图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板编程和测试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815D-6FFC-4BA3-AA4D-48C41EB1572A}" type="slidenum">
              <a:t>4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器激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常复杂的仿真 交互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简单的模块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从命令控制台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0BBC-0179-4E1C-8523-1547243A48B6}" type="slidenum">
              <a:t>40</a:t>
            </a:fld>
          </a:p>
        </p:txBody>
      </p:sp>
    </p:spTree>
  </p:cSld>
  <p:transition advTm="20000">
    <p:random/>
    <p:sndAc>
      <p:stSnd>
        <p:snd r:embed="rId1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用户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网予以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规语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tem_name&gt; &lt;value&gt; &lt;time&gt;, &lt;value&gt; &lt;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item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激励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 scalar or one-dimensional array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 indexed array, array slice, or record sub-element as long as its of the abov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wildcards as long as only one match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6456-1E32-4AD8-9EA2-F239D7F57788}" type="slidenum">
              <a:t>41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强制的项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适合项的数据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值的时间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于当前的仿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charac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绝对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单位能被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是仿真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3356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379B-3AEF-4E7E-99FC-25FFDDFE2B42}" type="slidenum">
              <a:t>42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r[epea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重复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anc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后取消强制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1F49-DCB7-40E4-820B-2D4A1ECCFB54}" type="slidenum">
              <a:t>43</a:t>
            </a:fld>
          </a:p>
        </p:txBody>
      </p:sp>
    </p:spTree>
  </p:cSld>
  <p:transition advTm="7000">
    <p:random/>
    <p:sndAc>
      <p:stSnd>
        <p:snd r:embed="rId1" name="typ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1 01XZ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X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2 16#4F @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仿真启动后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辨率在仿真启动时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 0 0, 1 20 -repeat 50 -cancel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重复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发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2 1 10 ns, 0 {20 ns} -r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上一个例子相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面的时间单位表达式必须放在大括号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4402-6ED4-4BAC-8F92-9E70FA88CA69}" type="slidenum">
              <a:t>44</a:t>
            </a:fld>
          </a:p>
        </p:txBody>
      </p:sp>
    </p:spTree>
  </p:cSld>
  <p:transition advTm="27000">
    <p:random/>
    <p:sndAc>
      <p:stSnd>
        <p:snd r:embed="rId1" name="typ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完成仿真步骤的宏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制仿真激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在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里被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Macro -&gt;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)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filename&gt;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调用其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22640" y="2895480"/>
            <a:ext cx="1783800" cy="2040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list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run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C62F-A0E7-4BF3-9DE4-4DD1A5E0DD47}" type="slidenum">
              <a:t>4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73356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-hex 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r 0 0, 1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load 1 0, 0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data 16#A5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5000" y="1752480"/>
            <a:ext cx="1783800" cy="155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240" y="135576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_sim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25000" y="1371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665A-EC59-4AA5-8096-06871A00C011}" type="slidenum">
              <a:t>46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B9DD-515F-40A1-8B70-AFA60C10EAC4}" type="slidenum">
              <a:t>47</a:t>
            </a:fld>
          </a:p>
        </p:txBody>
      </p:sp>
    </p:spTree>
  </p:cSld>
  <p:transition advTm="2000">
    <p:random/>
    <p:sndAc>
      <p:stSnd>
        <p:snd r:embed="rId2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九个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main, structure, source, signals, process, variables, dataflow, wave,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0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任何窗口的多个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窗口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鼠标左键，这些项能被从一个窗口拖和放到另一个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可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Dataflow, List, Signals, Source, Structure, 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窗口拖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把它们放到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2895480"/>
            <a:ext cx="5486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注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窗口只允许存在一个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因为这个窗口控制仿真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D8FA-187C-4F71-9655-DB3A6806A33B}" type="slidenum">
              <a:t>48</a:t>
            </a:fld>
          </a:p>
        </p:txBody>
      </p:sp>
    </p:spTree>
  </p:cSld>
  <p:transition advTm="32000">
    <p:random/>
    <p:sndAc>
      <p:stSnd>
        <p:snd r:embed="rId1" name="typ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204920"/>
            <a:ext cx="8488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设计加载前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浏览帮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源代码而不用调用一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加载后显示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告诉我们仿真器的行为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91120" y="3352680"/>
          <a:ext cx="46958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352680"/>
                    <a:ext cx="4695840" cy="2667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4DDE-6A36-43C0-870C-357968E37EBA}" type="slidenum">
              <a:t>49</a:t>
            </a:fld>
          </a:p>
        </p:txBody>
      </p:sp>
    </p:spTree>
  </p:cSld>
  <p:transition advTm="0">
    <p:random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752480" cy="17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4CE4-EAAF-41FF-ADAF-79D4423BF321}" type="slidenum">
              <a:t>5</a:t>
            </a:fld>
          </a:p>
        </p:txBody>
      </p:sp>
    </p:spTree>
  </p:cSld>
  <p:transition advTm="4000">
    <p:random/>
    <p:sndAc>
      <p:stSnd>
        <p:snd r:embed="rId2" name="typ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入新库或编辑已有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浏览和编辑库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1814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738-F725-4C49-917E-8BE60DC76871}" type="slidenum">
              <a:t>50</a:t>
            </a:fld>
          </a:p>
        </p:txBody>
      </p:sp>
    </p:spTree>
  </p:cSld>
  <p:transition advTm="15000">
    <p:random/>
    <p:sndAc>
      <p:stSnd>
        <p:snd r:embed="rId2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641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选择要加载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iers of 1, 10, and 100 each tim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顶级设计单元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顶级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构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76320" y="51814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    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6248520"/>
            <a:ext cx="38862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library_name&gt; &lt;top_level_design_u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6E2C-6904-4774-B5C2-E141762E000A}" type="slidenum">
              <a:t>51</a:t>
            </a:fld>
          </a:p>
        </p:txBody>
      </p:sp>
    </p:spTree>
  </p:cSld>
  <p:transition advTm="35000">
    <p:random/>
    <p:sndAc>
      <p:stSnd>
        <p:snd r:embed="rId2" name="typ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Options Menu -&gt; Simul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38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EED7-F1FB-4939-B237-BC7B2E5A7EEF}" type="slidenum">
              <a:t>52</a:t>
            </a:fld>
          </a:p>
        </p:txBody>
      </p:sp>
    </p:spTree>
  </p:cSld>
  <p:transition advTm="18000">
    <p:random/>
    <p:sndAc>
      <p:stSnd>
        <p:snd r:embed="rId2" name="type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tru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的结构多层浏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Package, component instantiation, generate and block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modu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named fork, named begin, task,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ion label, entity/module,                                   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为当前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pd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21360" y="1676520"/>
            <a:ext cx="27608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FFF1-2F63-41D5-9C34-CEF26975EA71}" type="slidenum">
              <a:t>53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3469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的控制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-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识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任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的编辑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和重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和常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3657600" y="632448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D16B-16C5-4D94-A62C-9F7CFFDDD697}" type="slidenum">
              <a:t>54</a:t>
            </a:fld>
          </a:p>
        </p:txBody>
      </p:sp>
    </p:spTree>
  </p:cSld>
  <p:transition advTm="22000">
    <p:random/>
    <p:sndAc>
      <p:stSnd>
        <p:snd r:embed="rId2" name="type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当前仿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"/>
          <p:cNvSpPr/>
          <p:nvPr/>
        </p:nvSpPr>
        <p:spPr>
          <a:xfrm>
            <a:off x="990720" y="4114800"/>
            <a:ext cx="266688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0128"/>
                </a:solidFill>
                <a:latin typeface="Arial"/>
              </a:rPr>
              <a:t>1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亮信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寄存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右击鼠标并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Object Menu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Examine/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352680" y="4572000"/>
            <a:ext cx="198144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352680" y="4876560"/>
            <a:ext cx="2362320" cy="759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9911-9CD3-492F-8659-ED2324D98B45}" type="slidenum">
              <a:t>55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外部和内部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all processes scheduled for execution during the current simula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names of all processes in the region selected in the Structur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81952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E387-0035-43E4-8C08-4F860A3FBF5A}" type="slidenum">
              <a:t>56</a:t>
            </a:fld>
          </a:p>
        </p:txBody>
      </p:sp>
    </p:spTree>
  </p:cSld>
  <p:transition advTm="25000">
    <p:random/>
    <p:sndAc>
      <p:stSnd>
        <p:snd r:embed="rId2" name="type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Rea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cheduled to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Wa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理正等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改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等待超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Do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has executed a VHDL wait statement without a time-out or sensitiv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2280" y="1295280"/>
          <a:ext cx="281952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2819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C7F1-B378-4373-952D-F1AD7493F6CD}" type="slidenum">
              <a:t>57</a:t>
            </a:fld>
          </a:p>
        </p:txBody>
      </p:sp>
    </p:spTree>
  </p:cSld>
  <p:transition advTm="18000">
    <p:random/>
    <p:sndAc>
      <p:stSnd>
        <p:snd r:embed="rId3" name="type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ignal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的当前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的名称和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升序，降序或声明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和已命名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浏览选择信号类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356520" y="2666880"/>
            <a:ext cx="2552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2B74-6224-48AE-96CD-611C82D942C2}" type="slidenum">
              <a:t>58</a:t>
            </a:fld>
          </a:p>
        </p:txBody>
      </p:sp>
    </p:spTree>
  </p:cSld>
  <p:transition advTm="27000">
    <p:random/>
    <p:sndAc>
      <p:stSnd>
        <p:snd r:embed="rId2" name="type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的图形描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线网在窗口中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drive signal or net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read the signal or are triggered by the net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6113-6CF6-4DD4-B959-8FC251A602CE}" type="slidenum">
              <a:t>59</a:t>
            </a:fld>
          </a:p>
        </p:txBody>
      </p:sp>
    </p:spTree>
  </p:cSld>
  <p:transition advTm="21000">
    <p:random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59547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公司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业上最通用的仿真器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本允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 u="sng">
                <a:solidFill>
                  <a:srgbClr val="fc0128"/>
                </a:solidFill>
                <a:uFillTx/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4400640"/>
            <a:ext cx="2286000" cy="4572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  <p:sndAc>
      <p:stSnd>
        <p:snd r:embed="rId3" name="type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read by or nets that trigger the process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or nets driven by the process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Double clicking update of sign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0F99-5CDD-420D-9A8A-2C965CF6FB21}" type="slidenum">
              <a:t>60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波形浏览仿真结果的图形化的历史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寄存器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命名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更多的逻辑信号多个波形窗口用于更多的逻辑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信号和向量的基数已方便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印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5259600" cy="2616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71800" y="4049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468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缩放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4680" y="458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格式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4680" y="511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个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3520" y="6045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强大的编辑和查找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5000" y="3530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64771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6825-F2C7-49A1-A3AF-574A377B622A}" type="slidenum">
              <a:t>61</a:t>
            </a:fld>
          </a:p>
        </p:txBody>
      </p:sp>
    </p:spTree>
  </p:cSld>
  <p:transition advTm="116000">
    <p:random/>
    <p:sndAc>
      <p:stSnd>
        <p:snd r:embed="rId2" name="type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表格显示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和寄存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窗口或到这个窗口“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功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用户定义的总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dit&gt;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触发和选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List - Tabular, Event or T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- Add, Delete or 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7204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"/>
          <p:cNvSpPr/>
          <p:nvPr/>
        </p:nvSpPr>
        <p:spPr>
          <a:xfrm>
            <a:off x="3657600" y="64008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67F4-A9E0-4C3D-97E1-C360F5B46CD3}" type="slidenum">
              <a:t>62</a:t>
            </a:fld>
          </a:p>
        </p:txBody>
      </p:sp>
    </p:spTree>
  </p:cSld>
  <p:transition advTm="10000">
    <p:random/>
    <p:sndAc>
      <p:stSnd>
        <p:snd r:embed="rId2" name="type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00040" y="1204560"/>
            <a:ext cx="57150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neric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当前过程的路径被显示在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层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升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序或声明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改变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变量或层中的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9480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3" name=""/>
          <p:cNvSpPr/>
          <p:nvPr/>
        </p:nvSpPr>
        <p:spPr>
          <a:xfrm>
            <a:off x="3657600" y="61722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8FE8-F2B5-4591-8A52-AA3674C8B258}" type="slidenum">
              <a:t>63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动更新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flow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到这个窗口的中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, Signals, Source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会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, Signals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选择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是唯一被更新的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从你的设计结构中层次浏览中的一个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将自动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7896-0D5B-4C43-AF8D-F0D860FA780B}" type="slidenum">
              <a:t>64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找名称或搜索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两个窗口外其他窗口都允许用户通过菜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Fi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项名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没有这个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通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ear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能被排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升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降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声明顺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项按被声明的顺序排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DD72-7717-471E-ABE9-699621D67437}" type="slidenum">
              <a:t>65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个窗口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主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ew&gt;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建立额外的相同窗口的副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D45B-51AB-474E-8EF5-8F4C93FEDFEF}" type="slidenum">
              <a:t>66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调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时候调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失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或意外的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试能力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监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BF5C-0488-4E7E-9576-3C1539135B1F}" type="slidenum">
              <a:t>67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视更多的信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跟踪加入附加的信号或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, Signal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 “拖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0E24-D909-444B-8B22-A2D7ECE3AB89}" type="slidenum">
              <a:t>6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两种类型的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源代码窗口设置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gles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次点击删除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断点数量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件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&lt;condition&gt; &lt;ac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{b=1 and c/=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和寄存器一起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 {if{$now/=100}then{cont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6121-CF7B-4887-9C87-E1385423D749}" type="slidenum">
              <a:t>69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许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是不同时许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者能立刻混合仿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要的版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所有功能连同附加功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30480"/>
            <a:ext cx="2671560" cy="229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68452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4F32-B314-4FA1-BB57-F8ED5B66F2CD}" type="slidenum">
              <a:t>7</a:t>
            </a:fld>
          </a:p>
        </p:txBody>
      </p:sp>
    </p:spTree>
  </p:cSld>
  <p:transition advTm="11000">
    <p:random/>
    <p:sndAc>
      <p:stSnd>
        <p:snd r:embed="rId3" name="type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目录和子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你保留当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项目目录里保存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P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仍然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-&gt; New / Open /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9B2A-17C5-4946-8747-63F6067500B4}" type="slidenum">
              <a:t>70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用户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目录一个缺省文件被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编译器和仿真器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有初始信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文件的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其他缺省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下列顺序搜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 called MODELSIM which points directly to the modelsim.ini file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file called modelsim.ini located in the current working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安装树目录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E255-CD10-422F-9A63-68E235F795D9}" type="slidenum">
              <a:t>71</a:t>
            </a:fld>
          </a:p>
        </p:txBody>
      </p:sp>
    </p:spTree>
  </p:cSld>
  <p:transition advTm="47000">
    <p:random/>
    <p:sndAc>
      <p:stSnd>
        <p:snd r:embed="rId1" name="type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up.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脚本自动执行通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例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.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象这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av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用一个启动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”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行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提供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Startup = do /path ..../startup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C7E8-694F-44CB-8C48-910F0C99232F}" type="slidenum">
              <a:t>72</a:t>
            </a:fld>
          </a:p>
        </p:txBody>
      </p:sp>
    </p:spTree>
  </p:cSld>
  <p:transition advTm="21000">
    <p:random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E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完全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1364-’95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 1.0 -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2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‘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易用的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用的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1F42-6478-431F-8858-0DAA78222398}" type="slidenum">
              <a:t>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5320" y="1752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5315040"/>
            <a:ext cx="2286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B824-80FE-4D3B-9230-63071F0E04CD}" type="slidenum">
              <a:t>9</a:t>
            </a:fld>
          </a:p>
        </p:txBody>
      </p:sp>
    </p:spTree>
  </p:cSld>
  <p:transition advTm="6000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1:08:45Z</dcterms:created>
  <dc:creator>张冬平</dc:creator>
  <dc:description/>
  <dc:language>en-US</dc:language>
  <cp:lastModifiedBy>wuxinhua</cp:lastModifiedBy>
  <cp:lastPrinted>2000-08-02T19:25:09Z</cp:lastPrinted>
  <dcterms:modified xsi:type="dcterms:W3CDTF">2005-05-30T03:28:24Z</dcterms:modified>
  <cp:revision>473</cp:revision>
  <dc:subject>ver. 2</dc:subject>
  <dc:title>Modelsim中文教程</dc:title>
</cp:coreProperties>
</file>