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  <p:custShowLst>
    <p:custShow name="自定义放映 1" id="0">
      <p:sldLst>
        <p:sld r:id="rId30"/>
        <p:sld r:id="rId25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B45-8343-40DB-88D6-B2A99983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5EF-BF8F-4729-9467-264ADC12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BD4-866F-4956-A7D6-0953E673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6D4-18D9-430B-A6E8-74EA9AE7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9CA-4082-44A7-AEA0-F8ABC0B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E9C-4385-41B9-AD26-FAB8DC1A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1CF-8EF6-4FE2-8977-729DF10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36D-97BC-4EC0-A92C-8018920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7E1-90B0-4D73-A7B0-75F3934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D96-2BAE-4F4E-9A36-B2F49C3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835-B663-4DB7-A6D4-F5EF1FD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99E-EACC-445F-A9B4-659C2EE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F681-2326-4D9E-BE32-54CD55BB7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3454560"/>
            <a:ext cx="3600360" cy="1255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（初级界面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187200" y="1484280"/>
            <a:ext cx="7012080" cy="520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84360" y="6073920"/>
            <a:ext cx="935280" cy="642600"/>
          </a:xfrm>
          <a:prstGeom prst="wedgeRectCallout">
            <a:avLst>
              <a:gd name="adj1" fmla="val 68388"/>
              <a:gd name="adj2" fmla="val 5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236000" y="2991960"/>
            <a:ext cx="1800000" cy="368640"/>
          </a:xfrm>
          <a:prstGeom prst="wedgeRectCallout">
            <a:avLst>
              <a:gd name="adj1" fmla="val -100666"/>
              <a:gd name="adj2" fmla="val 255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2124000" y="478440"/>
            <a:ext cx="1584360" cy="642600"/>
          </a:xfrm>
          <a:prstGeom prst="wedgeRectCallout">
            <a:avLst>
              <a:gd name="adj1" fmla="val -82370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9376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4018"/>
              <a:gd name="adj2" fmla="val 225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79200" y="1387440"/>
            <a:ext cx="7297920" cy="540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21200" y="6009120"/>
            <a:ext cx="1584360" cy="368640"/>
          </a:xfrm>
          <a:prstGeom prst="wedgeRectCallout">
            <a:avLst>
              <a:gd name="adj1" fmla="val -7087"/>
              <a:gd name="adj2" fmla="val -6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929200" y="6005880"/>
            <a:ext cx="1343160" cy="368640"/>
          </a:xfrm>
          <a:prstGeom prst="wedgeRectCallout">
            <a:avLst>
              <a:gd name="adj1" fmla="val -114143"/>
              <a:gd name="adj2" fmla="val -647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5530680" y="2826360"/>
            <a:ext cx="1182960" cy="368640"/>
          </a:xfrm>
          <a:prstGeom prst="wedgeRectCallout">
            <a:avLst>
              <a:gd name="adj1" fmla="val -145527"/>
              <a:gd name="adj2" fmla="val -11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慎重选择该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" descr=""/>
          <p:cNvPicPr/>
          <p:nvPr/>
        </p:nvPicPr>
        <p:blipFill>
          <a:blip r:embed="rId1"/>
          <a:stretch/>
        </p:blipFill>
        <p:spPr>
          <a:xfrm>
            <a:off x="100080" y="1241280"/>
            <a:ext cx="7372440" cy="5445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00080" y="277560"/>
            <a:ext cx="1027080" cy="642600"/>
          </a:xfrm>
          <a:prstGeom prst="wedgeRectCallout">
            <a:avLst>
              <a:gd name="adj1" fmla="val 34162"/>
              <a:gd name="adj2" fmla="val 244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92320" y="331560"/>
            <a:ext cx="2306520" cy="642600"/>
          </a:xfrm>
          <a:prstGeom prst="wedgeRectCallout">
            <a:avLst>
              <a:gd name="adj1" fmla="val 59518"/>
              <a:gd name="adj2" fmla="val 278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30152"/>
              <a:gd name="adj2" fmla="val -20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981"/>
              <a:gd name="adj2" fmla="val -33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237300"/>
              <a:gd name="adj2" fmla="val -10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7885080" y="1399320"/>
            <a:ext cx="1258920" cy="368640"/>
          </a:xfrm>
          <a:prstGeom prst="wedgeRectCallout">
            <a:avLst>
              <a:gd name="adj1" fmla="val -107060"/>
              <a:gd name="adj2" fmla="val 19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564000" y="331560"/>
            <a:ext cx="2119320" cy="642600"/>
          </a:xfrm>
          <a:prstGeom prst="wedgeRectCallout">
            <a:avLst>
              <a:gd name="adj1" fmla="val 102203"/>
              <a:gd name="adj2" fmla="val 201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7885080" y="2424240"/>
            <a:ext cx="1116000" cy="855360"/>
          </a:xfrm>
          <a:prstGeom prst="wedgeRectCallout">
            <a:avLst>
              <a:gd name="adj1" fmla="val -331356"/>
              <a:gd name="adj2" fmla="val -2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41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23840" y="1177920"/>
            <a:ext cx="7254720" cy="46274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50111"/>
              <a:gd name="adj2" fmla="val 553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7524720" y="5069520"/>
            <a:ext cx="1440000" cy="642600"/>
          </a:xfrm>
          <a:prstGeom prst="wedgeRectCallout">
            <a:avLst>
              <a:gd name="adj1" fmla="val -280240"/>
              <a:gd name="adj2" fmla="val 4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5880600"/>
            <a:ext cx="1655640" cy="368640"/>
          </a:xfrm>
          <a:prstGeom prst="wedgeRectCallout">
            <a:avLst>
              <a:gd name="adj1" fmla="val 32824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195640" y="6385320"/>
            <a:ext cx="2160360" cy="368640"/>
          </a:xfrm>
          <a:prstGeom prst="wedgeRectCallout">
            <a:avLst>
              <a:gd name="adj1" fmla="val 73972"/>
              <a:gd name="adj2" fmla="val -39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7524720" y="1534320"/>
            <a:ext cx="1511280" cy="1191600"/>
          </a:xfrm>
          <a:prstGeom prst="wedgeRectCallout">
            <a:avLst>
              <a:gd name="adj1" fmla="val -135277"/>
              <a:gd name="adj2" fmla="val 34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916360" y="330120"/>
            <a:ext cx="2950920" cy="368640"/>
          </a:xfrm>
          <a:prstGeom prst="wedgeRectCallout">
            <a:avLst>
              <a:gd name="adj1" fmla="val -80125"/>
              <a:gd name="adj2" fmla="val 30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8680"/>
              <a:gd name="adj2" fmla="val 39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524720" y="3731400"/>
            <a:ext cx="1476360" cy="642600"/>
          </a:xfrm>
          <a:prstGeom prst="wedgeRectCallout">
            <a:avLst>
              <a:gd name="adj1" fmla="val -218111"/>
              <a:gd name="adj2" fmla="val -115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4427640" y="5970600"/>
            <a:ext cx="2087640" cy="642600"/>
          </a:xfrm>
          <a:prstGeom prst="wedgeRectCallout">
            <a:avLst>
              <a:gd name="adj1" fmla="val 9842"/>
              <a:gd name="adj2" fmla="val -15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4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3000"/>
                            </p:stCondLst>
                            <p:childTnLst>
                              <p:par>
                                <p:cTn id="4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6000"/>
                            </p:stCondLst>
                            <p:childTnLst>
                              <p:par>
                                <p:cTn id="47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要想排课快捷顺利，就要注意以下几点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全校条件”不要设置得过于苛刻，这点非常重要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排难排的班级和教师的课表，特别难排的班级或教师的课表先用“人班”、“人师”方式排好，再“机排”其他课表，排好一个班的课表，就用“调课”功能调整一下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年级的最后几个班的课表难排，因为教师课表的空位少了，可以用“人班”方式排最后几个班的课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280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排 课 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6948360" y="594720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5076720" y="5805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82520" y="1643040"/>
            <a:ext cx="8089920" cy="4853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484360" y="2995560"/>
            <a:ext cx="1513080" cy="642600"/>
          </a:xfrm>
          <a:prstGeom prst="wedgeRectCallout">
            <a:avLst>
              <a:gd name="adj1" fmla="val -48694"/>
              <a:gd name="adj2" fmla="val -14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473800" y="1668960"/>
            <a:ext cx="2798640" cy="368640"/>
          </a:xfrm>
          <a:prstGeom prst="wedgeRectCallout">
            <a:avLst>
              <a:gd name="adj1" fmla="val -52004"/>
              <a:gd name="adj2" fmla="val 15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3529080" y="6285240"/>
            <a:ext cx="3525840" cy="368640"/>
          </a:xfrm>
          <a:prstGeom prst="wedgeRectCallout">
            <a:avLst>
              <a:gd name="adj1" fmla="val -11921"/>
              <a:gd name="adj2" fmla="val -359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546200" y="306360"/>
            <a:ext cx="1008000" cy="917280"/>
          </a:xfrm>
          <a:prstGeom prst="wedgeRectCallout">
            <a:avLst>
              <a:gd name="adj1" fmla="val -85379"/>
              <a:gd name="adj2" fmla="val 137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82520" y="443520"/>
            <a:ext cx="1224000" cy="642600"/>
          </a:xfrm>
          <a:prstGeom prst="wedgeRectCallout">
            <a:avLst>
              <a:gd name="adj1" fmla="val 6305"/>
              <a:gd name="adj2" fmla="val 203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179280" y="6248160"/>
            <a:ext cx="3089520" cy="368640"/>
          </a:xfrm>
          <a:prstGeom prst="wedgeRectCallout">
            <a:avLst>
              <a:gd name="adj1" fmla="val -41194"/>
              <a:gd name="adj2" fmla="val -938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4859280" y="557640"/>
            <a:ext cx="1297080" cy="368640"/>
          </a:xfrm>
          <a:prstGeom prst="wedgeRectCallout">
            <a:avLst>
              <a:gd name="adj1" fmla="val -139398"/>
              <a:gd name="adj2" fmla="val 442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2697120" y="465480"/>
            <a:ext cx="1657440" cy="368640"/>
          </a:xfrm>
          <a:prstGeom prst="wedgeRectCallout">
            <a:avLst>
              <a:gd name="adj1" fmla="val -112601"/>
              <a:gd name="adj2" fmla="val 381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5"/>
          <p:cNvSpPr/>
          <p:nvPr/>
        </p:nvSpPr>
        <p:spPr>
          <a:xfrm>
            <a:off x="2484360" y="4293000"/>
            <a:ext cx="2454480" cy="307440"/>
          </a:xfrm>
          <a:prstGeom prst="wedgeRectCallout">
            <a:avLst>
              <a:gd name="adj1" fmla="val -94638"/>
              <a:gd name="adj2" fmla="val -738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导下人工编排班级课表；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54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导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419120" y="474480"/>
            <a:ext cx="920880" cy="642600"/>
          </a:xfrm>
          <a:prstGeom prst="wedgeRectCallout">
            <a:avLst>
              <a:gd name="adj1" fmla="val -22569"/>
              <a:gd name="adj2" fmla="val 156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9"/>
          <p:cNvSpPr/>
          <p:nvPr/>
        </p:nvSpPr>
        <p:spPr>
          <a:xfrm>
            <a:off x="824400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3203640" y="3198600"/>
            <a:ext cx="2952720" cy="642600"/>
          </a:xfrm>
          <a:prstGeom prst="wedgeRectCallout">
            <a:avLst>
              <a:gd name="adj1" fmla="val -80254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132000" y="401760"/>
            <a:ext cx="2519640" cy="642600"/>
          </a:xfrm>
          <a:prstGeom prst="wedgeRectCallout">
            <a:avLst>
              <a:gd name="adj1" fmla="val -71268"/>
              <a:gd name="adj2" fmla="val 146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8197920" y="581112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588000" y="2765520"/>
            <a:ext cx="1513080" cy="917280"/>
          </a:xfrm>
          <a:prstGeom prst="wedgeRectCallout">
            <a:avLst>
              <a:gd name="adj1" fmla="val -300282"/>
              <a:gd name="adj2" fmla="val -157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7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2" dur="indefinite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7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" descr=""/>
          <p:cNvPicPr/>
          <p:nvPr/>
        </p:nvPicPr>
        <p:blipFill>
          <a:blip r:embed="rId1"/>
          <a:stretch/>
        </p:blipFill>
        <p:spPr>
          <a:xfrm>
            <a:off x="95400" y="1401840"/>
            <a:ext cx="8007120" cy="5286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8101080" y="1341360"/>
            <a:ext cx="1042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209080" y="314172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2263680" y="193680"/>
            <a:ext cx="1906560" cy="642600"/>
          </a:xfrm>
          <a:prstGeom prst="wedgeRectCallout">
            <a:avLst>
              <a:gd name="adj1" fmla="val -88870"/>
              <a:gd name="adj2" fmla="val 1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95400" y="277560"/>
            <a:ext cx="1952640" cy="642600"/>
          </a:xfrm>
          <a:prstGeom prst="wedgeRectCallout">
            <a:avLst>
              <a:gd name="adj1" fmla="val -8398"/>
              <a:gd name="adj2" fmla="val 173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302600" y="195120"/>
            <a:ext cx="1800000" cy="642600"/>
          </a:xfrm>
          <a:prstGeom prst="wedgeRectCallout">
            <a:avLst>
              <a:gd name="adj1" fmla="val -20527"/>
              <a:gd name="adj2" fmla="val 191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958000" y="3552840"/>
            <a:ext cx="2271600" cy="642600"/>
          </a:xfrm>
          <a:prstGeom prst="wedgeRectCallout">
            <a:avLst>
              <a:gd name="adj1" fmla="val 36305"/>
              <a:gd name="adj2" fmla="val -224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5810400" y="470520"/>
            <a:ext cx="1433520" cy="368640"/>
          </a:xfrm>
          <a:prstGeom prst="wedgeRectCallout">
            <a:avLst>
              <a:gd name="adj1" fmla="val 42865"/>
              <a:gd name="adj2" fmla="val 37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4329000" y="195120"/>
            <a:ext cx="1351080" cy="642600"/>
          </a:xfrm>
          <a:prstGeom prst="wedgeRectCallout">
            <a:avLst>
              <a:gd name="adj1" fmla="val 153912"/>
              <a:gd name="adj2" fmla="val 313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8172360" y="4584960"/>
            <a:ext cx="824040" cy="423000"/>
          </a:xfrm>
          <a:custGeom>
            <a:avLst/>
            <a:gdLst>
              <a:gd name="textAreaLeft" fmla="*/ 27360 w 824040"/>
              <a:gd name="textAreaRight" fmla="*/ 796680 w 8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61" h="21600">
                <a:moveTo>
                  <a:pt x="0" y="0"/>
                </a:moveTo>
                <a:lnTo>
                  <a:pt x="42061" y="0"/>
                </a:lnTo>
                <a:lnTo>
                  <a:pt x="42061" y="21600"/>
                </a:lnTo>
                <a:lnTo>
                  <a:pt x="0" y="21600"/>
                </a:lnTo>
                <a:close/>
              </a:path>
              <a:path fill="lightenLess" w="42061" h="21600">
                <a:moveTo>
                  <a:pt x="0" y="0"/>
                </a:moveTo>
                <a:lnTo>
                  <a:pt x="42061" y="0"/>
                </a:lnTo>
                <a:lnTo>
                  <a:pt x="40661" y="1400"/>
                </a:lnTo>
                <a:lnTo>
                  <a:pt x="1400" y="1400"/>
                </a:lnTo>
                <a:close/>
              </a:path>
              <a:path fill="darken" w="42061" h="21600">
                <a:moveTo>
                  <a:pt x="42061" y="0"/>
                </a:moveTo>
                <a:lnTo>
                  <a:pt x="42061" y="21600"/>
                </a:lnTo>
                <a:lnTo>
                  <a:pt x="40661" y="20200"/>
                </a:lnTo>
                <a:lnTo>
                  <a:pt x="40661" y="1400"/>
                </a:lnTo>
                <a:close/>
              </a:path>
              <a:path fill="darkenLess" w="42061" h="21600">
                <a:moveTo>
                  <a:pt x="4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1" y="20200"/>
                </a:lnTo>
                <a:close/>
              </a:path>
              <a:path fill="lighten" w="4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1" h="21600">
                <a:moveTo>
                  <a:pt x="14024" y="10800"/>
                </a:moveTo>
                <a:lnTo>
                  <a:pt x="28037" y="3794"/>
                </a:lnTo>
                <a:lnTo>
                  <a:pt x="280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0"/>
          <p:cNvSpPr/>
          <p:nvPr/>
        </p:nvSpPr>
        <p:spPr>
          <a:xfrm>
            <a:off x="3967200" y="2278080"/>
            <a:ext cx="1785960" cy="642600"/>
          </a:xfrm>
          <a:prstGeom prst="wedgeRectCallout">
            <a:avLst>
              <a:gd name="adj1" fmla="val -202879"/>
              <a:gd name="adj2" fmla="val -70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1"/>
          <p:cNvSpPr/>
          <p:nvPr/>
        </p:nvSpPr>
        <p:spPr>
          <a:xfrm>
            <a:off x="5958000" y="4629960"/>
            <a:ext cx="2232000" cy="642600"/>
          </a:xfrm>
          <a:prstGeom prst="wedgeRectCallout">
            <a:avLst>
              <a:gd name="adj1" fmla="val -282925"/>
              <a:gd name="adj2" fmla="val -352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>
            <a:hlinkClick r:id="" action="ppaction://hlinkshowjump?jump=nextslide"/>
          </p:cNvPr>
          <p:cNvSpPr/>
          <p:nvPr/>
        </p:nvSpPr>
        <p:spPr>
          <a:xfrm>
            <a:off x="8174160" y="573840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>
            <a:hlinkClick r:id="" action="ppaction://hlinkshowjump?jump=previousslide"/>
          </p:cNvPr>
          <p:cNvSpPr/>
          <p:nvPr/>
        </p:nvSpPr>
        <p:spPr>
          <a:xfrm>
            <a:off x="8172360" y="5229360"/>
            <a:ext cx="792360" cy="43308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504" h="21600">
                <a:moveTo>
                  <a:pt x="0" y="0"/>
                </a:moveTo>
                <a:lnTo>
                  <a:pt x="39504" y="0"/>
                </a:lnTo>
                <a:lnTo>
                  <a:pt x="39504" y="21600"/>
                </a:lnTo>
                <a:lnTo>
                  <a:pt x="0" y="21600"/>
                </a:lnTo>
                <a:close/>
              </a:path>
              <a:path fill="lightenLess" w="39504" h="21600">
                <a:moveTo>
                  <a:pt x="0" y="0"/>
                </a:moveTo>
                <a:lnTo>
                  <a:pt x="39504" y="0"/>
                </a:lnTo>
                <a:lnTo>
                  <a:pt x="38104" y="1400"/>
                </a:lnTo>
                <a:lnTo>
                  <a:pt x="1400" y="1400"/>
                </a:lnTo>
                <a:close/>
              </a:path>
              <a:path fill="darken" w="39504" h="21600">
                <a:moveTo>
                  <a:pt x="39504" y="0"/>
                </a:moveTo>
                <a:lnTo>
                  <a:pt x="39504" y="21600"/>
                </a:lnTo>
                <a:lnTo>
                  <a:pt x="38104" y="20200"/>
                </a:lnTo>
                <a:lnTo>
                  <a:pt x="38104" y="1400"/>
                </a:lnTo>
                <a:close/>
              </a:path>
              <a:path fill="darkenLess" w="39504" h="21600">
                <a:moveTo>
                  <a:pt x="39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04" y="20200"/>
                </a:lnTo>
                <a:close/>
              </a:path>
              <a:path fill="lighten" w="39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04" h="21600">
                <a:moveTo>
                  <a:pt x="12746" y="10800"/>
                </a:moveTo>
                <a:lnTo>
                  <a:pt x="26759" y="3794"/>
                </a:lnTo>
                <a:lnTo>
                  <a:pt x="267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9000"/>
                            </p:stCondLst>
                            <p:childTnLst>
                              <p:par>
                                <p:cTn id="6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"/>
          <p:cNvPicPr/>
          <p:nvPr/>
        </p:nvPicPr>
        <p:blipFill>
          <a:blip r:embed="rId1"/>
          <a:stretch/>
        </p:blipFill>
        <p:spPr>
          <a:xfrm>
            <a:off x="117360" y="1424160"/>
            <a:ext cx="7858080" cy="5276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619280" y="393840"/>
            <a:ext cx="2089080" cy="642600"/>
          </a:xfrm>
          <a:prstGeom prst="wedgeRectCallout">
            <a:avLst>
              <a:gd name="adj1" fmla="val -60800"/>
              <a:gd name="adj2" fmla="val 152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2" descr=""/>
          <p:cNvPicPr/>
          <p:nvPr/>
        </p:nvPicPr>
        <p:blipFill>
          <a:blip r:embed="rId1"/>
          <a:stretch/>
        </p:blipFill>
        <p:spPr>
          <a:xfrm>
            <a:off x="179280" y="1400040"/>
            <a:ext cx="6715080" cy="1432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9"/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179280" y="257040"/>
            <a:ext cx="2052720" cy="642600"/>
          </a:xfrm>
          <a:prstGeom prst="wedgeRectCallout">
            <a:avLst>
              <a:gd name="adj1" fmla="val 14699"/>
              <a:gd name="adj2" fmla="val 158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3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35"/>
          <p:cNvSpPr/>
          <p:nvPr/>
        </p:nvSpPr>
        <p:spPr>
          <a:xfrm>
            <a:off x="7020000" y="3520800"/>
            <a:ext cx="1439640" cy="368640"/>
          </a:xfrm>
          <a:prstGeom prst="wedgeRectCallout">
            <a:avLst>
              <a:gd name="adj1" fmla="val -124296"/>
              <a:gd name="adj2" fmla="val 61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6">
            <a:hlinkClick r:id="" action="ppaction://hlinkshowjump?jump=nextslide"/>
          </p:cNvPr>
          <p:cNvSpPr/>
          <p:nvPr/>
        </p:nvSpPr>
        <p:spPr>
          <a:xfrm>
            <a:off x="8459640" y="5873400"/>
            <a:ext cx="541440" cy="423000"/>
          </a:xfrm>
          <a:custGeom>
            <a:avLst/>
            <a:gdLst>
              <a:gd name="textAreaLeft" fmla="*/ 27360 w 541440"/>
              <a:gd name="textAreaRight" fmla="*/ 514080 w 541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7643" h="21600">
                <a:moveTo>
                  <a:pt x="0" y="0"/>
                </a:moveTo>
                <a:lnTo>
                  <a:pt x="27643" y="0"/>
                </a:lnTo>
                <a:lnTo>
                  <a:pt x="27643" y="21600"/>
                </a:lnTo>
                <a:lnTo>
                  <a:pt x="0" y="21600"/>
                </a:lnTo>
                <a:close/>
              </a:path>
              <a:path fill="lightenLess" w="27643" h="21600">
                <a:moveTo>
                  <a:pt x="0" y="0"/>
                </a:moveTo>
                <a:lnTo>
                  <a:pt x="27643" y="0"/>
                </a:lnTo>
                <a:lnTo>
                  <a:pt x="26243" y="1400"/>
                </a:lnTo>
                <a:lnTo>
                  <a:pt x="1400" y="1400"/>
                </a:lnTo>
                <a:close/>
              </a:path>
              <a:path fill="darken" w="27643" h="21600">
                <a:moveTo>
                  <a:pt x="27643" y="0"/>
                </a:moveTo>
                <a:lnTo>
                  <a:pt x="27643" y="21600"/>
                </a:lnTo>
                <a:lnTo>
                  <a:pt x="26243" y="20200"/>
                </a:lnTo>
                <a:lnTo>
                  <a:pt x="26243" y="1400"/>
                </a:lnTo>
                <a:close/>
              </a:path>
              <a:path fill="darkenLess" w="27643" h="21600">
                <a:moveTo>
                  <a:pt x="27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3" y="20200"/>
                </a:lnTo>
                <a:close/>
              </a:path>
              <a:path fill="lighten" w="27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3" h="21600">
                <a:moveTo>
                  <a:pt x="6815" y="3794"/>
                </a:moveTo>
                <a:lnTo>
                  <a:pt x="20828" y="10800"/>
                </a:lnTo>
                <a:lnTo>
                  <a:pt x="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1"/>
                            </p:stCondLst>
                            <p:childTnLst>
                              <p:par>
                                <p:cTn id="68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" descr=""/>
          <p:cNvPicPr/>
          <p:nvPr/>
        </p:nvPicPr>
        <p:blipFill>
          <a:blip r:embed="rId1"/>
          <a:stretch/>
        </p:blipFill>
        <p:spPr>
          <a:xfrm>
            <a:off x="108000" y="1270080"/>
            <a:ext cx="6337080" cy="1384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652320" y="486360"/>
            <a:ext cx="1225800" cy="368640"/>
          </a:xfrm>
          <a:prstGeom prst="wedgeRectCallout">
            <a:avLst>
              <a:gd name="adj1" fmla="val -38375"/>
              <a:gd name="adj2" fmla="val 30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2752560" y="486360"/>
            <a:ext cx="1451160" cy="368640"/>
          </a:xfrm>
          <a:prstGeom prst="wedgeRectCallout">
            <a:avLst>
              <a:gd name="adj1" fmla="val 60884"/>
              <a:gd name="adj2" fmla="val 31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张数和每页课表排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0"/>
                            </p:stCondLst>
                            <p:childTnLst>
                              <p:par>
                                <p:cTn id="69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7"/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3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176720" cy="2747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选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选项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" descr=""/>
          <p:cNvPicPr/>
          <p:nvPr/>
        </p:nvPicPr>
        <p:blipFill>
          <a:blip r:embed="rId3"/>
          <a:stretch/>
        </p:blipFill>
        <p:spPr>
          <a:xfrm>
            <a:off x="4643280" y="3959280"/>
            <a:ext cx="4178520" cy="27734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2" descr=""/>
          <p:cNvPicPr/>
          <p:nvPr/>
        </p:nvPicPr>
        <p:blipFill>
          <a:blip r:embed="rId4"/>
          <a:stretch/>
        </p:blipFill>
        <p:spPr>
          <a:xfrm>
            <a:off x="282600" y="3903840"/>
            <a:ext cx="4298760" cy="28638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840720" cy="5187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7182000" y="30852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7182000" y="5273640"/>
            <a:ext cx="185400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3"/>
          <p:cNvSpPr/>
          <p:nvPr/>
        </p:nvSpPr>
        <p:spPr>
          <a:xfrm>
            <a:off x="4067280" y="365760"/>
            <a:ext cx="2952720" cy="368640"/>
          </a:xfrm>
          <a:prstGeom prst="wedgeRectCallout">
            <a:avLst>
              <a:gd name="adj1" fmla="val -56824"/>
              <a:gd name="adj2" fmla="val 48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8000"/>
                            </p:stCondLst>
                            <p:childTnLst>
                              <p:par>
                                <p:cTn id="73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6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7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5000"/>
                            </p:stCondLst>
                            <p:childTnLst>
                              <p:par>
                                <p:cTn id="77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00"/>
                            </p:stCondLst>
                            <p:childTnLst>
                              <p:par>
                                <p:cTn id="78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78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1" descr=""/>
          <p:cNvPicPr/>
          <p:nvPr/>
        </p:nvPicPr>
        <p:blipFill>
          <a:blip r:embed="rId1"/>
          <a:stretch/>
        </p:blipFill>
        <p:spPr>
          <a:xfrm>
            <a:off x="469800" y="378000"/>
            <a:ext cx="6694560" cy="4559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992240" y="1547640"/>
            <a:ext cx="5172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级用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看“基本使用方法（高级用户）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206280" y="836640"/>
            <a:ext cx="3183120" cy="5127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认初级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019240"/>
            <a:ext cx="431640" cy="2822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021040"/>
            <a:ext cx="422280" cy="2820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/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菜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/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界面”以减少困难，以后可以随时改为“高级界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389400" y="5996520"/>
            <a:ext cx="3157560" cy="368640"/>
          </a:xfrm>
          <a:prstGeom prst="wedgeRectCallout">
            <a:avLst>
              <a:gd name="adj1" fmla="val -67074"/>
              <a:gd name="adj2" fmla="val -81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里下载排课高手新版本，解压后得到安装包、用户手册、幻灯演示、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780000" y="4945680"/>
            <a:ext cx="1368360" cy="642600"/>
          </a:xfrm>
          <a:prstGeom prst="wedgeRectCallout">
            <a:avLst>
              <a:gd name="adj1" fmla="val -138949"/>
              <a:gd name="adj2" fmla="val -396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1055520" y="1924200"/>
            <a:ext cx="7515360" cy="4825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菜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0" y="285840"/>
            <a:ext cx="1333440" cy="1638360"/>
          </a:xfrm>
          <a:prstGeom prst="wedgeRoundRectCallout">
            <a:avLst>
              <a:gd name="adj1" fmla="val 53333"/>
              <a:gd name="adj2" fmla="val 91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279440" y="450720"/>
            <a:ext cx="1158840" cy="1416240"/>
          </a:xfrm>
          <a:prstGeom prst="wedgeRoundRectCallout">
            <a:avLst>
              <a:gd name="adj1" fmla="val -11416"/>
              <a:gd name="adj2" fmla="val 1020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7042320" y="243000"/>
            <a:ext cx="954000" cy="1557360"/>
          </a:xfrm>
          <a:prstGeom prst="wedgeRoundRectCallout">
            <a:avLst>
              <a:gd name="adj1" fmla="val -466106"/>
              <a:gd name="adj2" fmla="val 99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选项”按钮，修改系统选项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"/>
          <p:cNvPicPr/>
          <p:nvPr/>
        </p:nvPicPr>
        <p:blipFill>
          <a:blip r:embed="rId1"/>
          <a:stretch/>
        </p:blipFill>
        <p:spPr>
          <a:xfrm>
            <a:off x="130320" y="1736640"/>
            <a:ext cx="7105680" cy="367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473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8787"/>
              <a:gd name="adj2" fmla="val 15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10069"/>
              <a:gd name="adj2" fmla="val 298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里输入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3686040" y="333360"/>
            <a:ext cx="5241960" cy="5483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9"/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2865"/>
              <a:gd name="adj2" fmla="val -479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395280" y="1829160"/>
            <a:ext cx="3097080" cy="916920"/>
          </a:xfrm>
          <a:prstGeom prst="wedgeRectCallout">
            <a:avLst>
              <a:gd name="adj1" fmla="val -49143"/>
              <a:gd name="adj2" fmla="val 28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1994040" y="1252440"/>
            <a:ext cx="7043760" cy="525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42800" y="3973320"/>
            <a:ext cx="1403640" cy="642600"/>
          </a:xfrm>
          <a:prstGeom prst="wedgeRectCallout">
            <a:avLst>
              <a:gd name="adj1" fmla="val 243921"/>
              <a:gd name="adj2" fmla="val -62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110120" y="5012280"/>
            <a:ext cx="826920" cy="368640"/>
          </a:xfrm>
          <a:prstGeom prst="wedgeRectCallout">
            <a:avLst>
              <a:gd name="adj1" fmla="val 86856"/>
              <a:gd name="adj2" fmla="val -278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4751280" y="330840"/>
            <a:ext cx="2664000" cy="642600"/>
          </a:xfrm>
          <a:prstGeom prst="wedgeRectCallout">
            <a:avLst>
              <a:gd name="adj1" fmla="val -92666"/>
              <a:gd name="adj2" fmla="val 213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程及指定位置尽量不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0480" y="5592600"/>
            <a:ext cx="2171520" cy="642600"/>
          </a:xfrm>
          <a:prstGeom prst="wedgeRectCallout">
            <a:avLst>
              <a:gd name="adj1" fmla="val 138625"/>
              <a:gd name="adj2" fmla="val 11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级数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59699"/>
              <a:gd name="adj2" fmla="val 63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5646600" y="6111720"/>
            <a:ext cx="2160720" cy="368640"/>
          </a:xfrm>
          <a:prstGeom prst="wedgeRectCallout">
            <a:avLst>
              <a:gd name="adj1" fmla="val 42865"/>
              <a:gd name="adj2" fmla="val -25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7746840" y="468720"/>
            <a:ext cx="1289160" cy="368640"/>
          </a:xfrm>
          <a:prstGeom prst="wedgeRectCallout">
            <a:avLst>
              <a:gd name="adj1" fmla="val -108203"/>
              <a:gd name="adj2" fmla="val 68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8099280" y="3286800"/>
            <a:ext cx="936720" cy="915840"/>
          </a:xfrm>
          <a:prstGeom prst="wedgeRectCallout">
            <a:avLst>
              <a:gd name="adj1" fmla="val -59296"/>
              <a:gd name="adj2" fmla="val 264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1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1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1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1"/>
                            </p:stCondLst>
                            <p:childTnLst>
                              <p:par>
                                <p:cTn id="19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1"/>
                            </p:stCondLst>
                            <p:childTnLst>
                              <p:par>
                                <p:cTn id="20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1"/>
                            </p:stCondLst>
                            <p:childTnLst>
                              <p:par>
                                <p:cTn id="20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1"/>
          <a:stretch/>
        </p:blipFill>
        <p:spPr>
          <a:xfrm>
            <a:off x="109440" y="1612800"/>
            <a:ext cx="7847280" cy="5114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5796000" y="189000"/>
            <a:ext cx="1655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全校排课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416320" y="586440"/>
            <a:ext cx="2592360" cy="580680"/>
          </a:xfrm>
          <a:prstGeom prst="wedgeRectCallout">
            <a:avLst>
              <a:gd name="adj1" fmla="val -40254"/>
              <a:gd name="adj2" fmla="val 255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5003640" y="5787720"/>
            <a:ext cx="1729080" cy="612000"/>
          </a:xfrm>
          <a:prstGeom prst="wedgeRectCallout">
            <a:avLst>
              <a:gd name="adj1" fmla="val -154638"/>
              <a:gd name="adj2" fmla="val -7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单击，出现“△”表示该课程本节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4"/>
          <p:cNvSpPr/>
          <p:nvPr/>
        </p:nvSpPr>
        <p:spPr>
          <a:xfrm>
            <a:off x="184320" y="1244880"/>
            <a:ext cx="2232000" cy="337680"/>
          </a:xfrm>
          <a:prstGeom prst="wedgeRectCallout">
            <a:avLst>
              <a:gd name="adj1" fmla="val -39601"/>
              <a:gd name="adj2" fmla="val 703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为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8201160" y="3068640"/>
            <a:ext cx="733320" cy="580680"/>
          </a:xfrm>
          <a:prstGeom prst="wedgeRectCallout">
            <a:avLst>
              <a:gd name="adj1" fmla="val -167467"/>
              <a:gd name="adj2" fmla="val -130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右击后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粘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剪贴板中的课程名进入绿色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77760" y="1206360"/>
            <a:ext cx="750744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809640" y="4242960"/>
            <a:ext cx="720720" cy="368640"/>
          </a:xfrm>
          <a:prstGeom prst="wedgeRectCallout">
            <a:avLst>
              <a:gd name="adj1" fmla="val 178805"/>
              <a:gd name="adj2" fmla="val -24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169920" y="211680"/>
            <a:ext cx="2736720" cy="642600"/>
          </a:xfrm>
          <a:prstGeom prst="wedgeRectCallout">
            <a:avLst>
              <a:gd name="adj1" fmla="val 15472"/>
              <a:gd name="adj2" fmla="val 297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128745"/>
              <a:gd name="adj2" fmla="val 3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11708"/>
              <a:gd name="adj2" fmla="val -1308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8388360" y="6229080"/>
            <a:ext cx="671400" cy="423000"/>
          </a:xfrm>
          <a:custGeom>
            <a:avLst/>
            <a:gdLst>
              <a:gd name="textAreaLeft" fmla="*/ 27360 w 671400"/>
              <a:gd name="textAreaRight" fmla="*/ 644040 w 671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273" h="21600">
                <a:moveTo>
                  <a:pt x="0" y="0"/>
                </a:moveTo>
                <a:lnTo>
                  <a:pt x="34273" y="0"/>
                </a:lnTo>
                <a:lnTo>
                  <a:pt x="34273" y="21600"/>
                </a:lnTo>
                <a:lnTo>
                  <a:pt x="0" y="21600"/>
                </a:lnTo>
                <a:close/>
              </a:path>
              <a:path fill="lightenLess" w="34273" h="21600">
                <a:moveTo>
                  <a:pt x="0" y="0"/>
                </a:moveTo>
                <a:lnTo>
                  <a:pt x="34273" y="0"/>
                </a:lnTo>
                <a:lnTo>
                  <a:pt x="32873" y="1400"/>
                </a:lnTo>
                <a:lnTo>
                  <a:pt x="1400" y="1400"/>
                </a:lnTo>
                <a:close/>
              </a:path>
              <a:path fill="darken" w="34273" h="21600">
                <a:moveTo>
                  <a:pt x="34273" y="0"/>
                </a:moveTo>
                <a:lnTo>
                  <a:pt x="34273" y="21600"/>
                </a:lnTo>
                <a:lnTo>
                  <a:pt x="32873" y="20200"/>
                </a:lnTo>
                <a:lnTo>
                  <a:pt x="32873" y="1400"/>
                </a:lnTo>
                <a:close/>
              </a:path>
              <a:path fill="darkenLess" w="34273" h="21600">
                <a:moveTo>
                  <a:pt x="34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73" y="20200"/>
                </a:lnTo>
                <a:close/>
              </a:path>
              <a:path fill="lighten" w="34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73" h="21600">
                <a:moveTo>
                  <a:pt x="10130" y="3794"/>
                </a:moveTo>
                <a:lnTo>
                  <a:pt x="24143" y="10800"/>
                </a:lnTo>
                <a:lnTo>
                  <a:pt x="101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059280" y="328680"/>
            <a:ext cx="2665080" cy="580680"/>
          </a:xfrm>
          <a:prstGeom prst="wedgeRectCallout">
            <a:avLst>
              <a:gd name="adj1" fmla="val -13995"/>
              <a:gd name="adj2" fmla="val 24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6875640" y="6237360"/>
            <a:ext cx="774360" cy="452520"/>
          </a:xfrm>
          <a:custGeom>
            <a:avLst/>
            <a:gdLst>
              <a:gd name="textAreaLeft" fmla="*/ 29160 w 774360"/>
              <a:gd name="textAreaRight" fmla="*/ 745200 w 77436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36950" h="21600">
                <a:moveTo>
                  <a:pt x="0" y="0"/>
                </a:moveTo>
                <a:lnTo>
                  <a:pt x="36950" y="0"/>
                </a:lnTo>
                <a:lnTo>
                  <a:pt x="36950" y="21600"/>
                </a:lnTo>
                <a:lnTo>
                  <a:pt x="0" y="21600"/>
                </a:lnTo>
                <a:close/>
              </a:path>
              <a:path fill="lightenLess" w="36950" h="21600">
                <a:moveTo>
                  <a:pt x="0" y="0"/>
                </a:moveTo>
                <a:lnTo>
                  <a:pt x="36950" y="0"/>
                </a:lnTo>
                <a:lnTo>
                  <a:pt x="35550" y="1400"/>
                </a:lnTo>
                <a:lnTo>
                  <a:pt x="1400" y="1400"/>
                </a:lnTo>
                <a:close/>
              </a:path>
              <a:path fill="darken" w="36950" h="21600">
                <a:moveTo>
                  <a:pt x="36950" y="0"/>
                </a:moveTo>
                <a:lnTo>
                  <a:pt x="36950" y="21600"/>
                </a:lnTo>
                <a:lnTo>
                  <a:pt x="35550" y="20200"/>
                </a:lnTo>
                <a:lnTo>
                  <a:pt x="35550" y="1400"/>
                </a:lnTo>
                <a:close/>
              </a:path>
              <a:path fill="darkenLess" w="36950" h="21600">
                <a:moveTo>
                  <a:pt x="369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0" y="20200"/>
                </a:lnTo>
                <a:close/>
              </a:path>
              <a:path fill="lighten" w="369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0" h="21600">
                <a:moveTo>
                  <a:pt x="11469" y="10800"/>
                </a:moveTo>
                <a:lnTo>
                  <a:pt x="25482" y="3794"/>
                </a:lnTo>
                <a:lnTo>
                  <a:pt x="254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2270160" y="4880520"/>
            <a:ext cx="1295280" cy="368640"/>
          </a:xfrm>
          <a:prstGeom prst="wedgeRectCallout">
            <a:avLst>
              <a:gd name="adj1" fmla="val 12541"/>
              <a:gd name="adj2" fmla="val -1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3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user</cp:lastModifiedBy>
  <dcterms:modified xsi:type="dcterms:W3CDTF">2020-12-05T04:15:02Z</dcterms:modified>
  <cp:revision>423</cp:revision>
  <dc:subject/>
  <dc:title>使用说明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