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wmf" ContentType="image/x-wmf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52.png" ContentType="image/png"/>
  <Override PartName="/ppt/media/image41.png" ContentType="image/png"/>
  <Override PartName="/ppt/media/image53.png" ContentType="image/png"/>
  <Override PartName="/ppt/media/image36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自定义放映 1" id="0">
      <p:sldLst>
        <p:sld r:id="rId50"/>
        <p:sld r:id="rId33"/>
        <p:sld r:id="rId5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F62-9C4E-4837-AD4E-3FDBEFC1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7BD-A677-4B57-A548-AD97BFBB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B03-FF5A-4C4E-A529-9FC2684B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633-FFE1-432F-885D-416CDA6F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A83-B561-45F8-8D3E-A760DB58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5A3-A813-4084-891C-C3233E70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B90-0F52-422A-9268-D18A8278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C3C-CC2B-482E-B384-F0CC943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BCF-FF81-4C24-8EA4-B3FB09B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097-7C2A-4115-8EE2-79CE0CB5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919-E09F-4DAA-A069-F99DEB2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6FB-4D1A-479E-942B-85CB391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8041-413D-4603-9E01-1FC203E438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3463920"/>
            <a:ext cx="3600360" cy="126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（高级界面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416720" cy="5481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5796000" y="189000"/>
            <a:ext cx="165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全校排课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4643280" y="4203360"/>
            <a:ext cx="3600720" cy="337320"/>
          </a:xfrm>
          <a:prstGeom prst="wedgeRectCallout">
            <a:avLst>
              <a:gd name="adj1" fmla="val -77819"/>
              <a:gd name="adj2" fmla="val -458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如果逐个输入则在此框输入需要添加的课程名称（最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字），回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6372360" y="3411000"/>
            <a:ext cx="2520720" cy="337680"/>
          </a:xfrm>
          <a:prstGeom prst="wedgeRectCallout">
            <a:avLst>
              <a:gd name="adj1" fmla="val -92365"/>
              <a:gd name="adj2" fmla="val -228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课程简称，若不合适可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 flipV="1" rot="10782000">
            <a:off x="6876360" y="2645640"/>
            <a:ext cx="2089080" cy="368640"/>
          </a:xfrm>
          <a:prstGeom prst="wedgeRectCallout">
            <a:avLst>
              <a:gd name="adj1" fmla="val 57666"/>
              <a:gd name="adj2" fmla="val -12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主科副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2556000" y="242640"/>
            <a:ext cx="2592360" cy="580680"/>
          </a:xfrm>
          <a:prstGeom prst="wedgeRectCallout">
            <a:avLst>
              <a:gd name="adj1" fmla="val -27689"/>
              <a:gd name="adj2" fmla="val 231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>
            <a:off x="5003640" y="5787360"/>
            <a:ext cx="1729080" cy="612000"/>
          </a:xfrm>
          <a:prstGeom prst="wedgeRectCallout">
            <a:avLst>
              <a:gd name="adj1" fmla="val -131740"/>
              <a:gd name="adj2" fmla="val -124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单击，出现“△”表示该课程本节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>
            <a:off x="108000" y="248760"/>
            <a:ext cx="2232000" cy="337680"/>
          </a:xfrm>
          <a:prstGeom prst="wedgeRectCallout">
            <a:avLst>
              <a:gd name="adj1" fmla="val -29587"/>
              <a:gd name="adj2" fmla="val 671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，逐个输入还是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5"/>
          <p:cNvSpPr/>
          <p:nvPr/>
        </p:nvSpPr>
        <p:spPr>
          <a:xfrm>
            <a:off x="4643280" y="5010120"/>
            <a:ext cx="3384720" cy="368640"/>
          </a:xfrm>
          <a:prstGeom prst="wedgeRectCallout">
            <a:avLst>
              <a:gd name="adj1" fmla="val -111319"/>
              <a:gd name="adj2" fmla="val -12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课程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6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516800" cy="55306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826920" y="4252680"/>
            <a:ext cx="720720" cy="368640"/>
          </a:xfrm>
          <a:prstGeom prst="wedgeRectCallout">
            <a:avLst>
              <a:gd name="adj1" fmla="val 177555"/>
              <a:gd name="adj2" fmla="val -2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79280" y="394200"/>
            <a:ext cx="2737080" cy="368640"/>
          </a:xfrm>
          <a:prstGeom prst="wedgeRectCallout">
            <a:avLst>
              <a:gd name="adj1" fmla="val 15476"/>
              <a:gd name="adj2" fmla="val 520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128745"/>
              <a:gd name="adj2" fmla="val 3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11708"/>
              <a:gd name="adj2" fmla="val -1308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8388360" y="6229080"/>
            <a:ext cx="671400" cy="423000"/>
          </a:xfrm>
          <a:custGeom>
            <a:avLst/>
            <a:gdLst>
              <a:gd name="textAreaLeft" fmla="*/ 27360 w 671400"/>
              <a:gd name="textAreaRight" fmla="*/ 644040 w 671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273" h="21600">
                <a:moveTo>
                  <a:pt x="0" y="0"/>
                </a:moveTo>
                <a:lnTo>
                  <a:pt x="34273" y="0"/>
                </a:lnTo>
                <a:lnTo>
                  <a:pt x="34273" y="21600"/>
                </a:lnTo>
                <a:lnTo>
                  <a:pt x="0" y="21600"/>
                </a:lnTo>
                <a:close/>
              </a:path>
              <a:path fill="lightenLess" w="34273" h="21600">
                <a:moveTo>
                  <a:pt x="0" y="0"/>
                </a:moveTo>
                <a:lnTo>
                  <a:pt x="34273" y="0"/>
                </a:lnTo>
                <a:lnTo>
                  <a:pt x="32873" y="1400"/>
                </a:lnTo>
                <a:lnTo>
                  <a:pt x="1400" y="1400"/>
                </a:lnTo>
                <a:close/>
              </a:path>
              <a:path fill="darken" w="34273" h="21600">
                <a:moveTo>
                  <a:pt x="34273" y="0"/>
                </a:moveTo>
                <a:lnTo>
                  <a:pt x="34273" y="21600"/>
                </a:lnTo>
                <a:lnTo>
                  <a:pt x="32873" y="20200"/>
                </a:lnTo>
                <a:lnTo>
                  <a:pt x="32873" y="1400"/>
                </a:lnTo>
                <a:close/>
              </a:path>
              <a:path fill="darkenLess" w="34273" h="21600">
                <a:moveTo>
                  <a:pt x="34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73" y="20200"/>
                </a:lnTo>
                <a:close/>
              </a:path>
              <a:path fill="lighten" w="34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73" h="21600">
                <a:moveTo>
                  <a:pt x="10130" y="3794"/>
                </a:moveTo>
                <a:lnTo>
                  <a:pt x="24143" y="10800"/>
                </a:lnTo>
                <a:lnTo>
                  <a:pt x="101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6659640" y="1416600"/>
            <a:ext cx="2305080" cy="368640"/>
          </a:xfrm>
          <a:prstGeom prst="wedgeRectCallout">
            <a:avLst>
              <a:gd name="adj1" fmla="val -80087"/>
              <a:gd name="adj2" fmla="val 33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大中专职校的需要连排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3059280" y="242640"/>
            <a:ext cx="2665080" cy="580680"/>
          </a:xfrm>
          <a:prstGeom prst="wedgeRectCallout">
            <a:avLst>
              <a:gd name="adj1" fmla="val -13995"/>
              <a:gd name="adj2" fmla="val 241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6875640" y="6237360"/>
            <a:ext cx="774360" cy="452520"/>
          </a:xfrm>
          <a:custGeom>
            <a:avLst/>
            <a:gdLst>
              <a:gd name="textAreaLeft" fmla="*/ 29160 w 774360"/>
              <a:gd name="textAreaRight" fmla="*/ 745200 w 77436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36950" h="21600">
                <a:moveTo>
                  <a:pt x="0" y="0"/>
                </a:moveTo>
                <a:lnTo>
                  <a:pt x="36950" y="0"/>
                </a:lnTo>
                <a:lnTo>
                  <a:pt x="36950" y="21600"/>
                </a:lnTo>
                <a:lnTo>
                  <a:pt x="0" y="21600"/>
                </a:lnTo>
                <a:close/>
              </a:path>
              <a:path fill="lightenLess" w="36950" h="21600">
                <a:moveTo>
                  <a:pt x="0" y="0"/>
                </a:moveTo>
                <a:lnTo>
                  <a:pt x="36950" y="0"/>
                </a:lnTo>
                <a:lnTo>
                  <a:pt x="35550" y="1400"/>
                </a:lnTo>
                <a:lnTo>
                  <a:pt x="1400" y="1400"/>
                </a:lnTo>
                <a:close/>
              </a:path>
              <a:path fill="darken" w="36950" h="21600">
                <a:moveTo>
                  <a:pt x="36950" y="0"/>
                </a:moveTo>
                <a:lnTo>
                  <a:pt x="36950" y="21600"/>
                </a:lnTo>
                <a:lnTo>
                  <a:pt x="35550" y="20200"/>
                </a:lnTo>
                <a:lnTo>
                  <a:pt x="35550" y="1400"/>
                </a:lnTo>
                <a:close/>
              </a:path>
              <a:path fill="darkenLess" w="36950" h="21600">
                <a:moveTo>
                  <a:pt x="36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0" y="20200"/>
                </a:lnTo>
                <a:close/>
              </a:path>
              <a:path fill="lighten" w="36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0" h="21600">
                <a:moveTo>
                  <a:pt x="11469" y="10800"/>
                </a:moveTo>
                <a:lnTo>
                  <a:pt x="25482" y="3794"/>
                </a:lnTo>
                <a:lnTo>
                  <a:pt x="254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2340000" y="4786200"/>
            <a:ext cx="1295280" cy="368640"/>
          </a:xfrm>
          <a:prstGeom prst="wedgeRectCallout">
            <a:avLst>
              <a:gd name="adj1" fmla="val -712"/>
              <a:gd name="adj2" fmla="val -14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3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6915240" cy="510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2484360" y="6073560"/>
            <a:ext cx="935280" cy="642600"/>
          </a:xfrm>
          <a:prstGeom prst="wedgeRectCallout">
            <a:avLst>
              <a:gd name="adj1" fmla="val 111597"/>
              <a:gd name="adj2" fmla="val -5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7236000" y="2991240"/>
            <a:ext cx="1800000" cy="368640"/>
          </a:xfrm>
          <a:prstGeom prst="wedgeRectCallout">
            <a:avLst>
              <a:gd name="adj1" fmla="val -101129"/>
              <a:gd name="adj2" fmla="val 2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2050920" y="478440"/>
            <a:ext cx="1584360" cy="642600"/>
          </a:xfrm>
          <a:prstGeom prst="wedgeRectCallout">
            <a:avLst>
              <a:gd name="adj1" fmla="val -82370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25092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10999"/>
              <a:gd name="adj2" fmla="val 231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0"/>
                            </p:stCondLst>
                            <p:childTnLst>
                              <p:par>
                                <p:cTn id="44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104760" y="1353960"/>
            <a:ext cx="7275600" cy="53755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7451640" y="1876320"/>
            <a:ext cx="1584360" cy="368640"/>
          </a:xfrm>
          <a:prstGeom prst="wedgeRectCallout">
            <a:avLst>
              <a:gd name="adj1" fmla="val -224509"/>
              <a:gd name="adj2" fmla="val 417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7524720" y="3197160"/>
            <a:ext cx="1343160" cy="368640"/>
          </a:xfrm>
          <a:prstGeom prst="wedgeRectCallout">
            <a:avLst>
              <a:gd name="adj1" fmla="val -234509"/>
              <a:gd name="adj2" fmla="val 7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6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1226"/>
              <a:gd name="adj2" fmla="val 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3564000" y="3432240"/>
            <a:ext cx="1258920" cy="642600"/>
          </a:xfrm>
          <a:prstGeom prst="wedgeRectCallout">
            <a:avLst>
              <a:gd name="adj1" fmla="val -29592"/>
              <a:gd name="adj2" fmla="val -217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29847"/>
              <a:gd name="adj2" fmla="val -25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000"/>
              <a:gd name="adj2" fmla="val -4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161976"/>
              <a:gd name="adj2" fmla="val -42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885080" y="1410120"/>
            <a:ext cx="1258920" cy="368640"/>
          </a:xfrm>
          <a:prstGeom prst="wedgeRectCallout">
            <a:avLst>
              <a:gd name="adj1" fmla="val -87305"/>
              <a:gd name="adj2" fmla="val 17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1692360" y="330120"/>
            <a:ext cx="3743280" cy="368640"/>
          </a:xfrm>
          <a:prstGeom prst="wedgeRectCallout">
            <a:avLst>
              <a:gd name="adj1" fmla="val 89222"/>
              <a:gd name="adj2" fmla="val 37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0"/>
                            </p:stCondLst>
                            <p:childTnLst>
                              <p:par>
                                <p:cTn id="50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0"/>
                            </p:stCondLst>
                            <p:childTnLst>
                              <p:par>
                                <p:cTn id="50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7885080" y="2424240"/>
            <a:ext cx="1116000" cy="855360"/>
          </a:xfrm>
          <a:prstGeom prst="wedgeRectCallout">
            <a:avLst>
              <a:gd name="adj1" fmla="val -331356"/>
              <a:gd name="adj2" fmla="val -2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8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3000"/>
                            </p:stCondLst>
                            <p:childTnLst>
                              <p:par>
                                <p:cTn id="54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8000"/>
                            </p:stCondLst>
                            <p:childTnLst>
                              <p:par>
                                <p:cTn id="55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272360" cy="47894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46425"/>
              <a:gd name="adj2" fmla="val 49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524720" y="5068800"/>
            <a:ext cx="1440000" cy="642600"/>
          </a:xfrm>
          <a:prstGeom prst="wedgeRectCallout">
            <a:avLst>
              <a:gd name="adj1" fmla="val -278439"/>
              <a:gd name="adj2" fmla="val 40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79280" y="5880600"/>
            <a:ext cx="1656000" cy="368640"/>
          </a:xfrm>
          <a:prstGeom prst="wedgeRectCallout">
            <a:avLst>
              <a:gd name="adj1" fmla="val 32828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2195640" y="6385320"/>
            <a:ext cx="2160360" cy="368640"/>
          </a:xfrm>
          <a:prstGeom prst="wedgeRectCallout">
            <a:avLst>
              <a:gd name="adj1" fmla="val 73972"/>
              <a:gd name="adj2" fmla="val -39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7524720" y="1534320"/>
            <a:ext cx="1511280" cy="1191600"/>
          </a:xfrm>
          <a:prstGeom prst="wedgeRectCallout">
            <a:avLst>
              <a:gd name="adj1" fmla="val -154615"/>
              <a:gd name="adj2" fmla="val 106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2916360" y="329760"/>
            <a:ext cx="2950920" cy="368640"/>
          </a:xfrm>
          <a:prstGeom prst="wedgeRectCallout">
            <a:avLst>
              <a:gd name="adj1" fmla="val -89444"/>
              <a:gd name="adj2" fmla="val 264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425"/>
              <a:gd name="adj2" fmla="val 35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7524720" y="3636000"/>
            <a:ext cx="1476360" cy="642600"/>
          </a:xfrm>
          <a:prstGeom prst="wedgeRectCallout">
            <a:avLst>
              <a:gd name="adj1" fmla="val -244925"/>
              <a:gd name="adj2" fmla="val -241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4356000" y="5946480"/>
            <a:ext cx="2087640" cy="642600"/>
          </a:xfrm>
          <a:prstGeom prst="wedgeRectCallout">
            <a:avLst>
              <a:gd name="adj1" fmla="val 49375"/>
              <a:gd name="adj2" fmla="val -165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58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000"/>
                            </p:stCondLst>
                            <p:childTnLst>
                              <p:par>
                                <p:cTn id="60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60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6000"/>
                            </p:stCondLst>
                            <p:childTnLst>
                              <p:par>
                                <p:cTn id="61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要想排课快捷顺利，就要注意以下几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全校条件”不要设置得过于苛刻，这点非常重要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排难排的班级和教师的课表，特别难排的班级或教师的课表先用“人班”、“人师”方式排好，再“机排”其他课表，排好一个班的课表，就用“调课”功能调整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年级的最后几个班的课表难排，因为教师课表的空位少了，可以用“人班”方式排最后几个班的课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280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排 课 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6948360" y="594720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7"/>
          <p:cNvSpPr/>
          <p:nvPr/>
        </p:nvSpPr>
        <p:spPr>
          <a:xfrm>
            <a:off x="5076720" y="5805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2" descr="编排查调课表窗体界面"/>
          <p:cNvPicPr/>
          <p:nvPr/>
        </p:nvPicPr>
        <p:blipFill>
          <a:blip r:embed="rId1"/>
          <a:stretch/>
        </p:blipFill>
        <p:spPr>
          <a:xfrm>
            <a:off x="108000" y="1484280"/>
            <a:ext cx="8856720" cy="49737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2987640" y="2850120"/>
            <a:ext cx="1513080" cy="641520"/>
          </a:xfrm>
          <a:prstGeom prst="wedgeRectCallout">
            <a:avLst>
              <a:gd name="adj1" fmla="val -90078"/>
              <a:gd name="adj2" fmla="val -162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4572000" y="2849400"/>
            <a:ext cx="2952720" cy="368640"/>
          </a:xfrm>
          <a:prstGeom prst="wedgeRectCallout">
            <a:avLst>
              <a:gd name="adj1" fmla="val -44370"/>
              <a:gd name="adj2" fmla="val -20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4211640" y="5932440"/>
            <a:ext cx="1925640" cy="368640"/>
          </a:xfrm>
          <a:prstGeom prst="wedgeRectCallout">
            <a:avLst>
              <a:gd name="adj1" fmla="val 4148"/>
              <a:gd name="adj2" fmla="val -419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1476360" y="275400"/>
            <a:ext cx="1008000" cy="917280"/>
          </a:xfrm>
          <a:prstGeom prst="wedgeRectCallout">
            <a:avLst>
              <a:gd name="adj1" fmla="val -52175"/>
              <a:gd name="adj2" fmla="val 127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2268360" y="3217320"/>
            <a:ext cx="432000" cy="1191600"/>
          </a:xfrm>
          <a:prstGeom prst="wedgeRectCallout">
            <a:avLst>
              <a:gd name="adj1" fmla="val -252495"/>
              <a:gd name="adj2" fmla="val -1116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179280" y="330480"/>
            <a:ext cx="1224000" cy="917280"/>
          </a:xfrm>
          <a:prstGeom prst="wedgeRectCallout">
            <a:avLst>
              <a:gd name="adj1" fmla="val 17564"/>
              <a:gd name="adj2" fmla="val 114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179280" y="5932440"/>
            <a:ext cx="1800360" cy="368640"/>
          </a:xfrm>
          <a:prstGeom prst="wedgeRectCallout">
            <a:avLst>
              <a:gd name="adj1" fmla="val -37847"/>
              <a:gd name="adj2" fmla="val -91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2"/>
          <p:cNvSpPr/>
          <p:nvPr/>
        </p:nvSpPr>
        <p:spPr>
          <a:xfrm>
            <a:off x="4643280" y="604800"/>
            <a:ext cx="1297080" cy="368640"/>
          </a:xfrm>
          <a:prstGeom prst="wedgeRectCallout">
            <a:avLst>
              <a:gd name="adj1" fmla="val -131490"/>
              <a:gd name="adj2" fmla="val 37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>
            <a:off x="2987640" y="3930480"/>
            <a:ext cx="1008000" cy="368640"/>
          </a:xfrm>
          <a:prstGeom prst="wedgeRectCallout">
            <a:avLst>
              <a:gd name="adj1" fmla="val -178342"/>
              <a:gd name="adj2" fmla="val -496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/>
          <p:cNvSpPr/>
          <p:nvPr/>
        </p:nvSpPr>
        <p:spPr>
          <a:xfrm>
            <a:off x="6483240" y="2064600"/>
            <a:ext cx="1868760" cy="642600"/>
          </a:xfrm>
          <a:prstGeom prst="wedgeRectCallout">
            <a:avLst>
              <a:gd name="adj1" fmla="val -116870"/>
              <a:gd name="adj2" fmla="val -74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5"/>
          <p:cNvSpPr/>
          <p:nvPr/>
        </p:nvSpPr>
        <p:spPr>
          <a:xfrm>
            <a:off x="2843280" y="604800"/>
            <a:ext cx="1657440" cy="368640"/>
          </a:xfrm>
          <a:prstGeom prst="wedgeRectCallout">
            <a:avLst>
              <a:gd name="adj1" fmla="val -87240"/>
              <a:gd name="adj2" fmla="val 31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>
            <a:off x="6227640" y="5932440"/>
            <a:ext cx="1135080" cy="368640"/>
          </a:xfrm>
          <a:prstGeom prst="wedgeRectCallout">
            <a:avLst>
              <a:gd name="adj1" fmla="val -19120"/>
              <a:gd name="adj2" fmla="val -236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课表。黄底色表示本班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"/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8"/>
          <p:cNvSpPr/>
          <p:nvPr/>
        </p:nvSpPr>
        <p:spPr>
          <a:xfrm>
            <a:off x="2050920" y="5932440"/>
            <a:ext cx="2089440" cy="368640"/>
          </a:xfrm>
          <a:prstGeom prst="wedgeRectCallout">
            <a:avLst>
              <a:gd name="adj1" fmla="val -62365"/>
              <a:gd name="adj2" fmla="val -535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排好的班级课表。白底色表示该课该天多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，绿字是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3"/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5"/>
          <p:cNvSpPr/>
          <p:nvPr/>
        </p:nvSpPr>
        <p:spPr>
          <a:xfrm>
            <a:off x="4500720" y="3538440"/>
            <a:ext cx="4103640" cy="733680"/>
          </a:xfrm>
          <a:prstGeom prst="wedgeRectCallout">
            <a:avLst>
              <a:gd name="adj1" fmla="val -21995"/>
              <a:gd name="adj2" fmla="val 216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排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快速连续编排班级课表，如果对课表质量没有要求可以用此方式。“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班级课表；“人师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师课表；“人室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。后三种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6"/>
          <p:cNvSpPr/>
          <p:nvPr/>
        </p:nvSpPr>
        <p:spPr>
          <a:xfrm>
            <a:off x="7667640" y="5271840"/>
            <a:ext cx="1368360" cy="368640"/>
          </a:xfrm>
          <a:prstGeom prst="wedgeRectCallout">
            <a:avLst>
              <a:gd name="adj1" fmla="val -98236"/>
              <a:gd name="adj2" fmla="val -2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此处是红色，表示该教师有进度不一致现象，需要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2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9000"/>
                            </p:stCondLst>
                            <p:childTnLst>
                              <p:par>
                                <p:cTn id="677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82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9000"/>
                            </p:stCondLst>
                            <p:childTnLst>
                              <p:par>
                                <p:cTn id="68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4000"/>
                            </p:stCondLst>
                            <p:childTnLst>
                              <p:par>
                                <p:cTn id="692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9000"/>
                            </p:stCondLst>
                            <p:childTnLst>
                              <p:par>
                                <p:cTn id="69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4000"/>
                            </p:stCondLst>
                            <p:childTnLst>
                              <p:par>
                                <p:cTn id="70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9000"/>
                            </p:stCondLst>
                            <p:childTnLst>
                              <p:par>
                                <p:cTn id="70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4000"/>
                            </p:stCondLst>
                            <p:childTnLst>
                              <p:par>
                                <p:cTn id="712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9000"/>
                            </p:stCondLst>
                            <p:childTnLst>
                              <p:par>
                                <p:cTn id="71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1547640" y="474480"/>
            <a:ext cx="792360" cy="642600"/>
          </a:xfrm>
          <a:prstGeom prst="wedgeRectCallout">
            <a:avLst>
              <a:gd name="adj1" fmla="val -22574"/>
              <a:gd name="adj2" fmla="val 1564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9"/>
          <p:cNvSpPr/>
          <p:nvPr/>
        </p:nvSpPr>
        <p:spPr>
          <a:xfrm>
            <a:off x="824400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0"/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0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5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4427640" y="11592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教师课表，用于排难排的和有特殊要求的教师课表。“人室”排课方法类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1403280" y="401400"/>
            <a:ext cx="792360" cy="642600"/>
          </a:xfrm>
          <a:prstGeom prst="wedgeRectCallout">
            <a:avLst>
              <a:gd name="adj1" fmla="val 16300"/>
              <a:gd name="adj2" fmla="val 1545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师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/>
          <p:cNvSpPr/>
          <p:nvPr/>
        </p:nvSpPr>
        <p:spPr>
          <a:xfrm>
            <a:off x="2484360" y="474480"/>
            <a:ext cx="1440000" cy="642600"/>
          </a:xfrm>
          <a:prstGeom prst="wedgeRectCallout">
            <a:avLst>
              <a:gd name="adj1" fmla="val 134226"/>
              <a:gd name="adj2" fmla="val 222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教师”框选择一个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250920" y="5421960"/>
            <a:ext cx="2376360" cy="368640"/>
          </a:xfrm>
          <a:prstGeom prst="wedgeRectCallout">
            <a:avLst>
              <a:gd name="adj1" fmla="val -36444"/>
              <a:gd name="adj2" fmla="val -65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该教师的课表上选择白色节次，被选课程排进上面的教师课表和下面的班级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2"/>
          <p:cNvSpPr/>
          <p:nvPr/>
        </p:nvSpPr>
        <p:spPr>
          <a:xfrm>
            <a:off x="824400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3"/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5651640" y="3327480"/>
            <a:ext cx="2232000" cy="642600"/>
          </a:xfrm>
          <a:prstGeom prst="wedgeRectCallout">
            <a:avLst>
              <a:gd name="adj1" fmla="val -131856"/>
              <a:gd name="adj2" fmla="val -214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教师课表是否全部排好，都可以退出“人师”。可以用其他方式继续排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6"/>
          <p:cNvSpPr/>
          <p:nvPr/>
        </p:nvSpPr>
        <p:spPr>
          <a:xfrm>
            <a:off x="2484360" y="3276000"/>
            <a:ext cx="1081080" cy="1191600"/>
          </a:xfrm>
          <a:prstGeom prst="wedgeRectCallout">
            <a:avLst>
              <a:gd name="adj1" fmla="val -87712"/>
              <a:gd name="adj2" fmla="val -147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该教师任教的课程”框选择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7"/>
          <p:cNvSpPr/>
          <p:nvPr/>
        </p:nvSpPr>
        <p:spPr>
          <a:xfrm>
            <a:off x="3708360" y="3276000"/>
            <a:ext cx="1584360" cy="917280"/>
          </a:xfrm>
          <a:prstGeom prst="wedgeRectCallout">
            <a:avLst>
              <a:gd name="adj1" fmla="val -97273"/>
              <a:gd name="adj2" fmla="val -174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任教的班级及节数”框选择一个未排节数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3132000" y="5357160"/>
            <a:ext cx="3527640" cy="642600"/>
          </a:xfrm>
          <a:prstGeom prst="wedgeRectCallout">
            <a:avLst>
              <a:gd name="adj1" fmla="val -21921"/>
              <a:gd name="adj2" fmla="val -493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室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教室课表，方法和“人师”类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9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7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79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5292720" y="33336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班级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nextslide"/>
          </p:cNvPr>
          <p:cNvSpPr/>
          <p:nvPr/>
        </p:nvSpPr>
        <p:spPr>
          <a:xfrm>
            <a:off x="6912000" y="608472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班级详细课表"/>
          <p:cNvPicPr/>
          <p:nvPr/>
        </p:nvPicPr>
        <p:blipFill>
          <a:blip r:embed="rId1"/>
          <a:stretch/>
        </p:blipFill>
        <p:spPr>
          <a:xfrm>
            <a:off x="900000" y="765000"/>
            <a:ext cx="3490920" cy="575964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9"/>
          <p:cNvSpPr/>
          <p:nvPr/>
        </p:nvSpPr>
        <p:spPr>
          <a:xfrm>
            <a:off x="5003640" y="3491280"/>
            <a:ext cx="2016360" cy="368640"/>
          </a:xfrm>
          <a:prstGeom prst="wedgeRectCallout">
            <a:avLst>
              <a:gd name="adj1" fmla="val -109671"/>
              <a:gd name="adj2" fmla="val -21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和字的颜色区别不同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5003640" y="1919880"/>
            <a:ext cx="1584360" cy="368640"/>
          </a:xfrm>
          <a:prstGeom prst="wedgeRectCallout">
            <a:avLst>
              <a:gd name="adj1" fmla="val -243180"/>
              <a:gd name="adj2" fmla="val -15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6877080" y="464472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2">
            <a:hlinkClick r:id="" action="ppaction://hlinkshowjump?jump=previousslide"/>
          </p:cNvPr>
          <p:cNvSpPr/>
          <p:nvPr/>
        </p:nvSpPr>
        <p:spPr>
          <a:xfrm>
            <a:off x="6877080" y="5373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10800"/>
                </a:moveTo>
                <a:lnTo>
                  <a:pt x="50197" y="3794"/>
                </a:lnTo>
                <a:lnTo>
                  <a:pt x="501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261040" cy="53276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"/>
          <p:cNvSpPr/>
          <p:nvPr/>
        </p:nvSpPr>
        <p:spPr>
          <a:xfrm>
            <a:off x="468360" y="324000"/>
            <a:ext cx="81360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细的教师课表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详细的教室课表的格式与此类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7308720" y="396360"/>
            <a:ext cx="1727280" cy="423000"/>
          </a:xfrm>
          <a:custGeom>
            <a:avLst/>
            <a:gdLst>
              <a:gd name="textAreaLeft" fmla="*/ 27360 w 1727280"/>
              <a:gd name="textAreaRight" fmla="*/ 1699920 w 1727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8145" h="21600">
                <a:moveTo>
                  <a:pt x="0" y="0"/>
                </a:moveTo>
                <a:lnTo>
                  <a:pt x="88145" y="0"/>
                </a:lnTo>
                <a:lnTo>
                  <a:pt x="88145" y="21600"/>
                </a:lnTo>
                <a:lnTo>
                  <a:pt x="0" y="21600"/>
                </a:lnTo>
                <a:close/>
              </a:path>
              <a:path fill="lightenLess" w="88145" h="21600">
                <a:moveTo>
                  <a:pt x="0" y="0"/>
                </a:moveTo>
                <a:lnTo>
                  <a:pt x="88145" y="0"/>
                </a:lnTo>
                <a:lnTo>
                  <a:pt x="86745" y="1400"/>
                </a:lnTo>
                <a:lnTo>
                  <a:pt x="1400" y="1400"/>
                </a:lnTo>
                <a:close/>
              </a:path>
              <a:path fill="darken" w="88145" h="21600">
                <a:moveTo>
                  <a:pt x="88145" y="0"/>
                </a:moveTo>
                <a:lnTo>
                  <a:pt x="88145" y="21600"/>
                </a:lnTo>
                <a:lnTo>
                  <a:pt x="86745" y="20200"/>
                </a:lnTo>
                <a:lnTo>
                  <a:pt x="86745" y="1400"/>
                </a:lnTo>
                <a:close/>
              </a:path>
              <a:path fill="darkenLess" w="88145" h="21600">
                <a:moveTo>
                  <a:pt x="88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45" y="20200"/>
                </a:lnTo>
                <a:close/>
              </a:path>
              <a:path fill="lighten" w="88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145" h="21600">
                <a:moveTo>
                  <a:pt x="37066" y="3794"/>
                </a:moveTo>
                <a:lnTo>
                  <a:pt x="51079" y="10800"/>
                </a:lnTo>
                <a:lnTo>
                  <a:pt x="370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>
            <a:hlinkClick r:id="" action="ppaction://hlinkshowjump?jump=nextslide"/>
          </p:cNvPr>
          <p:cNvSpPr/>
          <p:nvPr/>
        </p:nvSpPr>
        <p:spPr>
          <a:xfrm>
            <a:off x="7308720" y="177336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5651640" y="1992600"/>
            <a:ext cx="1584360" cy="368640"/>
          </a:xfrm>
          <a:prstGeom prst="wedgeRectCallout">
            <a:avLst>
              <a:gd name="adj1" fmla="val -107402"/>
              <a:gd name="adj2" fmla="val 1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/>
          <p:cNvSpPr/>
          <p:nvPr/>
        </p:nvSpPr>
        <p:spPr>
          <a:xfrm>
            <a:off x="5651640" y="5645160"/>
            <a:ext cx="3097080" cy="642600"/>
          </a:xfrm>
          <a:prstGeom prst="wedgeRectCallout">
            <a:avLst>
              <a:gd name="adj1" fmla="val -193768"/>
              <a:gd name="adj2" fmla="val -396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背景色区别相同课头的不同的课程。本课表中，黄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，白背景色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班的审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1"/>
          <p:cNvSpPr/>
          <p:nvPr/>
        </p:nvSpPr>
        <p:spPr>
          <a:xfrm>
            <a:off x="7308720" y="82836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5651640" y="3334680"/>
            <a:ext cx="3095640" cy="917280"/>
          </a:xfrm>
          <a:prstGeom prst="wedgeRectCallout">
            <a:avLst>
              <a:gd name="adj1" fmla="val -96763"/>
              <a:gd name="adj2" fmla="val -46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不同颜色的字区别不同的课头（“不同的课头”就是课程不同或年级不同）。本课表中，黑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蓝字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的审计，红字表示单招年级的统管基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5">
            <a:hlinkClick r:id="" action="ppaction://hlinkshowjump?jump=previousslide"/>
          </p:cNvPr>
          <p:cNvSpPr/>
          <p:nvPr/>
        </p:nvSpPr>
        <p:spPr>
          <a:xfrm>
            <a:off x="7308720" y="1341360"/>
            <a:ext cx="1727280" cy="360360"/>
          </a:xfrm>
          <a:custGeom>
            <a:avLst/>
            <a:gdLst>
              <a:gd name="textAreaLeft" fmla="*/ 23040 w 1727280"/>
              <a:gd name="textAreaRight" fmla="*/ 1704240 w 17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451" h="21600">
                <a:moveTo>
                  <a:pt x="0" y="0"/>
                </a:moveTo>
                <a:lnTo>
                  <a:pt x="103451" y="0"/>
                </a:lnTo>
                <a:lnTo>
                  <a:pt x="103451" y="21600"/>
                </a:lnTo>
                <a:lnTo>
                  <a:pt x="0" y="21600"/>
                </a:lnTo>
                <a:close/>
              </a:path>
              <a:path fill="lightenLess" w="103451" h="21600">
                <a:moveTo>
                  <a:pt x="0" y="0"/>
                </a:moveTo>
                <a:lnTo>
                  <a:pt x="103451" y="0"/>
                </a:lnTo>
                <a:lnTo>
                  <a:pt x="102051" y="1400"/>
                </a:lnTo>
                <a:lnTo>
                  <a:pt x="1400" y="1400"/>
                </a:lnTo>
                <a:close/>
              </a:path>
              <a:path fill="darken" w="103451" h="21600">
                <a:moveTo>
                  <a:pt x="103451" y="0"/>
                </a:moveTo>
                <a:lnTo>
                  <a:pt x="103451" y="21600"/>
                </a:lnTo>
                <a:lnTo>
                  <a:pt x="102051" y="20200"/>
                </a:lnTo>
                <a:lnTo>
                  <a:pt x="102051" y="1400"/>
                </a:lnTo>
                <a:close/>
              </a:path>
              <a:path fill="darkenLess" w="103451" h="21600">
                <a:moveTo>
                  <a:pt x="103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51" y="20200"/>
                </a:lnTo>
                <a:close/>
              </a:path>
              <a:path fill="lighten" w="103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451" h="21600">
                <a:moveTo>
                  <a:pt x="44719" y="10800"/>
                </a:moveTo>
                <a:lnTo>
                  <a:pt x="58732" y="3794"/>
                </a:lnTo>
                <a:lnTo>
                  <a:pt x="5873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0"/>
                            </p:stCondLst>
                            <p:childTnLst>
                              <p:par>
                                <p:cTn id="8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3203640" y="3198600"/>
            <a:ext cx="2952720" cy="642600"/>
          </a:xfrm>
          <a:prstGeom prst="wedgeRectCallout">
            <a:avLst>
              <a:gd name="adj1" fmla="val -80254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3132000" y="401400"/>
            <a:ext cx="2519640" cy="642600"/>
          </a:xfrm>
          <a:prstGeom prst="wedgeRectCallout">
            <a:avLst>
              <a:gd name="adj1" fmla="val -74712"/>
              <a:gd name="adj2" fmla="val 1427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8197920" y="581112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5"/>
          <p:cNvSpPr/>
          <p:nvPr/>
        </p:nvSpPr>
        <p:spPr>
          <a:xfrm>
            <a:off x="6588000" y="2765520"/>
            <a:ext cx="1513080" cy="917280"/>
          </a:xfrm>
          <a:prstGeom prst="wedgeRectCallout">
            <a:avLst>
              <a:gd name="adj1" fmla="val -300282"/>
              <a:gd name="adj2" fmla="val -157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2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7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250920" y="189000"/>
            <a:ext cx="252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排 课 调 课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临时调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3059280" y="3268440"/>
            <a:ext cx="1079280" cy="368640"/>
          </a:xfrm>
          <a:prstGeom prst="wedgeRectCallout">
            <a:avLst>
              <a:gd name="adj1" fmla="val -114986"/>
              <a:gd name="adj2" fmla="val -89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2771640" y="438840"/>
            <a:ext cx="2374920" cy="642600"/>
          </a:xfrm>
          <a:prstGeom prst="wedgeRectCallout">
            <a:avLst>
              <a:gd name="adj1" fmla="val -66231"/>
              <a:gd name="adj2" fmla="val 187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673272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>
            <a:hlinkClick r:id="" action="ppaction://hlinkshowjump?jump=nextslide"/>
          </p:cNvPr>
          <p:cNvSpPr/>
          <p:nvPr/>
        </p:nvSpPr>
        <p:spPr>
          <a:xfrm>
            <a:off x="8172360" y="61668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5292720" y="467640"/>
            <a:ext cx="1225440" cy="642600"/>
          </a:xfrm>
          <a:prstGeom prst="wedgeRectCallout">
            <a:avLst>
              <a:gd name="adj1" fmla="val -241685"/>
              <a:gd name="adj2" fmla="val 235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临时”，出现“日历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2155680" cy="120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6766200" cy="99072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3"/>
          <p:cNvSpPr/>
          <p:nvPr/>
        </p:nvSpPr>
        <p:spPr>
          <a:xfrm>
            <a:off x="6300720" y="3425760"/>
            <a:ext cx="2521080" cy="642600"/>
          </a:xfrm>
          <a:prstGeom prst="wedgeRectCallout">
            <a:avLst>
              <a:gd name="adj1" fmla="val 11875"/>
              <a:gd name="adj2" fmla="val -211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日历”框选择“开始日期”和“结束日期”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588000" y="5868000"/>
            <a:ext cx="2232000" cy="368640"/>
          </a:xfrm>
          <a:prstGeom prst="wedgeRectCallout">
            <a:avLst>
              <a:gd name="adj1" fmla="val -162787"/>
              <a:gd name="adj2" fmla="val -17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打印“临时调课通知单”的对话框，按“是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4500720" y="3189960"/>
            <a:ext cx="1584000" cy="642600"/>
          </a:xfrm>
          <a:prstGeom prst="wedgeRectCallout">
            <a:avLst>
              <a:gd name="adj1" fmla="val -190078"/>
              <a:gd name="adj2" fmla="val -258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继续在班级课表上选择需调的课或者按“退调”按钮退出调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43546"/>
              <a:gd name="adj2" fmla="val -723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6">
            <a:hlinkClick r:id="" action="ppaction://hlinkshowjump?jump=previousslide"/>
          </p:cNvPr>
          <p:cNvSpPr/>
          <p:nvPr/>
        </p:nvSpPr>
        <p:spPr>
          <a:xfrm>
            <a:off x="745164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0"/>
                            </p:stCondLst>
                            <p:childTnLst>
                              <p:par>
                                <p:cTn id="87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1"/>
                            </p:stCondLst>
                            <p:childTnLst>
                              <p:par>
                                <p:cTn id="87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1"/>
                            </p:stCondLst>
                            <p:childTnLst>
                              <p:par>
                                <p:cTn id="883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2001"/>
                            </p:stCondLst>
                            <p:childTnLst>
                              <p:par>
                                <p:cTn id="888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1001"/>
                            </p:stCondLst>
                            <p:childTnLst>
                              <p:par>
                                <p:cTn id="8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1002"/>
                            </p:stCondLst>
                            <p:childTnLst>
                              <p:par>
                                <p:cTn id="89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6002"/>
                            </p:stCondLst>
                            <p:childTnLst>
                              <p:par>
                                <p:cTn id="90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77440" cy="5224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9" descr=""/>
          <p:cNvPicPr/>
          <p:nvPr/>
        </p:nvPicPr>
        <p:blipFill>
          <a:blip r:embed="rId2"/>
          <a:stretch/>
        </p:blipFill>
        <p:spPr>
          <a:xfrm>
            <a:off x="6988320" y="836640"/>
            <a:ext cx="2155680" cy="22636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812000" y="26028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4067280" y="330120"/>
            <a:ext cx="1800000" cy="368640"/>
          </a:xfrm>
          <a:prstGeom prst="wedgeRectCallout">
            <a:avLst>
              <a:gd name="adj1" fmla="val -17111"/>
              <a:gd name="adj2" fmla="val 31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教师框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请假教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1763640" y="330120"/>
            <a:ext cx="2106720" cy="368640"/>
          </a:xfrm>
          <a:prstGeom prst="wedgeRectCallout">
            <a:avLst>
              <a:gd name="adj1" fmla="val -1703"/>
              <a:gd name="adj2" fmla="val 22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代课”按钮，进入代课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3059280" y="2346840"/>
            <a:ext cx="3313080" cy="368640"/>
          </a:xfrm>
          <a:prstGeom prst="wedgeRectCallout">
            <a:avLst>
              <a:gd name="adj1" fmla="val -121000"/>
              <a:gd name="adj2" fmla="val 49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出现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教师课表是请假教师的课表。其他教师课表是可以代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059280" y="3346920"/>
            <a:ext cx="3889080" cy="368640"/>
          </a:xfrm>
          <a:prstGeom prst="wedgeRectCallout">
            <a:avLst>
              <a:gd name="adj1" fmla="val 73787"/>
              <a:gd name="adj2" fmla="val -56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自动出现的“日历”框里选择开始日期、结束日期、请假原因和什么样的教师优先代课，按“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1">
            <a:hlinkClick r:id="" action="ppaction://hlinkshowjump?jump=nextslide"/>
          </p:cNvPr>
          <p:cNvSpPr/>
          <p:nvPr/>
        </p:nvSpPr>
        <p:spPr>
          <a:xfrm>
            <a:off x="7093080" y="6237360"/>
            <a:ext cx="1879560" cy="396720"/>
          </a:xfrm>
          <a:custGeom>
            <a:avLst/>
            <a:gdLst>
              <a:gd name="textAreaLeft" fmla="*/ 25560 w 1879560"/>
              <a:gd name="textAreaRight" fmla="*/ 1854000 w 1879560"/>
              <a:gd name="textAreaTop" fmla="*/ 25560 h 396720"/>
              <a:gd name="textAreaBottom" fmla="*/ 371160 h 396720"/>
            </a:gdLst>
            <a:ahLst/>
            <a:rect l="textAreaLeft" t="textAreaTop" r="textAreaRight" b="textAreaBottom"/>
            <a:pathLst>
              <a:path w="102262" h="21600">
                <a:moveTo>
                  <a:pt x="0" y="0"/>
                </a:moveTo>
                <a:lnTo>
                  <a:pt x="102262" y="0"/>
                </a:lnTo>
                <a:lnTo>
                  <a:pt x="102262" y="21600"/>
                </a:lnTo>
                <a:lnTo>
                  <a:pt x="0" y="21600"/>
                </a:lnTo>
                <a:close/>
              </a:path>
              <a:path fill="lightenLess" w="102262" h="21600">
                <a:moveTo>
                  <a:pt x="0" y="0"/>
                </a:moveTo>
                <a:lnTo>
                  <a:pt x="102262" y="0"/>
                </a:lnTo>
                <a:lnTo>
                  <a:pt x="100862" y="1400"/>
                </a:lnTo>
                <a:lnTo>
                  <a:pt x="1400" y="1400"/>
                </a:lnTo>
                <a:close/>
              </a:path>
              <a:path fill="darken" w="102262" h="21600">
                <a:moveTo>
                  <a:pt x="102262" y="0"/>
                </a:moveTo>
                <a:lnTo>
                  <a:pt x="102262" y="21600"/>
                </a:lnTo>
                <a:lnTo>
                  <a:pt x="100862" y="20200"/>
                </a:lnTo>
                <a:lnTo>
                  <a:pt x="100862" y="1400"/>
                </a:lnTo>
                <a:close/>
              </a:path>
              <a:path fill="darkenLess" w="102262" h="21600">
                <a:moveTo>
                  <a:pt x="102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62" y="20200"/>
                </a:lnTo>
                <a:close/>
              </a:path>
              <a:path fill="lighten" w="102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62" h="21600">
                <a:moveTo>
                  <a:pt x="44125" y="3794"/>
                </a:moveTo>
                <a:lnTo>
                  <a:pt x="58138" y="10800"/>
                </a:lnTo>
                <a:lnTo>
                  <a:pt x="4412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2"/>
          <p:cNvSpPr/>
          <p:nvPr/>
        </p:nvSpPr>
        <p:spPr>
          <a:xfrm>
            <a:off x="1403280" y="6228360"/>
            <a:ext cx="1800360" cy="423000"/>
          </a:xfrm>
          <a:custGeom>
            <a:avLst/>
            <a:gdLst>
              <a:gd name="textAreaLeft" fmla="*/ 27360 w 1800360"/>
              <a:gd name="textAreaRight" fmla="*/ 1773000 w 1800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1873" h="21600">
                <a:moveTo>
                  <a:pt x="0" y="0"/>
                </a:moveTo>
                <a:lnTo>
                  <a:pt x="91873" y="0"/>
                </a:lnTo>
                <a:lnTo>
                  <a:pt x="91873" y="21600"/>
                </a:lnTo>
                <a:lnTo>
                  <a:pt x="0" y="21600"/>
                </a:lnTo>
                <a:close/>
              </a:path>
              <a:path fill="lightenLess" w="91873" h="21600">
                <a:moveTo>
                  <a:pt x="0" y="0"/>
                </a:moveTo>
                <a:lnTo>
                  <a:pt x="91873" y="0"/>
                </a:lnTo>
                <a:lnTo>
                  <a:pt x="90473" y="1400"/>
                </a:lnTo>
                <a:lnTo>
                  <a:pt x="1400" y="1400"/>
                </a:lnTo>
                <a:close/>
              </a:path>
              <a:path fill="darken" w="91873" h="21600">
                <a:moveTo>
                  <a:pt x="91873" y="0"/>
                </a:moveTo>
                <a:lnTo>
                  <a:pt x="91873" y="21600"/>
                </a:lnTo>
                <a:lnTo>
                  <a:pt x="90473" y="20200"/>
                </a:lnTo>
                <a:lnTo>
                  <a:pt x="90473" y="1400"/>
                </a:lnTo>
                <a:close/>
              </a:path>
              <a:path fill="darkenLess" w="91873" h="21600">
                <a:moveTo>
                  <a:pt x="9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73" y="20200"/>
                </a:lnTo>
                <a:close/>
              </a:path>
              <a:path fill="lighten" w="9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873" h="21600">
                <a:moveTo>
                  <a:pt x="38930" y="3794"/>
                </a:moveTo>
                <a:lnTo>
                  <a:pt x="52943" y="10800"/>
                </a:lnTo>
                <a:lnTo>
                  <a:pt x="38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检查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6"/>
          <p:cNvSpPr/>
          <p:nvPr/>
        </p:nvSpPr>
        <p:spPr>
          <a:xfrm>
            <a:off x="3276720" y="6229080"/>
            <a:ext cx="1724040" cy="423000"/>
          </a:xfrm>
          <a:custGeom>
            <a:avLst/>
            <a:gdLst>
              <a:gd name="textAreaLeft" fmla="*/ 27360 w 1724040"/>
              <a:gd name="textAreaRight" fmla="*/ 1696680 w 17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7980" h="21600">
                <a:moveTo>
                  <a:pt x="0" y="0"/>
                </a:moveTo>
                <a:lnTo>
                  <a:pt x="87980" y="0"/>
                </a:lnTo>
                <a:lnTo>
                  <a:pt x="87980" y="21600"/>
                </a:lnTo>
                <a:lnTo>
                  <a:pt x="0" y="21600"/>
                </a:lnTo>
                <a:close/>
              </a:path>
              <a:path fill="lightenLess" w="87980" h="21600">
                <a:moveTo>
                  <a:pt x="0" y="0"/>
                </a:moveTo>
                <a:lnTo>
                  <a:pt x="87980" y="0"/>
                </a:lnTo>
                <a:lnTo>
                  <a:pt x="86580" y="1400"/>
                </a:lnTo>
                <a:lnTo>
                  <a:pt x="1400" y="1400"/>
                </a:lnTo>
                <a:close/>
              </a:path>
              <a:path fill="darken" w="87980" h="21600">
                <a:moveTo>
                  <a:pt x="87980" y="0"/>
                </a:moveTo>
                <a:lnTo>
                  <a:pt x="87980" y="21600"/>
                </a:lnTo>
                <a:lnTo>
                  <a:pt x="86580" y="20200"/>
                </a:lnTo>
                <a:lnTo>
                  <a:pt x="86580" y="1400"/>
                </a:lnTo>
                <a:close/>
              </a:path>
              <a:path fill="darkenLess" w="87980" h="21600">
                <a:moveTo>
                  <a:pt x="87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580" y="20200"/>
                </a:lnTo>
                <a:close/>
              </a:path>
              <a:path fill="lighten" w="87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7980" h="21600">
                <a:moveTo>
                  <a:pt x="36983" y="10800"/>
                </a:moveTo>
                <a:lnTo>
                  <a:pt x="50996" y="3794"/>
                </a:lnTo>
                <a:lnTo>
                  <a:pt x="509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8"/>
          <p:cNvSpPr/>
          <p:nvPr/>
        </p:nvSpPr>
        <p:spPr>
          <a:xfrm>
            <a:off x="1763640" y="5436000"/>
            <a:ext cx="2879640" cy="368640"/>
          </a:xfrm>
          <a:prstGeom prst="wedgeRectCallout">
            <a:avLst>
              <a:gd name="adj1" fmla="val -96898"/>
              <a:gd name="adj2" fmla="val -31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请假教师课表上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需代的课，自动出现可以代这节课的教师的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0"/>
          <p:cNvSpPr/>
          <p:nvPr/>
        </p:nvSpPr>
        <p:spPr>
          <a:xfrm>
            <a:off x="4788000" y="5436000"/>
            <a:ext cx="1368360" cy="368640"/>
          </a:xfrm>
          <a:prstGeom prst="wedgeRectCallout">
            <a:avLst>
              <a:gd name="adj1" fmla="val -317041"/>
              <a:gd name="adj2" fmla="val -316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代课教师课表上选择代的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2"/>
          <p:cNvSpPr/>
          <p:nvPr/>
        </p:nvSpPr>
        <p:spPr>
          <a:xfrm>
            <a:off x="179280" y="330120"/>
            <a:ext cx="1008000" cy="368640"/>
          </a:xfrm>
          <a:prstGeom prst="wedgeRectCallout">
            <a:avLst>
              <a:gd name="adj1" fmla="val 21615"/>
              <a:gd name="adj2" fmla="val 305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3"/>
          <p:cNvSpPr/>
          <p:nvPr/>
        </p:nvSpPr>
        <p:spPr>
          <a:xfrm>
            <a:off x="6227640" y="5298840"/>
            <a:ext cx="2232000" cy="642600"/>
          </a:xfrm>
          <a:prstGeom prst="wedgeRectCallout">
            <a:avLst>
              <a:gd name="adj1" fmla="val -195231"/>
              <a:gd name="adj2" fmla="val -592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代课结束后按“代课确定”、“打印代课通知单”、“退出代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4">
            <a:hlinkClick r:id="" action="ppaction://hlinkshowjump?jump=previousslide"/>
          </p:cNvPr>
          <p:cNvSpPr/>
          <p:nvPr/>
        </p:nvSpPr>
        <p:spPr>
          <a:xfrm>
            <a:off x="5076720" y="623736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8000"/>
                            </p:stCondLst>
                            <p:childTnLst>
                              <p:par>
                                <p:cTn id="9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6001"/>
                            </p:stCondLst>
                            <p:childTnLst>
                              <p:par>
                                <p:cTn id="9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9001"/>
                            </p:stCondLst>
                            <p:childTnLst>
                              <p:par>
                                <p:cTn id="93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4001"/>
                            </p:stCondLst>
                            <p:childTnLst>
                              <p:par>
                                <p:cTn id="942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9001"/>
                            </p:stCondLst>
                            <p:childTnLst>
                              <p:par>
                                <p:cTn id="94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616800" cy="5112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179280" y="189000"/>
            <a:ext cx="60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课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例：检查一周内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节过多的教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6948360" y="439560"/>
            <a:ext cx="2016360" cy="642600"/>
          </a:xfrm>
          <a:prstGeom prst="wedgeRectCallout">
            <a:avLst>
              <a:gd name="adj1" fmla="val -49074"/>
              <a:gd name="adj2" fmla="val 535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“主窗体”按“检查”按钮，出现“检查”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6948360" y="1553040"/>
            <a:ext cx="2016360" cy="368640"/>
          </a:xfrm>
          <a:prstGeom prst="wedgeRectCallout">
            <a:avLst>
              <a:gd name="adj1" fmla="val -304175"/>
              <a:gd name="adj2" fmla="val 17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检查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6948360" y="3354120"/>
            <a:ext cx="2016360" cy="642600"/>
          </a:xfrm>
          <a:prstGeom prst="wedgeRectCallout">
            <a:avLst>
              <a:gd name="adj1" fmla="val -157620"/>
              <a:gd name="adj2" fmla="val 358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检查”按钮，蓝色框出现检查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/>
          <p:cNvSpPr/>
          <p:nvPr/>
        </p:nvSpPr>
        <p:spPr>
          <a:xfrm>
            <a:off x="6948360" y="4715280"/>
            <a:ext cx="1944720" cy="368640"/>
          </a:xfrm>
          <a:prstGeom prst="wedgeRectCallout">
            <a:avLst>
              <a:gd name="adj1" fmla="val -253791"/>
              <a:gd name="adj2" fmla="val -565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某行上单击，出现该教师的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6948360" y="2338920"/>
            <a:ext cx="1944720" cy="368640"/>
          </a:xfrm>
          <a:prstGeom prst="wedgeRectCallout">
            <a:avLst>
              <a:gd name="adj1" fmla="val -361601"/>
              <a:gd name="adj2" fmla="val 65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的检查项目需要选择适当的检查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3"/>
          <p:cNvSpPr/>
          <p:nvPr/>
        </p:nvSpPr>
        <p:spPr>
          <a:xfrm>
            <a:off x="6948360" y="544500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10800"/>
                </a:moveTo>
                <a:lnTo>
                  <a:pt x="55593" y="3794"/>
                </a:lnTo>
                <a:lnTo>
                  <a:pt x="555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4"/>
          <p:cNvSpPr/>
          <p:nvPr/>
        </p:nvSpPr>
        <p:spPr>
          <a:xfrm>
            <a:off x="6948360" y="6300360"/>
            <a:ext cx="1944720" cy="423000"/>
          </a:xfrm>
          <a:custGeom>
            <a:avLst/>
            <a:gdLst>
              <a:gd name="textAreaLeft" fmla="*/ 27360 w 1944720"/>
              <a:gd name="textAreaRight" fmla="*/ 1917360 w 19447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99239" h="21600">
                <a:moveTo>
                  <a:pt x="0" y="0"/>
                </a:moveTo>
                <a:lnTo>
                  <a:pt x="99239" y="0"/>
                </a:lnTo>
                <a:lnTo>
                  <a:pt x="99239" y="21600"/>
                </a:lnTo>
                <a:lnTo>
                  <a:pt x="0" y="21600"/>
                </a:lnTo>
                <a:close/>
              </a:path>
              <a:path fill="lightenLess" w="99239" h="21600">
                <a:moveTo>
                  <a:pt x="0" y="0"/>
                </a:moveTo>
                <a:lnTo>
                  <a:pt x="99239" y="0"/>
                </a:lnTo>
                <a:lnTo>
                  <a:pt x="97839" y="1400"/>
                </a:lnTo>
                <a:lnTo>
                  <a:pt x="1400" y="1400"/>
                </a:lnTo>
                <a:close/>
              </a:path>
              <a:path fill="darken" w="99239" h="21600">
                <a:moveTo>
                  <a:pt x="99239" y="0"/>
                </a:moveTo>
                <a:lnTo>
                  <a:pt x="99239" y="21600"/>
                </a:lnTo>
                <a:lnTo>
                  <a:pt x="97839" y="20200"/>
                </a:lnTo>
                <a:lnTo>
                  <a:pt x="97839" y="1400"/>
                </a:lnTo>
                <a:close/>
              </a:path>
              <a:path fill="darkenLess" w="99239" h="21600">
                <a:moveTo>
                  <a:pt x="9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39" y="20200"/>
                </a:lnTo>
                <a:close/>
              </a:path>
              <a:path fill="lighten" w="9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39" h="21600">
                <a:moveTo>
                  <a:pt x="42613" y="3794"/>
                </a:moveTo>
                <a:lnTo>
                  <a:pt x="56626" y="10800"/>
                </a:lnTo>
                <a:lnTo>
                  <a:pt x="4261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>
            <a:hlinkClick r:id="" action="ppaction://hlinkshowjump?jump=previousslide"/>
          </p:cNvPr>
          <p:cNvSpPr/>
          <p:nvPr/>
        </p:nvSpPr>
        <p:spPr>
          <a:xfrm>
            <a:off x="6948360" y="5877000"/>
            <a:ext cx="1944720" cy="43164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7254" h="21600">
                <a:moveTo>
                  <a:pt x="0" y="0"/>
                </a:moveTo>
                <a:lnTo>
                  <a:pt x="97254" y="0"/>
                </a:lnTo>
                <a:lnTo>
                  <a:pt x="97254" y="21600"/>
                </a:lnTo>
                <a:lnTo>
                  <a:pt x="0" y="21600"/>
                </a:lnTo>
                <a:close/>
              </a:path>
              <a:path fill="lightenLess" w="97254" h="21600">
                <a:moveTo>
                  <a:pt x="0" y="0"/>
                </a:moveTo>
                <a:lnTo>
                  <a:pt x="97254" y="0"/>
                </a:lnTo>
                <a:lnTo>
                  <a:pt x="95854" y="1400"/>
                </a:lnTo>
                <a:lnTo>
                  <a:pt x="1400" y="1400"/>
                </a:lnTo>
                <a:close/>
              </a:path>
              <a:path fill="darken" w="97254" h="21600">
                <a:moveTo>
                  <a:pt x="97254" y="0"/>
                </a:moveTo>
                <a:lnTo>
                  <a:pt x="97254" y="21600"/>
                </a:lnTo>
                <a:lnTo>
                  <a:pt x="95854" y="20200"/>
                </a:lnTo>
                <a:lnTo>
                  <a:pt x="95854" y="1400"/>
                </a:lnTo>
                <a:close/>
              </a:path>
              <a:path fill="darkenLess" w="97254" h="21600">
                <a:moveTo>
                  <a:pt x="97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854" y="20200"/>
                </a:lnTo>
                <a:close/>
              </a:path>
              <a:path fill="lighten" w="97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254" h="21600">
                <a:moveTo>
                  <a:pt x="41621" y="10800"/>
                </a:moveTo>
                <a:lnTo>
                  <a:pt x="55633" y="3794"/>
                </a:lnTo>
                <a:lnTo>
                  <a:pt x="556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3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"/>
          <p:cNvPicPr/>
          <p:nvPr/>
        </p:nvPicPr>
        <p:blipFill>
          <a:blip r:embed="rId4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0"/>
                            </p:stCondLst>
                            <p:childTnLst>
                              <p:par>
                                <p:cTn id="96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1" descr=""/>
          <p:cNvPicPr/>
          <p:nvPr/>
        </p:nvPicPr>
        <p:blipFill>
          <a:blip r:embed="rId1"/>
          <a:stretch/>
        </p:blipFill>
        <p:spPr>
          <a:xfrm>
            <a:off x="54000" y="1052640"/>
            <a:ext cx="8008920" cy="47527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8062920" y="2351160"/>
            <a:ext cx="1042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8172360" y="4006800"/>
            <a:ext cx="9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4390920" y="193680"/>
            <a:ext cx="1906560" cy="642600"/>
          </a:xfrm>
          <a:prstGeom prst="wedgeRectCallout">
            <a:avLst>
              <a:gd name="adj1" fmla="val 130041"/>
              <a:gd name="adj2" fmla="val 190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93600" y="192240"/>
            <a:ext cx="2013120" cy="642600"/>
          </a:xfrm>
          <a:prstGeom prst="wedgeRectCallout">
            <a:avLst>
              <a:gd name="adj1" fmla="val -13384"/>
              <a:gd name="adj2" fmla="val 130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6372360" y="193680"/>
            <a:ext cx="1800000" cy="642600"/>
          </a:xfrm>
          <a:prstGeom prst="wedgeRectCallout">
            <a:avLst>
              <a:gd name="adj1" fmla="val 33481"/>
              <a:gd name="adj2" fmla="val 145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 flipH="1">
            <a:off x="8190720" y="475200"/>
            <a:ext cx="916200" cy="1465920"/>
          </a:xfrm>
          <a:prstGeom prst="wedgeRectCallout">
            <a:avLst>
              <a:gd name="adj1" fmla="val 80870"/>
              <a:gd name="adj2" fmla="val 6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/>
          <p:cNvSpPr/>
          <p:nvPr/>
        </p:nvSpPr>
        <p:spPr>
          <a:xfrm>
            <a:off x="4390920" y="2018160"/>
            <a:ext cx="1351080" cy="368640"/>
          </a:xfrm>
          <a:prstGeom prst="wedgeRectCallout">
            <a:avLst>
              <a:gd name="adj1" fmla="val 155430"/>
              <a:gd name="adj2" fmla="val -107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6429240" y="3333600"/>
            <a:ext cx="1351080" cy="642600"/>
          </a:xfrm>
          <a:prstGeom prst="wedgeRectCallout">
            <a:avLst>
              <a:gd name="adj1" fmla="val 6046"/>
              <a:gd name="adj2" fmla="val -210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8190000" y="5016960"/>
            <a:ext cx="823680" cy="423000"/>
          </a:xfrm>
          <a:custGeom>
            <a:avLst/>
            <a:gdLst>
              <a:gd name="textAreaLeft" fmla="*/ 27360 w 823680"/>
              <a:gd name="textAreaRight" fmla="*/ 796320 w 8236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43" h="21600">
                <a:moveTo>
                  <a:pt x="0" y="0"/>
                </a:moveTo>
                <a:lnTo>
                  <a:pt x="42043" y="0"/>
                </a:lnTo>
                <a:lnTo>
                  <a:pt x="42043" y="21600"/>
                </a:lnTo>
                <a:lnTo>
                  <a:pt x="0" y="21600"/>
                </a:lnTo>
                <a:close/>
              </a:path>
              <a:path fill="lightenLess" w="42043" h="21600">
                <a:moveTo>
                  <a:pt x="0" y="0"/>
                </a:moveTo>
                <a:lnTo>
                  <a:pt x="42043" y="0"/>
                </a:lnTo>
                <a:lnTo>
                  <a:pt x="40643" y="1400"/>
                </a:lnTo>
                <a:lnTo>
                  <a:pt x="1400" y="1400"/>
                </a:lnTo>
                <a:close/>
              </a:path>
              <a:path fill="darken" w="42043" h="21600">
                <a:moveTo>
                  <a:pt x="42043" y="0"/>
                </a:moveTo>
                <a:lnTo>
                  <a:pt x="42043" y="21600"/>
                </a:lnTo>
                <a:lnTo>
                  <a:pt x="40643" y="20200"/>
                </a:lnTo>
                <a:lnTo>
                  <a:pt x="40643" y="1400"/>
                </a:lnTo>
                <a:close/>
              </a:path>
              <a:path fill="darkenLess" w="42043" h="21600">
                <a:moveTo>
                  <a:pt x="42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3" y="20200"/>
                </a:lnTo>
                <a:close/>
              </a:path>
              <a:path fill="lighten" w="42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3" h="21600">
                <a:moveTo>
                  <a:pt x="14015" y="10800"/>
                </a:moveTo>
                <a:lnTo>
                  <a:pt x="28028" y="3794"/>
                </a:lnTo>
                <a:lnTo>
                  <a:pt x="280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"/>
          <p:cNvSpPr/>
          <p:nvPr/>
        </p:nvSpPr>
        <p:spPr>
          <a:xfrm>
            <a:off x="6299280" y="5217120"/>
            <a:ext cx="1801800" cy="368640"/>
          </a:xfrm>
          <a:prstGeom prst="wedgeRectCallout">
            <a:avLst>
              <a:gd name="adj1" fmla="val -168236"/>
              <a:gd name="adj2" fmla="val -104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2225520" y="192240"/>
            <a:ext cx="2075040" cy="642600"/>
          </a:xfrm>
          <a:prstGeom prst="wedgeRectCallout">
            <a:avLst>
              <a:gd name="adj1" fmla="val -97680"/>
              <a:gd name="adj2" fmla="val 201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93600" y="6056280"/>
            <a:ext cx="2212920" cy="642600"/>
          </a:xfrm>
          <a:prstGeom prst="wedgeRectCallout">
            <a:avLst>
              <a:gd name="adj1" fmla="val -20138"/>
              <a:gd name="adj2" fmla="val -642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>
            <a:hlinkClick r:id="" action="ppaction://hlinkshowjump?jump=nextslide"/>
          </p:cNvPr>
          <p:cNvSpPr/>
          <p:nvPr/>
        </p:nvSpPr>
        <p:spPr>
          <a:xfrm>
            <a:off x="8190000" y="616536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>
            <a:hlinkClick r:id="" action="ppaction://hlinkshowjump?jump=previousslide"/>
          </p:cNvPr>
          <p:cNvSpPr/>
          <p:nvPr/>
        </p:nvSpPr>
        <p:spPr>
          <a:xfrm>
            <a:off x="8190000" y="566100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54" h="21600">
                <a:moveTo>
                  <a:pt x="12720" y="10800"/>
                </a:moveTo>
                <a:lnTo>
                  <a:pt x="26733" y="3794"/>
                </a:lnTo>
                <a:lnTo>
                  <a:pt x="267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9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1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2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"/>
          <p:cNvPicPr/>
          <p:nvPr/>
        </p:nvPicPr>
        <p:blipFill>
          <a:blip r:embed="rId1"/>
          <a:stretch/>
        </p:blipFill>
        <p:spPr>
          <a:xfrm>
            <a:off x="87480" y="1316160"/>
            <a:ext cx="7678440" cy="543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5883120" y="3741120"/>
            <a:ext cx="882720" cy="1191600"/>
          </a:xfrm>
          <a:prstGeom prst="wedgeRectCallout">
            <a:avLst>
              <a:gd name="adj1" fmla="val 135240"/>
              <a:gd name="adj2" fmla="val -194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1619280" y="393840"/>
            <a:ext cx="2089080" cy="642600"/>
          </a:xfrm>
          <a:prstGeom prst="wedgeRectCallout">
            <a:avLst>
              <a:gd name="adj1" fmla="val -64125"/>
              <a:gd name="adj2" fmla="val 130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7435800" y="394560"/>
            <a:ext cx="1582920" cy="642600"/>
          </a:xfrm>
          <a:prstGeom prst="wedgeRectCallout">
            <a:avLst>
              <a:gd name="adj1" fmla="val -34222"/>
              <a:gd name="adj2" fmla="val 139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>
            <a:off x="6765840" y="3577680"/>
            <a:ext cx="908280" cy="1465920"/>
          </a:xfrm>
          <a:prstGeom prst="wedgeRectCallout">
            <a:avLst>
              <a:gd name="adj1" fmla="val 40250"/>
              <a:gd name="adj2" fmla="val -132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4818240" y="6028200"/>
            <a:ext cx="2690640" cy="368640"/>
          </a:xfrm>
          <a:prstGeom prst="wedgeRectCallout">
            <a:avLst>
              <a:gd name="adj1" fmla="val -80379"/>
              <a:gd name="adj2" fmla="val -9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可在绿色框中编辑。在框中单击右键，出现编辑快捷菜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4"/>
          <p:cNvSpPr/>
          <p:nvPr/>
        </p:nvSpPr>
        <p:spPr>
          <a:xfrm>
            <a:off x="4314960" y="2873160"/>
            <a:ext cx="1350720" cy="368640"/>
          </a:xfrm>
          <a:prstGeom prst="wedgeRectCallout">
            <a:avLst>
              <a:gd name="adj1" fmla="val 149384"/>
              <a:gd name="adj2" fmla="val -266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5"/>
          <p:cNvSpPr/>
          <p:nvPr/>
        </p:nvSpPr>
        <p:spPr>
          <a:xfrm>
            <a:off x="4441680" y="4097160"/>
            <a:ext cx="1224000" cy="642600"/>
          </a:xfrm>
          <a:prstGeom prst="wedgeRectCallout">
            <a:avLst>
              <a:gd name="adj1" fmla="val 150439"/>
              <a:gd name="adj2" fmla="val -30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7"/>
          <p:cNvSpPr/>
          <p:nvPr/>
        </p:nvSpPr>
        <p:spPr>
          <a:xfrm>
            <a:off x="3780000" y="431640"/>
            <a:ext cx="1657080" cy="368640"/>
          </a:xfrm>
          <a:prstGeom prst="wedgeRectCallout">
            <a:avLst>
              <a:gd name="adj1" fmla="val -127518"/>
              <a:gd name="adj2" fmla="val 358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格内增加空行可以增大表格高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8"/>
          <p:cNvSpPr/>
          <p:nvPr/>
        </p:nvSpPr>
        <p:spPr>
          <a:xfrm>
            <a:off x="270000" y="4680720"/>
            <a:ext cx="1152360" cy="642600"/>
          </a:xfrm>
          <a:prstGeom prst="wedgeRectCallout">
            <a:avLst>
              <a:gd name="adj1" fmla="val 205587"/>
              <a:gd name="adj2" fmla="val -368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附标题”，并输入标题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9"/>
          <p:cNvSpPr/>
          <p:nvPr/>
        </p:nvSpPr>
        <p:spPr>
          <a:xfrm>
            <a:off x="5508720" y="394560"/>
            <a:ext cx="1727280" cy="642600"/>
          </a:xfrm>
          <a:prstGeom prst="wedgeRectCallout">
            <a:avLst>
              <a:gd name="adj1" fmla="val -90337"/>
              <a:gd name="adj2" fmla="val 1255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隐藏选项”按钮，绿色框上移至屏幕顶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对象 2" descr=""/>
          <p:cNvPicPr/>
          <p:nvPr/>
        </p:nvPicPr>
        <p:blipFill>
          <a:blip r:embed="rId1"/>
          <a:stretch/>
        </p:blipFill>
        <p:spPr>
          <a:xfrm>
            <a:off x="235080" y="907920"/>
            <a:ext cx="3157560" cy="540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初级或高级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276640"/>
            <a:ext cx="42228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/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/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界面”以减少困难，以后可以随时改为“高级界面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492360" y="6089400"/>
            <a:ext cx="2951280" cy="368640"/>
          </a:xfrm>
          <a:prstGeom prst="wedgeRectCallout">
            <a:avLst>
              <a:gd name="adj1" fmla="val -79013"/>
              <a:gd name="adj2" fmla="val -190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里下载排课高手新版本（含用户手册、幻灯演示等）和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780000" y="4945680"/>
            <a:ext cx="1368360" cy="642600"/>
          </a:xfrm>
          <a:prstGeom prst="wedgeRectCallout">
            <a:avLst>
              <a:gd name="adj1" fmla="val -165333"/>
              <a:gd name="adj2" fmla="val 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0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7772400" cy="40928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5219640" y="394560"/>
            <a:ext cx="1728720" cy="642600"/>
          </a:xfrm>
          <a:prstGeom prst="wedgeRectCallout">
            <a:avLst>
              <a:gd name="adj1" fmla="val 93138"/>
              <a:gd name="adj2" fmla="val 150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7093080" y="277560"/>
            <a:ext cx="1800000" cy="642600"/>
          </a:xfrm>
          <a:prstGeom prst="wedgeRectCallout">
            <a:avLst>
              <a:gd name="adj1" fmla="val -11587"/>
              <a:gd name="adj2" fmla="val 115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>
            <a:off x="7956720" y="1612800"/>
            <a:ext cx="1187280" cy="917280"/>
          </a:xfrm>
          <a:prstGeom prst="wedgeRectCallout">
            <a:avLst>
              <a:gd name="adj1" fmla="val -59972"/>
              <a:gd name="adj2" fmla="val -15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179280" y="276840"/>
            <a:ext cx="1422360" cy="368280"/>
          </a:xfrm>
          <a:prstGeom prst="wedgeRectCallout">
            <a:avLst>
              <a:gd name="adj1" fmla="val -41777"/>
              <a:gd name="adj2" fmla="val 3326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1619280" y="330120"/>
            <a:ext cx="1351080" cy="642600"/>
          </a:xfrm>
          <a:prstGeom prst="wedgeRectCallout">
            <a:avLst>
              <a:gd name="adj1" fmla="val -146694"/>
              <a:gd name="adj2" fmla="val 22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1"/>
          <p:cNvSpPr/>
          <p:nvPr/>
        </p:nvSpPr>
        <p:spPr>
          <a:xfrm>
            <a:off x="3059280" y="401400"/>
            <a:ext cx="2052360" cy="642600"/>
          </a:xfrm>
          <a:prstGeom prst="wedgeRectCallout">
            <a:avLst>
              <a:gd name="adj1" fmla="val -74444"/>
              <a:gd name="adj2" fmla="val 99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3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22"/>
          <p:cNvSpPr/>
          <p:nvPr/>
        </p:nvSpPr>
        <p:spPr>
          <a:xfrm flipV="1" rot="10800000">
            <a:off x="900000" y="2207880"/>
            <a:ext cx="3818160" cy="368640"/>
          </a:xfrm>
          <a:prstGeom prst="wedgeRectCallout">
            <a:avLst>
              <a:gd name="adj1" fmla="val -35162"/>
              <a:gd name="adj2" fmla="val -1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表格宽度太大，可选择简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4"/>
          <p:cNvSpPr/>
          <p:nvPr/>
        </p:nvSpPr>
        <p:spPr>
          <a:xfrm>
            <a:off x="7093080" y="3275640"/>
            <a:ext cx="1582560" cy="642600"/>
          </a:xfrm>
          <a:prstGeom prst="wedgeRectCallout">
            <a:avLst>
              <a:gd name="adj1" fmla="val -115884"/>
              <a:gd name="adj2" fmla="val -25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假期连续上课，“首列”选择“连续日期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35"/>
          <p:cNvSpPr/>
          <p:nvPr/>
        </p:nvSpPr>
        <p:spPr>
          <a:xfrm>
            <a:off x="6012000" y="4938480"/>
            <a:ext cx="1439640" cy="368640"/>
          </a:xfrm>
          <a:prstGeom prst="wedgeRectCallout">
            <a:avLst>
              <a:gd name="adj1" fmla="val -124296"/>
              <a:gd name="adj2" fmla="val 6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6">
            <a:hlinkClick r:id="" action="ppaction://hlinkshowjump?jump=nextslide"/>
          </p:cNvPr>
          <p:cNvSpPr/>
          <p:nvPr/>
        </p:nvSpPr>
        <p:spPr>
          <a:xfrm>
            <a:off x="8459640" y="5732640"/>
            <a:ext cx="478080" cy="704520"/>
          </a:xfrm>
          <a:custGeom>
            <a:avLst/>
            <a:gdLst>
              <a:gd name="textAreaLeft" fmla="*/ 30960 w 478080"/>
              <a:gd name="textAreaRight" fmla="*/ 447120 w 478080"/>
              <a:gd name="textAreaTop" fmla="*/ 30960 h 704520"/>
              <a:gd name="textAreaBottom" fmla="*/ 673560 h 704520"/>
            </a:gdLst>
            <a:ahLst/>
            <a:rect l="textAreaLeft" t="textAreaTop" r="textAreaRight" b="textAreaBottom"/>
            <a:pathLst>
              <a:path w="21600" h="31823">
                <a:moveTo>
                  <a:pt x="0" y="0"/>
                </a:moveTo>
                <a:lnTo>
                  <a:pt x="21600" y="0"/>
                </a:lnTo>
                <a:lnTo>
                  <a:pt x="21600" y="31823"/>
                </a:lnTo>
                <a:lnTo>
                  <a:pt x="0" y="31823"/>
                </a:lnTo>
                <a:close/>
              </a:path>
              <a:path fill="lightenLess" w="21600" h="31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823">
                <a:moveTo>
                  <a:pt x="21600" y="0"/>
                </a:moveTo>
                <a:lnTo>
                  <a:pt x="21600" y="31823"/>
                </a:lnTo>
                <a:lnTo>
                  <a:pt x="20200" y="30423"/>
                </a:lnTo>
                <a:lnTo>
                  <a:pt x="20200" y="1400"/>
                </a:lnTo>
                <a:close/>
              </a:path>
              <a:path fill="darkenLess" w="21600" h="31823">
                <a:moveTo>
                  <a:pt x="21600" y="31823"/>
                </a:moveTo>
                <a:lnTo>
                  <a:pt x="0" y="31823"/>
                </a:lnTo>
                <a:lnTo>
                  <a:pt x="1400" y="30423"/>
                </a:lnTo>
                <a:lnTo>
                  <a:pt x="20200" y="30423"/>
                </a:lnTo>
                <a:close/>
              </a:path>
              <a:path fill="lighten" w="21600" h="31823">
                <a:moveTo>
                  <a:pt x="0" y="31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30423"/>
                </a:lnTo>
                <a:close/>
              </a:path>
              <a:path fill="darken" w="21600" h="31823">
                <a:moveTo>
                  <a:pt x="3794" y="8905"/>
                </a:moveTo>
                <a:lnTo>
                  <a:pt x="17806" y="15912"/>
                </a:lnTo>
                <a:lnTo>
                  <a:pt x="3794" y="22918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1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1"/>
                            </p:stCondLst>
                            <p:childTnLst>
                              <p:par>
                                <p:cTn id="112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85440" cy="1835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796000" y="192240"/>
            <a:ext cx="1368360" cy="917280"/>
          </a:xfrm>
          <a:prstGeom prst="wedgeRectCallout">
            <a:avLst>
              <a:gd name="adj1" fmla="val 165175"/>
              <a:gd name="adj2" fmla="val 9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显示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7451640" y="278640"/>
            <a:ext cx="1511280" cy="642600"/>
          </a:xfrm>
          <a:prstGeom prst="wedgeRectCallout">
            <a:avLst>
              <a:gd name="adj1" fmla="val 32018"/>
              <a:gd name="adj2" fmla="val 1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显示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7524720" y="3073680"/>
            <a:ext cx="1440000" cy="917280"/>
          </a:xfrm>
          <a:prstGeom prst="wedgeRectCallout">
            <a:avLst>
              <a:gd name="adj1" fmla="val 38749"/>
              <a:gd name="adj2" fmla="val -1824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108000" y="394200"/>
            <a:ext cx="1422360" cy="368280"/>
          </a:xfrm>
          <a:prstGeom prst="wedgeRectCallout">
            <a:avLst>
              <a:gd name="adj1" fmla="val -37097"/>
              <a:gd name="adj2" fmla="val 367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>
            <a:off x="1619280" y="257040"/>
            <a:ext cx="1351080" cy="642600"/>
          </a:xfrm>
          <a:prstGeom prst="wedgeRectCallout">
            <a:avLst>
              <a:gd name="adj1" fmla="val -141180"/>
              <a:gd name="adj2" fmla="val 232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/>
          <p:cNvSpPr/>
          <p:nvPr/>
        </p:nvSpPr>
        <p:spPr>
          <a:xfrm>
            <a:off x="3059280" y="552240"/>
            <a:ext cx="1225440" cy="368640"/>
          </a:xfrm>
          <a:prstGeom prst="wedgeRectCallout">
            <a:avLst>
              <a:gd name="adj1" fmla="val -120333"/>
              <a:gd name="adj2" fmla="val 25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>
            <a:off x="6516720" y="3339720"/>
            <a:ext cx="934920" cy="368640"/>
          </a:xfrm>
          <a:prstGeom prst="wedgeRectCallout">
            <a:avLst>
              <a:gd name="adj1" fmla="val -74439"/>
              <a:gd name="adj2" fmla="val -505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"/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4356000" y="485640"/>
            <a:ext cx="1368360" cy="368640"/>
          </a:xfrm>
          <a:prstGeom prst="wedgeRectCallout">
            <a:avLst>
              <a:gd name="adj1" fmla="val -168305"/>
              <a:gd name="adj2" fmla="val 297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表内附的教师姓名的字体就是附加字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6516720" y="5515200"/>
            <a:ext cx="792000" cy="917280"/>
          </a:xfrm>
          <a:prstGeom prst="wedgeRectCallout">
            <a:avLst>
              <a:gd name="adj1" fmla="val -152361"/>
              <a:gd name="adj2" fmla="val -2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445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3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3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6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6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7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40001"/>
                            </p:stCondLst>
                            <p:childTnLst>
                              <p:par>
                                <p:cTn id="117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7"/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20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校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985080" cy="655308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5"/>
          <p:cNvSpPr/>
          <p:nvPr/>
        </p:nvSpPr>
        <p:spPr>
          <a:xfrm>
            <a:off x="7956720" y="414972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3794"/>
                </a:moveTo>
                <a:lnTo>
                  <a:pt x="37197" y="10800"/>
                </a:lnTo>
                <a:lnTo>
                  <a:pt x="2318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">
            <a:hlinkClick r:id="" action="ppaction://hlinkshowjump?jump=nextslide"/>
          </p:cNvPr>
          <p:cNvSpPr/>
          <p:nvPr/>
        </p:nvSpPr>
        <p:spPr>
          <a:xfrm>
            <a:off x="7956720" y="5084640"/>
            <a:ext cx="1008000" cy="385920"/>
          </a:xfrm>
          <a:custGeom>
            <a:avLst/>
            <a:gdLst>
              <a:gd name="textAreaLeft" fmla="*/ 24840 w 1008000"/>
              <a:gd name="textAreaRight" fmla="*/ 983160 w 1008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56385" h="21600">
                <a:moveTo>
                  <a:pt x="0" y="0"/>
                </a:moveTo>
                <a:lnTo>
                  <a:pt x="56385" y="0"/>
                </a:lnTo>
                <a:lnTo>
                  <a:pt x="56385" y="21600"/>
                </a:lnTo>
                <a:lnTo>
                  <a:pt x="0" y="21600"/>
                </a:lnTo>
                <a:close/>
              </a:path>
              <a:path fill="lightenLess" w="56385" h="21600">
                <a:moveTo>
                  <a:pt x="0" y="0"/>
                </a:moveTo>
                <a:lnTo>
                  <a:pt x="56385" y="0"/>
                </a:lnTo>
                <a:lnTo>
                  <a:pt x="54985" y="1400"/>
                </a:lnTo>
                <a:lnTo>
                  <a:pt x="1400" y="1400"/>
                </a:lnTo>
                <a:close/>
              </a:path>
              <a:path fill="darken" w="56385" h="21600">
                <a:moveTo>
                  <a:pt x="56385" y="0"/>
                </a:moveTo>
                <a:lnTo>
                  <a:pt x="56385" y="21600"/>
                </a:lnTo>
                <a:lnTo>
                  <a:pt x="54985" y="20200"/>
                </a:lnTo>
                <a:lnTo>
                  <a:pt x="54985" y="1400"/>
                </a:lnTo>
                <a:close/>
              </a:path>
              <a:path fill="darkenLess" w="56385" h="21600">
                <a:moveTo>
                  <a:pt x="5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85" y="20200"/>
                </a:lnTo>
                <a:close/>
              </a:path>
              <a:path fill="lighten" w="5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85" h="21600">
                <a:moveTo>
                  <a:pt x="21186" y="3794"/>
                </a:moveTo>
                <a:lnTo>
                  <a:pt x="35199" y="10800"/>
                </a:lnTo>
                <a:lnTo>
                  <a:pt x="211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">
            <a:hlinkClick r:id="" action="ppaction://hlinkshowjump?jump=previousslide"/>
          </p:cNvPr>
          <p:cNvSpPr/>
          <p:nvPr/>
        </p:nvSpPr>
        <p:spPr>
          <a:xfrm>
            <a:off x="7956720" y="465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10800"/>
                </a:moveTo>
                <a:lnTo>
                  <a:pt x="44679" y="3794"/>
                </a:lnTo>
                <a:lnTo>
                  <a:pt x="4467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10080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导出的年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740200" cy="633708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5"/>
          <p:cNvSpPr/>
          <p:nvPr/>
        </p:nvSpPr>
        <p:spPr>
          <a:xfrm>
            <a:off x="7308720" y="407664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7308720" y="5084640"/>
            <a:ext cx="1656000" cy="385920"/>
          </a:xfrm>
          <a:custGeom>
            <a:avLst/>
            <a:gdLst>
              <a:gd name="textAreaLeft" fmla="*/ 24840 w 1656000"/>
              <a:gd name="textAreaRight" fmla="*/ 1631160 w 165600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92620" h="21600">
                <a:moveTo>
                  <a:pt x="0" y="0"/>
                </a:moveTo>
                <a:lnTo>
                  <a:pt x="92620" y="0"/>
                </a:lnTo>
                <a:lnTo>
                  <a:pt x="92620" y="21600"/>
                </a:lnTo>
                <a:lnTo>
                  <a:pt x="0" y="21600"/>
                </a:lnTo>
                <a:close/>
              </a:path>
              <a:path fill="lightenLess" w="92620" h="21600">
                <a:moveTo>
                  <a:pt x="0" y="0"/>
                </a:moveTo>
                <a:lnTo>
                  <a:pt x="92620" y="0"/>
                </a:lnTo>
                <a:lnTo>
                  <a:pt x="91220" y="1400"/>
                </a:lnTo>
                <a:lnTo>
                  <a:pt x="1400" y="1400"/>
                </a:lnTo>
                <a:close/>
              </a:path>
              <a:path fill="darken" w="92620" h="21600">
                <a:moveTo>
                  <a:pt x="92620" y="0"/>
                </a:moveTo>
                <a:lnTo>
                  <a:pt x="92620" y="21600"/>
                </a:lnTo>
                <a:lnTo>
                  <a:pt x="91220" y="20200"/>
                </a:lnTo>
                <a:lnTo>
                  <a:pt x="91220" y="1400"/>
                </a:lnTo>
                <a:close/>
              </a:path>
              <a:path fill="darkenLess" w="92620" h="21600">
                <a:moveTo>
                  <a:pt x="92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20" y="20200"/>
                </a:lnTo>
                <a:close/>
              </a:path>
              <a:path fill="lighten" w="92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20" h="21600">
                <a:moveTo>
                  <a:pt x="39304" y="3794"/>
                </a:moveTo>
                <a:lnTo>
                  <a:pt x="53317" y="10800"/>
                </a:lnTo>
                <a:lnTo>
                  <a:pt x="393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>
            <a:hlinkClick r:id="" action="ppaction://hlinkshowjump?jump=previousslide"/>
          </p:cNvPr>
          <p:cNvSpPr/>
          <p:nvPr/>
        </p:nvSpPr>
        <p:spPr>
          <a:xfrm>
            <a:off x="7308720" y="458136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10800"/>
                </a:moveTo>
                <a:lnTo>
                  <a:pt x="56598" y="3794"/>
                </a:lnTo>
                <a:lnTo>
                  <a:pt x="5659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856720" cy="52056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2700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统计教师工作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2124000" y="754560"/>
            <a:ext cx="1368360" cy="368640"/>
          </a:xfrm>
          <a:prstGeom prst="wedgeRectCallout">
            <a:avLst>
              <a:gd name="adj1" fmla="val 10310"/>
              <a:gd name="adj2" fmla="val 43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修改各课程的分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932360" y="330480"/>
            <a:ext cx="1727280" cy="917280"/>
          </a:xfrm>
          <a:prstGeom prst="wedgeRectCallout">
            <a:avLst>
              <a:gd name="adj1" fmla="val 168000"/>
              <a:gd name="adj2" fmla="val 365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工作量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6732720" y="611640"/>
            <a:ext cx="1079280" cy="368640"/>
          </a:xfrm>
          <a:prstGeom prst="wedgeRectCallout">
            <a:avLst>
              <a:gd name="adj1" fmla="val 97615"/>
              <a:gd name="adj2" fmla="val 590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全校总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1"/>
          <p:cNvSpPr/>
          <p:nvPr/>
        </p:nvSpPr>
        <p:spPr>
          <a:xfrm>
            <a:off x="5148360" y="4440600"/>
            <a:ext cx="3457440" cy="368640"/>
          </a:xfrm>
          <a:prstGeom prst="wedgeRectCallout">
            <a:avLst>
              <a:gd name="adj1" fmla="val -78370"/>
              <a:gd name="adj2" fmla="val 1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输入或粘贴“其他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7308720" y="5147640"/>
            <a:ext cx="1619280" cy="917280"/>
          </a:xfrm>
          <a:prstGeom prst="wedgeRectCallout">
            <a:avLst>
              <a:gd name="adj1" fmla="val 26259"/>
              <a:gd name="adj2" fmla="val -140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统计”按钮右边的下拉箭头，选择“分津贴和人津贴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3"/>
          <p:cNvSpPr/>
          <p:nvPr/>
        </p:nvSpPr>
        <p:spPr>
          <a:xfrm>
            <a:off x="5219640" y="5421960"/>
            <a:ext cx="2016360" cy="368640"/>
          </a:xfrm>
          <a:prstGeom prst="wedgeRectCallout">
            <a:avLst>
              <a:gd name="adj1" fmla="val -216296"/>
              <a:gd name="adj2" fmla="val -1594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某教师，在下面绿色框出现该教师的工作量分和津贴的计算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4"/>
          <p:cNvSpPr/>
          <p:nvPr/>
        </p:nvSpPr>
        <p:spPr>
          <a:xfrm>
            <a:off x="179280" y="394560"/>
            <a:ext cx="1800360" cy="642600"/>
          </a:xfrm>
          <a:prstGeom prst="wedgeRectCallout">
            <a:avLst>
              <a:gd name="adj1" fmla="val 4837"/>
              <a:gd name="adj2" fmla="val 1815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导出”按钮右边的下拉箭头，选择需要导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/>
          <p:cNvSpPr/>
          <p:nvPr/>
        </p:nvSpPr>
        <p:spPr>
          <a:xfrm>
            <a:off x="8101080" y="11592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6">
            <a:hlinkClick r:id="" action="ppaction://hlinkshowjump?jump=nextslide"/>
          </p:cNvPr>
          <p:cNvSpPr/>
          <p:nvPr/>
        </p:nvSpPr>
        <p:spPr>
          <a:xfrm>
            <a:off x="8101080" y="899640"/>
            <a:ext cx="792000" cy="423000"/>
          </a:xfrm>
          <a:custGeom>
            <a:avLst/>
            <a:gdLst>
              <a:gd name="textAreaLeft" fmla="*/ 27360 w 792000"/>
              <a:gd name="textAreaRight" fmla="*/ 764640 w 792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27" h="21600">
                <a:moveTo>
                  <a:pt x="0" y="0"/>
                </a:moveTo>
                <a:lnTo>
                  <a:pt x="40427" y="0"/>
                </a:lnTo>
                <a:lnTo>
                  <a:pt x="40427" y="21600"/>
                </a:lnTo>
                <a:lnTo>
                  <a:pt x="0" y="21600"/>
                </a:lnTo>
                <a:close/>
              </a:path>
              <a:path fill="lightenLess" w="40427" h="21600">
                <a:moveTo>
                  <a:pt x="0" y="0"/>
                </a:moveTo>
                <a:lnTo>
                  <a:pt x="40427" y="0"/>
                </a:lnTo>
                <a:lnTo>
                  <a:pt x="39027" y="1400"/>
                </a:lnTo>
                <a:lnTo>
                  <a:pt x="1400" y="1400"/>
                </a:lnTo>
                <a:close/>
              </a:path>
              <a:path fill="darken" w="40427" h="21600">
                <a:moveTo>
                  <a:pt x="40427" y="0"/>
                </a:moveTo>
                <a:lnTo>
                  <a:pt x="40427" y="21600"/>
                </a:lnTo>
                <a:lnTo>
                  <a:pt x="39027" y="20200"/>
                </a:lnTo>
                <a:lnTo>
                  <a:pt x="39027" y="1400"/>
                </a:lnTo>
                <a:close/>
              </a:path>
              <a:path fill="darkenLess" w="40427" h="21600">
                <a:moveTo>
                  <a:pt x="4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27" y="20200"/>
                </a:lnTo>
                <a:close/>
              </a:path>
              <a:path fill="lighten" w="4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27" h="21600">
                <a:moveTo>
                  <a:pt x="13207" y="3794"/>
                </a:moveTo>
                <a:lnTo>
                  <a:pt x="27220" y="10800"/>
                </a:lnTo>
                <a:lnTo>
                  <a:pt x="132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3564000" y="617400"/>
            <a:ext cx="1295280" cy="642600"/>
          </a:xfrm>
          <a:prstGeom prst="wedgeRectCallout">
            <a:avLst>
              <a:gd name="adj1" fmla="val 285287"/>
              <a:gd name="adj2" fmla="val 451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显示教师任课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9"/>
          <p:cNvSpPr/>
          <p:nvPr/>
        </p:nvSpPr>
        <p:spPr>
          <a:xfrm>
            <a:off x="3635280" y="1914480"/>
            <a:ext cx="1584360" cy="917280"/>
          </a:xfrm>
          <a:prstGeom prst="wedgeRectCallout">
            <a:avLst>
              <a:gd name="adj1" fmla="val 92476"/>
              <a:gd name="adj2" fmla="val 158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“每多一课头增加的分”和“班主任增加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1">
            <a:hlinkClick r:id="" action="ppaction://hlinkshowjump?jump=previousslide"/>
          </p:cNvPr>
          <p:cNvSpPr/>
          <p:nvPr/>
        </p:nvSpPr>
        <p:spPr>
          <a:xfrm>
            <a:off x="8101080" y="549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2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22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01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监考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6"/>
          <p:cNvSpPr/>
          <p:nvPr/>
        </p:nvSpPr>
        <p:spPr>
          <a:xfrm>
            <a:off x="2484360" y="467280"/>
            <a:ext cx="1368360" cy="368640"/>
          </a:xfrm>
          <a:prstGeom prst="wedgeRectCallout">
            <a:avLst>
              <a:gd name="adj1" fmla="val -153337"/>
              <a:gd name="adj2" fmla="val 52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或选择考试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05310"/>
              <a:gd name="adj2" fmla="val 57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5651640" y="47628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72" h="21600">
                <a:moveTo>
                  <a:pt x="20030" y="10800"/>
                </a:moveTo>
                <a:lnTo>
                  <a:pt x="34042" y="3794"/>
                </a:lnTo>
                <a:lnTo>
                  <a:pt x="340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9"/>
          <p:cNvSpPr/>
          <p:nvPr/>
        </p:nvSpPr>
        <p:spPr>
          <a:xfrm>
            <a:off x="7812000" y="468000"/>
            <a:ext cx="949320" cy="423000"/>
          </a:xfrm>
          <a:custGeom>
            <a:avLst/>
            <a:gdLst>
              <a:gd name="textAreaLeft" fmla="*/ 27360 w 949320"/>
              <a:gd name="textAreaRight" fmla="*/ 921960 w 9493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8453" h="21600">
                <a:moveTo>
                  <a:pt x="0" y="0"/>
                </a:moveTo>
                <a:lnTo>
                  <a:pt x="48453" y="0"/>
                </a:lnTo>
                <a:lnTo>
                  <a:pt x="48453" y="21600"/>
                </a:lnTo>
                <a:lnTo>
                  <a:pt x="0" y="21600"/>
                </a:lnTo>
                <a:close/>
              </a:path>
              <a:path fill="lightenLess" w="48453" h="21600">
                <a:moveTo>
                  <a:pt x="0" y="0"/>
                </a:moveTo>
                <a:lnTo>
                  <a:pt x="48453" y="0"/>
                </a:lnTo>
                <a:lnTo>
                  <a:pt x="47053" y="1400"/>
                </a:lnTo>
                <a:lnTo>
                  <a:pt x="1400" y="1400"/>
                </a:lnTo>
                <a:close/>
              </a:path>
              <a:path fill="darken" w="48453" h="21600">
                <a:moveTo>
                  <a:pt x="48453" y="0"/>
                </a:moveTo>
                <a:lnTo>
                  <a:pt x="48453" y="21600"/>
                </a:lnTo>
                <a:lnTo>
                  <a:pt x="47053" y="20200"/>
                </a:lnTo>
                <a:lnTo>
                  <a:pt x="47053" y="1400"/>
                </a:lnTo>
                <a:close/>
              </a:path>
              <a:path fill="darkenLess" w="48453" h="21600">
                <a:moveTo>
                  <a:pt x="48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53" y="20200"/>
                </a:lnTo>
                <a:close/>
              </a:path>
              <a:path fill="lighten" w="48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53" h="21600">
                <a:moveTo>
                  <a:pt x="17220" y="3794"/>
                </a:moveTo>
                <a:lnTo>
                  <a:pt x="31233" y="10800"/>
                </a:lnTo>
                <a:lnTo>
                  <a:pt x="172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>
            <a:hlinkClick r:id="" action="ppaction://hlinkshowjump?jump=previousslide"/>
          </p:cNvPr>
          <p:cNvSpPr/>
          <p:nvPr/>
        </p:nvSpPr>
        <p:spPr>
          <a:xfrm>
            <a:off x="6804000" y="47628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3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3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233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编排工作人员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2484360" y="401400"/>
            <a:ext cx="1368360" cy="368640"/>
          </a:xfrm>
          <a:prstGeom prst="wedgeRectCallout">
            <a:avLst>
              <a:gd name="adj1" fmla="val -174694"/>
              <a:gd name="adj2" fmla="val 705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新的项目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3995640" y="401400"/>
            <a:ext cx="1368360" cy="368640"/>
          </a:xfrm>
          <a:prstGeom prst="wedgeRectCallout">
            <a:avLst>
              <a:gd name="adj1" fmla="val -122037"/>
              <a:gd name="adj2" fmla="val 48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5508720" y="401400"/>
            <a:ext cx="1368360" cy="368640"/>
          </a:xfrm>
          <a:prstGeom prst="wedgeRectCallout">
            <a:avLst>
              <a:gd name="adj1" fmla="val -60412"/>
              <a:gd name="adj2" fmla="val 139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020000" y="401400"/>
            <a:ext cx="1368360" cy="368640"/>
          </a:xfrm>
          <a:prstGeom prst="wedgeRectCallout">
            <a:avLst>
              <a:gd name="adj1" fmla="val -4078"/>
              <a:gd name="adj2" fmla="val 4734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修改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8172360" y="479736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0">
            <a:hlinkClick r:id="" action="ppaction://hlinkshowjump?jump=nextslide"/>
          </p:cNvPr>
          <p:cNvSpPr/>
          <p:nvPr/>
        </p:nvSpPr>
        <p:spPr>
          <a:xfrm>
            <a:off x="8172360" y="612900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1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8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780320" cy="54406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编排监考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2268360" y="467280"/>
            <a:ext cx="935280" cy="368640"/>
          </a:xfrm>
          <a:prstGeom prst="wedgeRectCallout">
            <a:avLst>
              <a:gd name="adj1" fmla="val -114828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考试总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276720" y="467280"/>
            <a:ext cx="1008000" cy="368640"/>
          </a:xfrm>
          <a:prstGeom prst="wedgeRectCallout">
            <a:avLst>
              <a:gd name="adj1" fmla="val -138500"/>
              <a:gd name="adj2" fmla="val 44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全校总考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4356000" y="467280"/>
            <a:ext cx="1008000" cy="368640"/>
          </a:xfrm>
          <a:prstGeom prst="wedgeRectCallout">
            <a:avLst>
              <a:gd name="adj1" fmla="val -175023"/>
              <a:gd name="adj2" fmla="val 4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考试总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5364000" y="330120"/>
            <a:ext cx="1368720" cy="642600"/>
          </a:xfrm>
          <a:prstGeom prst="wedgeRectCallout">
            <a:avLst>
              <a:gd name="adj1" fmla="val -172902"/>
              <a:gd name="adj2" fmla="val 2625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考试总场次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6732720" y="467280"/>
            <a:ext cx="1800000" cy="368640"/>
          </a:xfrm>
          <a:prstGeom prst="wedgeRectCallout">
            <a:avLst>
              <a:gd name="adj1" fmla="val 166"/>
              <a:gd name="adj2" fmla="val 4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教师需监考的场次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932360" y="1482480"/>
            <a:ext cx="1295280" cy="368640"/>
          </a:xfrm>
          <a:prstGeom prst="wedgeRectCallout">
            <a:avLst>
              <a:gd name="adj1" fmla="val -272282"/>
              <a:gd name="adj2" fmla="val 27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编排第几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6300720" y="1482480"/>
            <a:ext cx="1295640" cy="368640"/>
          </a:xfrm>
          <a:prstGeom prst="wedgeRectCallout">
            <a:avLst>
              <a:gd name="adj1" fmla="val -239083"/>
              <a:gd name="adj2" fmla="val 262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日期和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2"/>
          <p:cNvSpPr/>
          <p:nvPr/>
        </p:nvSpPr>
        <p:spPr>
          <a:xfrm>
            <a:off x="8028000" y="3765960"/>
            <a:ext cx="934920" cy="368640"/>
          </a:xfrm>
          <a:prstGeom prst="wedgeRectCallout">
            <a:avLst>
              <a:gd name="adj1" fmla="val -676287"/>
              <a:gd name="adj2" fmla="val -273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和考生有关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>
            <a:off x="8028000" y="4938480"/>
            <a:ext cx="1116000" cy="642600"/>
          </a:xfrm>
          <a:prstGeom prst="wedgeRectCallout">
            <a:avLst>
              <a:gd name="adj1" fmla="val -411879"/>
              <a:gd name="adj2" fmla="val -297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自动编排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4"/>
          <p:cNvSpPr/>
          <p:nvPr/>
        </p:nvSpPr>
        <p:spPr>
          <a:xfrm>
            <a:off x="8028000" y="5946480"/>
            <a:ext cx="934920" cy="642600"/>
          </a:xfrm>
          <a:prstGeom prst="wedgeRectCallout">
            <a:avLst>
              <a:gd name="adj1" fmla="val -70703"/>
              <a:gd name="adj2" fmla="val -12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>
            <a:off x="8172360" y="119700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>
            <a:hlinkClick r:id="" action="ppaction://hlinkshowjump?jump=nextslide"/>
          </p:cNvPr>
          <p:cNvSpPr/>
          <p:nvPr/>
        </p:nvSpPr>
        <p:spPr>
          <a:xfrm>
            <a:off x="8172360" y="2550600"/>
            <a:ext cx="709560" cy="423000"/>
          </a:xfrm>
          <a:custGeom>
            <a:avLst/>
            <a:gdLst>
              <a:gd name="textAreaLeft" fmla="*/ 27360 w 709560"/>
              <a:gd name="textAreaRight" fmla="*/ 682200 w 7095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6220" h="21600">
                <a:moveTo>
                  <a:pt x="0" y="0"/>
                </a:moveTo>
                <a:lnTo>
                  <a:pt x="36220" y="0"/>
                </a:lnTo>
                <a:lnTo>
                  <a:pt x="36220" y="21600"/>
                </a:lnTo>
                <a:lnTo>
                  <a:pt x="0" y="21600"/>
                </a:lnTo>
                <a:close/>
              </a:path>
              <a:path fill="lightenLess" w="36220" h="21600">
                <a:moveTo>
                  <a:pt x="0" y="0"/>
                </a:moveTo>
                <a:lnTo>
                  <a:pt x="36220" y="0"/>
                </a:lnTo>
                <a:lnTo>
                  <a:pt x="34820" y="1400"/>
                </a:lnTo>
                <a:lnTo>
                  <a:pt x="1400" y="1400"/>
                </a:lnTo>
                <a:close/>
              </a:path>
              <a:path fill="darken" w="36220" h="21600">
                <a:moveTo>
                  <a:pt x="36220" y="0"/>
                </a:moveTo>
                <a:lnTo>
                  <a:pt x="36220" y="21600"/>
                </a:lnTo>
                <a:lnTo>
                  <a:pt x="34820" y="20200"/>
                </a:lnTo>
                <a:lnTo>
                  <a:pt x="34820" y="1400"/>
                </a:lnTo>
                <a:close/>
              </a:path>
              <a:path fill="darkenLess" w="36220" h="21600">
                <a:moveTo>
                  <a:pt x="36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20" y="20200"/>
                </a:lnTo>
                <a:close/>
              </a:path>
              <a:path fill="lighten" w="36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20" h="21600">
                <a:moveTo>
                  <a:pt x="11104" y="3794"/>
                </a:moveTo>
                <a:lnTo>
                  <a:pt x="25117" y="10800"/>
                </a:lnTo>
                <a:lnTo>
                  <a:pt x="111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>
            <a:hlinkClick r:id="" action="ppaction://hlinkshowjump?jump=previousslide"/>
          </p:cNvPr>
          <p:cNvSpPr/>
          <p:nvPr/>
        </p:nvSpPr>
        <p:spPr>
          <a:xfrm>
            <a:off x="8172360" y="191628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3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3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3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9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3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0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1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3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1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949320" y="1924200"/>
            <a:ext cx="8777160" cy="5601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菜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0" y="285840"/>
            <a:ext cx="1333440" cy="1638360"/>
          </a:xfrm>
          <a:prstGeom prst="wedgeRoundRectCallout">
            <a:avLst>
              <a:gd name="adj1" fmla="val 37666"/>
              <a:gd name="adj2" fmla="val 95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290600" y="-9360"/>
            <a:ext cx="879480" cy="1701720"/>
          </a:xfrm>
          <a:prstGeom prst="wedgeRoundRectCallout">
            <a:avLst>
              <a:gd name="adj1" fmla="val -11416"/>
              <a:gd name="adj2" fmla="val 1020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7042320" y="243000"/>
            <a:ext cx="954000" cy="1557360"/>
          </a:xfrm>
          <a:prstGeom prst="wedgeRoundRectCallout">
            <a:avLst>
              <a:gd name="adj1" fmla="val -353592"/>
              <a:gd name="adj2" fmla="val 9493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选项”按钮，修改系统选项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7996320" y="108000"/>
            <a:ext cx="1147680" cy="1584360"/>
          </a:xfrm>
          <a:prstGeom prst="wedgeRoundRectCallout">
            <a:avLst>
              <a:gd name="adj1" fmla="val 33898"/>
              <a:gd name="adj2" fmla="val 10102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帮助”按钮右边的下拉箭头，看版本信息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3819600" y="15840"/>
            <a:ext cx="1359000" cy="1784520"/>
          </a:xfrm>
          <a:prstGeom prst="wedgeRoundRectCallout">
            <a:avLst>
              <a:gd name="adj1" fmla="val -149814"/>
              <a:gd name="adj2" fmla="val 92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还原”按钮，还原损坏的排课数据文件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7"/>
          <p:cNvSpPr/>
          <p:nvPr/>
        </p:nvSpPr>
        <p:spPr>
          <a:xfrm>
            <a:off x="2259000" y="-47520"/>
            <a:ext cx="1359000" cy="1778040"/>
          </a:xfrm>
          <a:prstGeom prst="wedgeRoundRectCallout">
            <a:avLst>
              <a:gd name="adj1" fmla="val -64694"/>
              <a:gd name="adj2" fmla="val 103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另存”按钮，保存备份的排课数据文件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29080" y="223920"/>
            <a:ext cx="1595520" cy="1700280"/>
          </a:xfrm>
          <a:prstGeom prst="wedgeRoundRectCallout">
            <a:avLst>
              <a:gd name="adj1" fmla="val -209490"/>
              <a:gd name="adj2" fmla="val 87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打开某排课文件后按“复制”按钮，复制排课数据文件供传送给技术咨询部检查错误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780320" cy="54403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2233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排监考表</a:t>
            </a: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考场考号互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539640" y="5225760"/>
            <a:ext cx="935280" cy="368640"/>
          </a:xfrm>
          <a:prstGeom prst="wedgeRectCallout">
            <a:avLst>
              <a:gd name="adj1" fmla="val 118407"/>
              <a:gd name="adj2" fmla="val -49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2484360" y="330120"/>
            <a:ext cx="1584360" cy="642600"/>
          </a:xfrm>
          <a:prstGeom prst="wedgeRectCallout">
            <a:avLst>
              <a:gd name="adj1" fmla="val -46208"/>
              <a:gd name="adj2" fmla="val 28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号”按钮和“导出考号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4356000" y="401400"/>
            <a:ext cx="1008000" cy="368640"/>
          </a:xfrm>
          <a:prstGeom prst="wedgeRectCallout">
            <a:avLst>
              <a:gd name="adj1" fmla="val -33328"/>
              <a:gd name="adj2" fmla="val 567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考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9"/>
          <p:cNvSpPr/>
          <p:nvPr/>
        </p:nvSpPr>
        <p:spPr>
          <a:xfrm>
            <a:off x="5651640" y="330120"/>
            <a:ext cx="1584360" cy="642600"/>
          </a:xfrm>
          <a:prstGeom prst="wedgeRectCallout">
            <a:avLst>
              <a:gd name="adj1" fmla="val -56199"/>
              <a:gd name="adj2" fmla="val 321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考场”按钮和“导出考场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8244000" y="69228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>
            <a:hlinkClick r:id="" action="ppaction://hlinkshowjump?jump=nextslide"/>
          </p:cNvPr>
          <p:cNvSpPr/>
          <p:nvPr/>
        </p:nvSpPr>
        <p:spPr>
          <a:xfrm>
            <a:off x="8244000" y="2268720"/>
            <a:ext cx="809640" cy="423000"/>
          </a:xfrm>
          <a:custGeom>
            <a:avLst/>
            <a:gdLst>
              <a:gd name="textAreaLeft" fmla="*/ 27360 w 809640"/>
              <a:gd name="textAreaRight" fmla="*/ 782280 w 80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1327" h="21600">
                <a:moveTo>
                  <a:pt x="0" y="0"/>
                </a:moveTo>
                <a:lnTo>
                  <a:pt x="41327" y="0"/>
                </a:lnTo>
                <a:lnTo>
                  <a:pt x="41327" y="21600"/>
                </a:lnTo>
                <a:lnTo>
                  <a:pt x="0" y="21600"/>
                </a:lnTo>
                <a:close/>
              </a:path>
              <a:path fill="lightenLess" w="41327" h="21600">
                <a:moveTo>
                  <a:pt x="0" y="0"/>
                </a:moveTo>
                <a:lnTo>
                  <a:pt x="41327" y="0"/>
                </a:lnTo>
                <a:lnTo>
                  <a:pt x="39927" y="1400"/>
                </a:lnTo>
                <a:lnTo>
                  <a:pt x="1400" y="1400"/>
                </a:lnTo>
                <a:close/>
              </a:path>
              <a:path fill="darken" w="41327" h="21600">
                <a:moveTo>
                  <a:pt x="41327" y="0"/>
                </a:moveTo>
                <a:lnTo>
                  <a:pt x="41327" y="21600"/>
                </a:lnTo>
                <a:lnTo>
                  <a:pt x="39927" y="20200"/>
                </a:lnTo>
                <a:lnTo>
                  <a:pt x="39927" y="1400"/>
                </a:lnTo>
                <a:close/>
              </a:path>
              <a:path fill="darkenLess" w="41327" h="21600">
                <a:moveTo>
                  <a:pt x="41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27" y="20200"/>
                </a:lnTo>
                <a:close/>
              </a:path>
              <a:path fill="lighten" w="41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27" h="21600">
                <a:moveTo>
                  <a:pt x="13657" y="3794"/>
                </a:moveTo>
                <a:lnTo>
                  <a:pt x="27670" y="10800"/>
                </a:lnTo>
                <a:lnTo>
                  <a:pt x="1365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>
            <a:hlinkClick r:id="" action="ppaction://hlinkshowjump?jump=previousslide"/>
          </p:cNvPr>
          <p:cNvSpPr/>
          <p:nvPr/>
        </p:nvSpPr>
        <p:spPr>
          <a:xfrm>
            <a:off x="8244000" y="148428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3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34304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37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统计学生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2700360" y="26028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计分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4859280" y="436572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9">
            <a:hlinkClick r:id="" action="ppaction://hlinkshowjump?jump=nextslide"/>
          </p:cNvPr>
          <p:cNvSpPr/>
          <p:nvPr/>
        </p:nvSpPr>
        <p:spPr>
          <a:xfrm>
            <a:off x="7524720" y="435744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" action="ppaction://hlinkshowjump?jump=previousslide"/>
          </p:cNvPr>
          <p:cNvSpPr/>
          <p:nvPr/>
        </p:nvSpPr>
        <p:spPr>
          <a:xfrm>
            <a:off x="6227640" y="436572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拟班级成绩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30568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5"/>
          <p:cNvSpPr/>
          <p:nvPr/>
        </p:nvSpPr>
        <p:spPr>
          <a:xfrm>
            <a:off x="478800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>
            <a:hlinkClick r:id="" action="ppaction://hlinkshowjump?jump=nextslide"/>
          </p:cNvPr>
          <p:cNvSpPr/>
          <p:nvPr/>
        </p:nvSpPr>
        <p:spPr>
          <a:xfrm>
            <a:off x="759636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年级成绩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416720" cy="594036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/>
          <p:cNvSpPr/>
          <p:nvPr/>
        </p:nvSpPr>
        <p:spPr>
          <a:xfrm>
            <a:off x="4859280" y="18900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18" h="21600">
                <a:moveTo>
                  <a:pt x="23603" y="10800"/>
                </a:moveTo>
                <a:lnTo>
                  <a:pt x="37615" y="3794"/>
                </a:lnTo>
                <a:lnTo>
                  <a:pt x="376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>
            <a:hlinkClick r:id="" action="ppaction://hlinkshowjump?jump=nextslide"/>
          </p:cNvPr>
          <p:cNvSpPr/>
          <p:nvPr/>
        </p:nvSpPr>
        <p:spPr>
          <a:xfrm>
            <a:off x="7524720" y="18072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>
            <a:hlinkClick r:id="" action="ppaction://hlinkshowjump?jump=previousslide"/>
          </p:cNvPr>
          <p:cNvSpPr/>
          <p:nvPr/>
        </p:nvSpPr>
        <p:spPr>
          <a:xfrm>
            <a:off x="6227640" y="189000"/>
            <a:ext cx="1152720" cy="43164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54" h="21600">
                <a:moveTo>
                  <a:pt x="0" y="0"/>
                </a:moveTo>
                <a:lnTo>
                  <a:pt x="57654" y="0"/>
                </a:lnTo>
                <a:lnTo>
                  <a:pt x="57654" y="21600"/>
                </a:lnTo>
                <a:lnTo>
                  <a:pt x="0" y="21600"/>
                </a:lnTo>
                <a:close/>
              </a:path>
              <a:path fill="lightenLess" w="57654" h="21600">
                <a:moveTo>
                  <a:pt x="0" y="0"/>
                </a:moveTo>
                <a:lnTo>
                  <a:pt x="57654" y="0"/>
                </a:lnTo>
                <a:lnTo>
                  <a:pt x="56254" y="1400"/>
                </a:lnTo>
                <a:lnTo>
                  <a:pt x="1400" y="1400"/>
                </a:lnTo>
                <a:close/>
              </a:path>
              <a:path fill="darken" w="57654" h="21600">
                <a:moveTo>
                  <a:pt x="57654" y="0"/>
                </a:moveTo>
                <a:lnTo>
                  <a:pt x="57654" y="21600"/>
                </a:lnTo>
                <a:lnTo>
                  <a:pt x="56254" y="20200"/>
                </a:lnTo>
                <a:lnTo>
                  <a:pt x="56254" y="1400"/>
                </a:lnTo>
                <a:close/>
              </a:path>
              <a:path fill="darkenLess" w="57654" h="21600">
                <a:moveTo>
                  <a:pt x="57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54" y="20200"/>
                </a:lnTo>
                <a:close/>
              </a:path>
              <a:path fill="lighten" w="57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54" h="21600">
                <a:moveTo>
                  <a:pt x="21821" y="10800"/>
                </a:moveTo>
                <a:lnTo>
                  <a:pt x="35833" y="3794"/>
                </a:lnTo>
                <a:lnTo>
                  <a:pt x="358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266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分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2987640" y="40464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主窗体按“分班”按钮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5940360" y="404640"/>
            <a:ext cx="1224000" cy="43200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67" h="21600">
                <a:moveTo>
                  <a:pt x="0" y="0"/>
                </a:moveTo>
                <a:lnTo>
                  <a:pt x="61167" y="0"/>
                </a:lnTo>
                <a:lnTo>
                  <a:pt x="61167" y="21600"/>
                </a:lnTo>
                <a:lnTo>
                  <a:pt x="0" y="21600"/>
                </a:lnTo>
                <a:close/>
              </a:path>
              <a:path fill="lightenLess" w="61167" h="21600">
                <a:moveTo>
                  <a:pt x="0" y="0"/>
                </a:moveTo>
                <a:lnTo>
                  <a:pt x="61167" y="0"/>
                </a:lnTo>
                <a:lnTo>
                  <a:pt x="59767" y="1400"/>
                </a:lnTo>
                <a:lnTo>
                  <a:pt x="1400" y="1400"/>
                </a:lnTo>
                <a:close/>
              </a:path>
              <a:path fill="darken" w="61167" h="21600">
                <a:moveTo>
                  <a:pt x="61167" y="0"/>
                </a:moveTo>
                <a:lnTo>
                  <a:pt x="61167" y="21600"/>
                </a:lnTo>
                <a:lnTo>
                  <a:pt x="59767" y="20200"/>
                </a:lnTo>
                <a:lnTo>
                  <a:pt x="59767" y="1400"/>
                </a:lnTo>
                <a:close/>
              </a:path>
              <a:path fill="darkenLess" w="61167" h="21600">
                <a:moveTo>
                  <a:pt x="6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7" y="20200"/>
                </a:lnTo>
                <a:close/>
              </a:path>
              <a:path fill="lighten" w="6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7" h="21600">
                <a:moveTo>
                  <a:pt x="23577" y="10800"/>
                </a:moveTo>
                <a:lnTo>
                  <a:pt x="37590" y="3794"/>
                </a:lnTo>
                <a:lnTo>
                  <a:pt x="3759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">
            <a:hlinkClick r:id="" action="ppaction://hlinkshowjump?jump=nextslide"/>
          </p:cNvPr>
          <p:cNvSpPr/>
          <p:nvPr/>
        </p:nvSpPr>
        <p:spPr>
          <a:xfrm>
            <a:off x="7956720" y="396360"/>
            <a:ext cx="798480" cy="423000"/>
          </a:xfrm>
          <a:custGeom>
            <a:avLst/>
            <a:gdLst>
              <a:gd name="textAreaLeft" fmla="*/ 27360 w 798480"/>
              <a:gd name="textAreaRight" fmla="*/ 771120 w 798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757" h="21600">
                <a:moveTo>
                  <a:pt x="0" y="0"/>
                </a:moveTo>
                <a:lnTo>
                  <a:pt x="40757" y="0"/>
                </a:lnTo>
                <a:lnTo>
                  <a:pt x="40757" y="21600"/>
                </a:lnTo>
                <a:lnTo>
                  <a:pt x="0" y="21600"/>
                </a:lnTo>
                <a:close/>
              </a:path>
              <a:path fill="lightenLess" w="40757" h="21600">
                <a:moveTo>
                  <a:pt x="0" y="0"/>
                </a:moveTo>
                <a:lnTo>
                  <a:pt x="40757" y="0"/>
                </a:lnTo>
                <a:lnTo>
                  <a:pt x="39357" y="1400"/>
                </a:lnTo>
                <a:lnTo>
                  <a:pt x="1400" y="1400"/>
                </a:lnTo>
                <a:close/>
              </a:path>
              <a:path fill="darken" w="40757" h="21600">
                <a:moveTo>
                  <a:pt x="40757" y="0"/>
                </a:moveTo>
                <a:lnTo>
                  <a:pt x="40757" y="21600"/>
                </a:lnTo>
                <a:lnTo>
                  <a:pt x="39357" y="20200"/>
                </a:lnTo>
                <a:lnTo>
                  <a:pt x="39357" y="1400"/>
                </a:lnTo>
                <a:close/>
              </a:path>
              <a:path fill="darkenLess" w="40757" h="21600">
                <a:moveTo>
                  <a:pt x="40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7" y="20200"/>
                </a:lnTo>
                <a:close/>
              </a:path>
              <a:path fill="lighten" w="40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7" h="21600">
                <a:moveTo>
                  <a:pt x="13372" y="3794"/>
                </a:moveTo>
                <a:lnTo>
                  <a:pt x="27385" y="10800"/>
                </a:lnTo>
                <a:lnTo>
                  <a:pt x="1337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>
            <a:hlinkClick r:id="" action="ppaction://hlinkshowjump?jump=previousslide"/>
          </p:cNvPr>
          <p:cNvSpPr/>
          <p:nvPr/>
        </p:nvSpPr>
        <p:spPr>
          <a:xfrm>
            <a:off x="7164360" y="404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10800"/>
                </a:moveTo>
                <a:lnTo>
                  <a:pt x="26742" y="3794"/>
                </a:lnTo>
                <a:lnTo>
                  <a:pt x="2674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543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拟分班后的年级学生表（兼顾成绩和性别，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班是重点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388120" cy="556596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6"/>
          <p:cNvSpPr/>
          <p:nvPr/>
        </p:nvSpPr>
        <p:spPr>
          <a:xfrm>
            <a:off x="7596360" y="189000"/>
            <a:ext cx="1223640" cy="43164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00" h="21600">
                <a:moveTo>
                  <a:pt x="0" y="0"/>
                </a:moveTo>
                <a:lnTo>
                  <a:pt x="61200" y="0"/>
                </a:lnTo>
                <a:lnTo>
                  <a:pt x="61200" y="21600"/>
                </a:lnTo>
                <a:lnTo>
                  <a:pt x="0" y="21600"/>
                </a:lnTo>
                <a:close/>
              </a:path>
              <a:path fill="lightenLess" w="61200" h="21600">
                <a:moveTo>
                  <a:pt x="0" y="0"/>
                </a:moveTo>
                <a:lnTo>
                  <a:pt x="61200" y="0"/>
                </a:lnTo>
                <a:lnTo>
                  <a:pt x="59800" y="1400"/>
                </a:lnTo>
                <a:lnTo>
                  <a:pt x="1400" y="1400"/>
                </a:lnTo>
                <a:close/>
              </a:path>
              <a:path fill="darken" w="61200" h="21600">
                <a:moveTo>
                  <a:pt x="61200" y="0"/>
                </a:moveTo>
                <a:lnTo>
                  <a:pt x="61200" y="21600"/>
                </a:lnTo>
                <a:lnTo>
                  <a:pt x="59800" y="20200"/>
                </a:lnTo>
                <a:lnTo>
                  <a:pt x="59800" y="1400"/>
                </a:lnTo>
                <a:close/>
              </a:path>
              <a:path fill="darkenLess" w="61200" h="21600">
                <a:moveTo>
                  <a:pt x="6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0" y="20200"/>
                </a:lnTo>
                <a:close/>
              </a:path>
              <a:path fill="lighten" w="6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00" h="21600">
                <a:moveTo>
                  <a:pt x="23594" y="10800"/>
                </a:moveTo>
                <a:lnTo>
                  <a:pt x="37606" y="3794"/>
                </a:lnTo>
                <a:lnTo>
                  <a:pt x="376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7">
            <a:hlinkClick r:id="" action="ppaction://hlinkshowjump?jump=nextslide"/>
          </p:cNvPr>
          <p:cNvSpPr/>
          <p:nvPr/>
        </p:nvSpPr>
        <p:spPr>
          <a:xfrm>
            <a:off x="7596360" y="1333080"/>
            <a:ext cx="1241280" cy="423000"/>
          </a:xfrm>
          <a:custGeom>
            <a:avLst/>
            <a:gdLst>
              <a:gd name="textAreaLeft" fmla="*/ 27360 w 1241280"/>
              <a:gd name="textAreaRight" fmla="*/ 1213920 w 12412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3349" h="21600">
                <a:moveTo>
                  <a:pt x="0" y="0"/>
                </a:moveTo>
                <a:lnTo>
                  <a:pt x="63349" y="0"/>
                </a:lnTo>
                <a:lnTo>
                  <a:pt x="63349" y="21600"/>
                </a:lnTo>
                <a:lnTo>
                  <a:pt x="0" y="21600"/>
                </a:lnTo>
                <a:close/>
              </a:path>
              <a:path fill="lightenLess" w="63349" h="21600">
                <a:moveTo>
                  <a:pt x="0" y="0"/>
                </a:moveTo>
                <a:lnTo>
                  <a:pt x="63349" y="0"/>
                </a:lnTo>
                <a:lnTo>
                  <a:pt x="61949" y="1400"/>
                </a:lnTo>
                <a:lnTo>
                  <a:pt x="1400" y="1400"/>
                </a:lnTo>
                <a:close/>
              </a:path>
              <a:path fill="darken" w="63349" h="21600">
                <a:moveTo>
                  <a:pt x="63349" y="0"/>
                </a:moveTo>
                <a:lnTo>
                  <a:pt x="63349" y="21600"/>
                </a:lnTo>
                <a:lnTo>
                  <a:pt x="61949" y="20200"/>
                </a:lnTo>
                <a:lnTo>
                  <a:pt x="61949" y="1400"/>
                </a:lnTo>
                <a:close/>
              </a:path>
              <a:path fill="darkenLess" w="63349" h="21600">
                <a:moveTo>
                  <a:pt x="6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9" y="20200"/>
                </a:lnTo>
                <a:close/>
              </a:path>
              <a:path fill="lighten" w="6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49" h="21600">
                <a:moveTo>
                  <a:pt x="24668" y="3794"/>
                </a:moveTo>
                <a:lnTo>
                  <a:pt x="38681" y="10800"/>
                </a:lnTo>
                <a:lnTo>
                  <a:pt x="246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8">
            <a:hlinkClick r:id="" action="ppaction://hlinkshowjump?jump=previousslide"/>
          </p:cNvPr>
          <p:cNvSpPr/>
          <p:nvPr/>
        </p:nvSpPr>
        <p:spPr>
          <a:xfrm>
            <a:off x="7596360" y="765000"/>
            <a:ext cx="1223640" cy="43200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1149" h="21600">
                <a:moveTo>
                  <a:pt x="0" y="0"/>
                </a:moveTo>
                <a:lnTo>
                  <a:pt x="61149" y="0"/>
                </a:lnTo>
                <a:lnTo>
                  <a:pt x="61149" y="21600"/>
                </a:lnTo>
                <a:lnTo>
                  <a:pt x="0" y="21600"/>
                </a:lnTo>
                <a:close/>
              </a:path>
              <a:path fill="lightenLess" w="61149" h="21600">
                <a:moveTo>
                  <a:pt x="0" y="0"/>
                </a:moveTo>
                <a:lnTo>
                  <a:pt x="61149" y="0"/>
                </a:lnTo>
                <a:lnTo>
                  <a:pt x="59749" y="1400"/>
                </a:lnTo>
                <a:lnTo>
                  <a:pt x="1400" y="1400"/>
                </a:lnTo>
                <a:close/>
              </a:path>
              <a:path fill="darken" w="61149" h="21600">
                <a:moveTo>
                  <a:pt x="61149" y="0"/>
                </a:moveTo>
                <a:lnTo>
                  <a:pt x="61149" y="21600"/>
                </a:lnTo>
                <a:lnTo>
                  <a:pt x="59749" y="20200"/>
                </a:lnTo>
                <a:lnTo>
                  <a:pt x="59749" y="1400"/>
                </a:lnTo>
                <a:close/>
              </a:path>
              <a:path fill="darkenLess" w="61149" h="21600">
                <a:moveTo>
                  <a:pt x="6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49" y="20200"/>
                </a:lnTo>
                <a:close/>
              </a:path>
              <a:path fill="lighten" w="6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49" h="21600">
                <a:moveTo>
                  <a:pt x="23568" y="10800"/>
                </a:moveTo>
                <a:lnTo>
                  <a:pt x="37581" y="3794"/>
                </a:lnTo>
                <a:lnTo>
                  <a:pt x="3758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3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76720" cy="27478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选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菜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选项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图片 1" descr=""/>
          <p:cNvPicPr/>
          <p:nvPr/>
        </p:nvPicPr>
        <p:blipFill>
          <a:blip r:embed="rId3"/>
          <a:stretch/>
        </p:blipFill>
        <p:spPr>
          <a:xfrm>
            <a:off x="4643280" y="3959280"/>
            <a:ext cx="4178520" cy="27734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" descr=""/>
          <p:cNvPicPr/>
          <p:nvPr/>
        </p:nvPicPr>
        <p:blipFill>
          <a:blip r:embed="rId4"/>
          <a:stretch/>
        </p:blipFill>
        <p:spPr>
          <a:xfrm>
            <a:off x="282600" y="3903840"/>
            <a:ext cx="4298760" cy="28638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0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840720" cy="51879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3"/>
          <p:cNvSpPr/>
          <p:nvPr/>
        </p:nvSpPr>
        <p:spPr>
          <a:xfrm>
            <a:off x="7182000" y="30852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2"/>
          <p:cNvSpPr/>
          <p:nvPr/>
        </p:nvSpPr>
        <p:spPr>
          <a:xfrm>
            <a:off x="7182000" y="5273640"/>
            <a:ext cx="185400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3"/>
          <p:cNvSpPr/>
          <p:nvPr/>
        </p:nvSpPr>
        <p:spPr>
          <a:xfrm>
            <a:off x="4067280" y="365760"/>
            <a:ext cx="2952720" cy="368640"/>
          </a:xfrm>
          <a:prstGeom prst="wedgeRectCallout">
            <a:avLst>
              <a:gd name="adj1" fmla="val -56824"/>
              <a:gd name="adj2" fmla="val 48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3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3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8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9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0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0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1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00"/>
                            </p:stCondLst>
                            <p:childTnLst>
                              <p:par>
                                <p:cTn id="141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5000"/>
                            </p:stCondLst>
                            <p:childTnLst>
                              <p:par>
                                <p:cTn id="1424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1" descr=""/>
          <p:cNvPicPr/>
          <p:nvPr/>
        </p:nvPicPr>
        <p:blipFill>
          <a:blip r:embed="rId1"/>
          <a:stretch/>
        </p:blipFill>
        <p:spPr>
          <a:xfrm>
            <a:off x="469800" y="378000"/>
            <a:ext cx="6694560" cy="4559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676520" y="981000"/>
            <a:ext cx="6059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软件还可以编排打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作息时间表、行事历、教学进度表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使用方法请见“用户手册（高级用户）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"/>
          <p:cNvPicPr/>
          <p:nvPr/>
        </p:nvPicPr>
        <p:blipFill>
          <a:blip r:embed="rId1"/>
          <a:stretch/>
        </p:blipFill>
        <p:spPr>
          <a:xfrm>
            <a:off x="130320" y="1736640"/>
            <a:ext cx="7105680" cy="3678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43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8787"/>
              <a:gd name="adj2" fmla="val 15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10069"/>
              <a:gd name="adj2" fmla="val 298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在此框里输入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7640" y="333000"/>
            <a:ext cx="230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开已有的排课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6443640" y="2925000"/>
            <a:ext cx="2116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308720" y="3429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5"/>
          <p:cNvGrpSpPr/>
          <p:nvPr/>
        </p:nvGrpSpPr>
        <p:grpSpPr>
          <a:xfrm>
            <a:off x="5675400" y="3773520"/>
            <a:ext cx="3366720" cy="2707560"/>
            <a:chOff x="5675400" y="3773520"/>
            <a:chExt cx="3366720" cy="2707560"/>
          </a:xfrm>
        </p:grpSpPr>
        <p:sp>
          <p:nvSpPr>
            <p:cNvPr id="107" name="AutoShape 6"/>
            <p:cNvSpPr/>
            <p:nvPr/>
          </p:nvSpPr>
          <p:spPr>
            <a:xfrm>
              <a:off x="5675400" y="3773520"/>
              <a:ext cx="3366720" cy="270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H="1" flipV="1">
              <a:off x="7358400" y="4856040"/>
              <a:ext cx="906840" cy="54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6452280" y="4856040"/>
              <a:ext cx="907200" cy="54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0"/>
            <p:cNvSpPr/>
            <p:nvPr/>
          </p:nvSpPr>
          <p:spPr>
            <a:xfrm>
              <a:off x="6581880" y="3773520"/>
              <a:ext cx="1553760" cy="108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选择或输入排课文件名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1"/>
            <p:cNvSpPr/>
            <p:nvPr/>
          </p:nvSpPr>
          <p:spPr>
            <a:xfrm>
              <a:off x="5675400" y="5397840"/>
              <a:ext cx="1553760" cy="108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关闭”按钮，进入主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7488360" y="5397840"/>
              <a:ext cx="1553760" cy="108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“下步”按钮，进入“编辑教师姓名”窗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12">
            <a:hlinkClick r:id="" action="ppaction://hlinkshowjump?jump=nextslide"/>
          </p:cNvPr>
          <p:cNvSpPr/>
          <p:nvPr/>
        </p:nvSpPr>
        <p:spPr>
          <a:xfrm>
            <a:off x="182520" y="5950080"/>
            <a:ext cx="1163520" cy="431640"/>
          </a:xfrm>
          <a:custGeom>
            <a:avLst/>
            <a:gdLst>
              <a:gd name="textAreaLeft" fmla="*/ 27720 w 1163520"/>
              <a:gd name="textAreaRight" fmla="*/ 1135800 w 1163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8194" h="21600">
                <a:moveTo>
                  <a:pt x="0" y="0"/>
                </a:moveTo>
                <a:lnTo>
                  <a:pt x="58194" y="0"/>
                </a:lnTo>
                <a:lnTo>
                  <a:pt x="58194" y="21600"/>
                </a:lnTo>
                <a:lnTo>
                  <a:pt x="0" y="21600"/>
                </a:lnTo>
                <a:close/>
              </a:path>
              <a:path fill="lightenLess" w="58194" h="21600">
                <a:moveTo>
                  <a:pt x="0" y="0"/>
                </a:moveTo>
                <a:lnTo>
                  <a:pt x="58194" y="0"/>
                </a:lnTo>
                <a:lnTo>
                  <a:pt x="56794" y="1400"/>
                </a:lnTo>
                <a:lnTo>
                  <a:pt x="1400" y="1400"/>
                </a:lnTo>
                <a:close/>
              </a:path>
              <a:path fill="darken" w="58194" h="21600">
                <a:moveTo>
                  <a:pt x="58194" y="0"/>
                </a:moveTo>
                <a:lnTo>
                  <a:pt x="58194" y="21600"/>
                </a:lnTo>
                <a:lnTo>
                  <a:pt x="56794" y="20200"/>
                </a:lnTo>
                <a:lnTo>
                  <a:pt x="56794" y="1400"/>
                </a:lnTo>
                <a:close/>
              </a:path>
              <a:path fill="darkenLess" w="58194" h="21600">
                <a:moveTo>
                  <a:pt x="58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4" y="20200"/>
                </a:lnTo>
                <a:close/>
              </a:path>
              <a:path fill="lighten" w="58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194" h="21600">
                <a:moveTo>
                  <a:pt x="22091" y="3794"/>
                </a:moveTo>
                <a:lnTo>
                  <a:pt x="36103" y="10800"/>
                </a:lnTo>
                <a:lnTo>
                  <a:pt x="2209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443640" y="1916640"/>
            <a:ext cx="209556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7308720" y="249228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>
            <a:hlinkClick r:id="" action="ppaction://hlinkshowjump?jump=previousslide"/>
          </p:cNvPr>
          <p:cNvSpPr/>
          <p:nvPr/>
        </p:nvSpPr>
        <p:spPr>
          <a:xfrm>
            <a:off x="181080" y="5106960"/>
            <a:ext cx="1164960" cy="432000"/>
          </a:xfrm>
          <a:custGeom>
            <a:avLst/>
            <a:gdLst>
              <a:gd name="textAreaLeft" fmla="*/ 27720 w 1164960"/>
              <a:gd name="textAreaRight" fmla="*/ 1137240 w 11649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8217" h="21600">
                <a:moveTo>
                  <a:pt x="0" y="0"/>
                </a:moveTo>
                <a:lnTo>
                  <a:pt x="58217" y="0"/>
                </a:lnTo>
                <a:lnTo>
                  <a:pt x="58217" y="21600"/>
                </a:lnTo>
                <a:lnTo>
                  <a:pt x="0" y="21600"/>
                </a:lnTo>
                <a:close/>
              </a:path>
              <a:path fill="lightenLess" w="58217" h="21600">
                <a:moveTo>
                  <a:pt x="0" y="0"/>
                </a:moveTo>
                <a:lnTo>
                  <a:pt x="58217" y="0"/>
                </a:lnTo>
                <a:lnTo>
                  <a:pt x="56817" y="1400"/>
                </a:lnTo>
                <a:lnTo>
                  <a:pt x="1400" y="1400"/>
                </a:lnTo>
                <a:close/>
              </a:path>
              <a:path fill="darken" w="58217" h="21600">
                <a:moveTo>
                  <a:pt x="58217" y="0"/>
                </a:moveTo>
                <a:lnTo>
                  <a:pt x="58217" y="21600"/>
                </a:lnTo>
                <a:lnTo>
                  <a:pt x="56817" y="20200"/>
                </a:lnTo>
                <a:lnTo>
                  <a:pt x="56817" y="1400"/>
                </a:lnTo>
                <a:close/>
              </a:path>
              <a:path fill="darkenLess" w="58217" h="21600">
                <a:moveTo>
                  <a:pt x="58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7" y="20200"/>
                </a:lnTo>
                <a:close/>
              </a:path>
              <a:path fill="lighten" w="58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17" h="21600">
                <a:moveTo>
                  <a:pt x="22102" y="10800"/>
                </a:moveTo>
                <a:lnTo>
                  <a:pt x="36115" y="3794"/>
                </a:lnTo>
                <a:lnTo>
                  <a:pt x="361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182520" y="1484280"/>
            <a:ext cx="6019920" cy="30369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2"/>
          <p:cNvSpPr/>
          <p:nvPr/>
        </p:nvSpPr>
        <p:spPr>
          <a:xfrm>
            <a:off x="3701880" y="284040"/>
            <a:ext cx="757440" cy="1136880"/>
          </a:xfrm>
          <a:prstGeom prst="wedgeRoundRectCallout">
            <a:avLst>
              <a:gd name="adj1" fmla="val -56125"/>
              <a:gd name="adj2" fmla="val 203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个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1193760" y="284040"/>
            <a:ext cx="755640" cy="1136880"/>
          </a:xfrm>
          <a:prstGeom prst="wedgeRoundRectCallout">
            <a:avLst>
              <a:gd name="adj1" fmla="val -48824"/>
              <a:gd name="adj2" fmla="val 2033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57120" y="284040"/>
            <a:ext cx="757440" cy="1136880"/>
          </a:xfrm>
          <a:prstGeom prst="wedgeRoundRectCallout">
            <a:avLst>
              <a:gd name="adj1" fmla="val -25671"/>
              <a:gd name="adj2" fmla="val 1612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某个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2092320" y="284040"/>
            <a:ext cx="1463760" cy="1136880"/>
          </a:xfrm>
          <a:prstGeom prst="wedgeRoundRectCallout">
            <a:avLst>
              <a:gd name="adj1" fmla="val -79458"/>
              <a:gd name="adj2" fmla="val 1136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查找排课文件位置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514520" y="4778280"/>
            <a:ext cx="1225440" cy="1979640"/>
          </a:xfrm>
          <a:prstGeom prst="wedgeRoundRectCallout">
            <a:avLst>
              <a:gd name="adj1" fmla="val -57462"/>
              <a:gd name="adj2" fmla="val -80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某个历史记录就让它在文件夹框和文件名框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"/>
          <p:cNvPicPr/>
          <p:nvPr/>
        </p:nvPicPr>
        <p:blipFill>
          <a:blip r:embed="rId1"/>
          <a:stretch/>
        </p:blipFill>
        <p:spPr>
          <a:xfrm>
            <a:off x="2124000" y="1185840"/>
            <a:ext cx="5253120" cy="5672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80000" y="189000"/>
            <a:ext cx="3394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编辑教师姓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451640" y="1684080"/>
            <a:ext cx="1582920" cy="642600"/>
          </a:xfrm>
          <a:prstGeom prst="wedgeRectCallout">
            <a:avLst>
              <a:gd name="adj1" fmla="val -259273"/>
              <a:gd name="adj2" fmla="val -4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姓名输入完毕后按“下步”按钮，进入“编辑全校条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9280" y="4920480"/>
            <a:ext cx="1871640" cy="917280"/>
          </a:xfrm>
          <a:prstGeom prst="wedgeRectCallout">
            <a:avLst>
              <a:gd name="adj1" fmla="val 64250"/>
              <a:gd name="adj2" fmla="val -40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需要测试本软件或教师姓名暂且不知就选中该单选钮，然后在“全校教师人数”框输入教师人数，回车，表格中出现虚拟的教师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08720" y="3591720"/>
            <a:ext cx="1582920" cy="1191600"/>
          </a:xfrm>
          <a:prstGeom prst="wedgeRectCallout">
            <a:avLst>
              <a:gd name="adj1" fmla="val -121597"/>
              <a:gd name="adj2" fmla="val -100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“输入姓名方式”为“逐个输入教师姓名”，就在此框输入教师姓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，然后回车，教师姓名进左边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195640" y="257040"/>
            <a:ext cx="1871640" cy="642600"/>
          </a:xfrm>
          <a:prstGeom prst="wedgeRectCallout">
            <a:avLst>
              <a:gd name="adj1" fmla="val -42462"/>
              <a:gd name="adj2" fmla="val 467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间三个单选钮是更快地输入教师姓名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79280" y="1154880"/>
            <a:ext cx="1871640" cy="2014560"/>
          </a:xfrm>
          <a:prstGeom prst="wedgeRectCallout">
            <a:avLst>
              <a:gd name="adj1" fmla="val 64999"/>
              <a:gd name="adj2" fmla="val 35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上选中全校教师姓名（每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，不含代码和简称），按右键，选择“复制”，姓名被复制到剪贴板上。在此选中本单选钮，在出现的绿色框内按右键，选择“粘贴”，在框内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7524720" y="6381720"/>
            <a:ext cx="1366920" cy="360360"/>
          </a:xfrm>
          <a:custGeom>
            <a:avLst/>
            <a:gdLst>
              <a:gd name="textAreaLeft" fmla="*/ 23040 w 1366920"/>
              <a:gd name="textAreaRight" fmla="*/ 1343880 w 1366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873" h="21600">
                <a:moveTo>
                  <a:pt x="0" y="0"/>
                </a:moveTo>
                <a:lnTo>
                  <a:pt x="81873" y="0"/>
                </a:lnTo>
                <a:lnTo>
                  <a:pt x="81873" y="21600"/>
                </a:lnTo>
                <a:lnTo>
                  <a:pt x="0" y="21600"/>
                </a:lnTo>
                <a:close/>
              </a:path>
              <a:path fill="lightenLess" w="81873" h="21600">
                <a:moveTo>
                  <a:pt x="0" y="0"/>
                </a:moveTo>
                <a:lnTo>
                  <a:pt x="81873" y="0"/>
                </a:lnTo>
                <a:lnTo>
                  <a:pt x="80473" y="1400"/>
                </a:lnTo>
                <a:lnTo>
                  <a:pt x="1400" y="1400"/>
                </a:lnTo>
                <a:close/>
              </a:path>
              <a:path fill="darken" w="81873" h="21600">
                <a:moveTo>
                  <a:pt x="81873" y="0"/>
                </a:moveTo>
                <a:lnTo>
                  <a:pt x="81873" y="21600"/>
                </a:lnTo>
                <a:lnTo>
                  <a:pt x="80473" y="20200"/>
                </a:lnTo>
                <a:lnTo>
                  <a:pt x="80473" y="1400"/>
                </a:lnTo>
                <a:close/>
              </a:path>
              <a:path fill="darkenLess" w="81873" h="21600">
                <a:moveTo>
                  <a:pt x="81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473" y="20200"/>
                </a:lnTo>
                <a:close/>
              </a:path>
              <a:path fill="lighten" w="81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873" h="21600">
                <a:moveTo>
                  <a:pt x="33930" y="3794"/>
                </a:moveTo>
                <a:lnTo>
                  <a:pt x="47943" y="10800"/>
                </a:lnTo>
                <a:lnTo>
                  <a:pt x="339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7524720" y="566100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4211640" y="467280"/>
            <a:ext cx="1368360" cy="368640"/>
          </a:xfrm>
          <a:prstGeom prst="wedgeRectCallout">
            <a:avLst>
              <a:gd name="adj1" fmla="val -57518"/>
              <a:gd name="adj2" fmla="val 41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直接修改姓名和简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>
            <a:hlinkClick r:id="" action="ppaction://hlinkshowjump?jump=previousslide"/>
          </p:cNvPr>
          <p:cNvSpPr/>
          <p:nvPr/>
        </p:nvSpPr>
        <p:spPr>
          <a:xfrm>
            <a:off x="7524720" y="602136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959" h="21600">
                <a:moveTo>
                  <a:pt x="33973" y="10800"/>
                </a:moveTo>
                <a:lnTo>
                  <a:pt x="47986" y="3794"/>
                </a:lnTo>
                <a:lnTo>
                  <a:pt x="4798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5124240" cy="5977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9"/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6268"/>
              <a:gd name="adj2" fmla="val -426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395280" y="1965960"/>
            <a:ext cx="3097080" cy="642600"/>
          </a:xfrm>
          <a:prstGeom prst="wedgeRectCallout">
            <a:avLst>
              <a:gd name="adj1" fmla="val -49143"/>
              <a:gd name="adj2" fmla="val 40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20000" cy="4505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08000" y="3339720"/>
            <a:ext cx="1592280" cy="368640"/>
          </a:xfrm>
          <a:prstGeom prst="wedgeRectCallout">
            <a:avLst>
              <a:gd name="adj1" fmla="val 95249"/>
              <a:gd name="adj2" fmla="val -51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里直接修改学制的年数（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08000" y="5154120"/>
            <a:ext cx="1727280" cy="368640"/>
          </a:xfrm>
          <a:prstGeom prst="wedgeRectCallout">
            <a:avLst>
              <a:gd name="adj1" fmla="val 169041"/>
              <a:gd name="adj2" fmla="val -456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表格中修改级名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108000" y="5936400"/>
            <a:ext cx="1403280" cy="642600"/>
          </a:xfrm>
          <a:prstGeom prst="wedgeRectCallout">
            <a:avLst>
              <a:gd name="adj1" fmla="val 236865"/>
              <a:gd name="adj2" fmla="val -387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5003640" y="6149160"/>
            <a:ext cx="649440" cy="368280"/>
          </a:xfrm>
          <a:prstGeom prst="wedgeRectCallout">
            <a:avLst>
              <a:gd name="adj1" fmla="val -20805"/>
              <a:gd name="adj2" fmla="val -701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8028000" y="3033720"/>
            <a:ext cx="936720" cy="915840"/>
          </a:xfrm>
          <a:prstGeom prst="wedgeRectCallout">
            <a:avLst>
              <a:gd name="adj1" fmla="val -148268"/>
              <a:gd name="adj2" fmla="val 214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108000" y="4433760"/>
            <a:ext cx="1592280" cy="368640"/>
          </a:xfrm>
          <a:prstGeom prst="wedgeRectCallout">
            <a:avLst>
              <a:gd name="adj1" fmla="val 94347"/>
              <a:gd name="adj2" fmla="val -31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下面各选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932360" y="330840"/>
            <a:ext cx="2664000" cy="642600"/>
          </a:xfrm>
          <a:prstGeom prst="wedgeRectCallout">
            <a:avLst>
              <a:gd name="adj1" fmla="val -106546"/>
              <a:gd name="adj2" fmla="val 192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”课程及位置位置尽量不排“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124000" y="5947200"/>
            <a:ext cx="2789280" cy="641520"/>
          </a:xfrm>
          <a:prstGeom prst="wedgeRectCallout">
            <a:avLst>
              <a:gd name="adj1" fmla="val 23222"/>
              <a:gd name="adj2" fmla="val -136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40162"/>
              <a:gd name="adj2" fmla="val 5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5724360" y="6111720"/>
            <a:ext cx="2160720" cy="368640"/>
          </a:xfrm>
          <a:prstGeom prst="wedgeRectCallout">
            <a:avLst>
              <a:gd name="adj1" fmla="val 7870"/>
              <a:gd name="adj2" fmla="val -594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8028000" y="668880"/>
            <a:ext cx="934920" cy="642600"/>
          </a:xfrm>
          <a:prstGeom prst="wedgeRectCallout">
            <a:avLst>
              <a:gd name="adj1" fmla="val -244879"/>
              <a:gd name="adj2" fmla="val 29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1"/>
                            </p:stCondLst>
                            <p:childTnLst>
                              <p:par>
                                <p:cTn id="290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1"/>
                            </p:stCondLst>
                            <p:childTnLst>
                              <p:par>
                                <p:cTn id="2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1"/>
                            </p:stCondLst>
                            <p:childTnLst>
                              <p:par>
                                <p:cTn id="300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9001"/>
                            </p:stCondLst>
                            <p:childTnLst>
                              <p:par>
                                <p:cTn id="3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2000"/>
                            </p:stCondLst>
                            <p:childTnLst>
                              <p:par>
                                <p:cTn id="3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7001"/>
                            </p:stCondLst>
                            <p:childTnLst>
                              <p:par>
                                <p:cTn id="31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2001"/>
                            </p:stCondLst>
                            <p:childTnLst>
                              <p:par>
                                <p:cTn id="32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7001"/>
                            </p:stCondLst>
                            <p:childTnLst>
                              <p:par>
                                <p:cTn id="32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2001"/>
                            </p:stCondLst>
                            <p:childTnLst>
                              <p:par>
                                <p:cTn id="33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user</cp:lastModifiedBy>
  <dcterms:modified xsi:type="dcterms:W3CDTF">2021-05-11T03:45:11Z</dcterms:modified>
  <cp:revision>411</cp:revision>
  <dc:subject/>
  <dc:title>使用说明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