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20C2-F37C-42A0-BA5A-15DFBA8D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BA1-B846-4C49-B485-4E01A70E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F27-B6C9-49FC-8C35-19C1904D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4DDC-E561-48A1-94C9-559A8412F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6E5D-24F7-4BED-9BE7-36DDD472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E856-EA55-4C3A-80A7-BC9A5BED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51F4-877C-4419-99CF-309FCB48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3D60-D9B3-489A-A5BD-BC8D6A1CC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DF3-3884-404A-A41E-5EF26806E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6939-279C-4D19-BF35-C15AB9BAF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394-EFD9-4AB5-81A7-D6EDC9663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1DD4-8D75-4945-B523-795B63E9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B719-BC13-46A2-BD79-4374DF26381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Calibri"/>
              </a:rPr>
              <a:t>奈末拼图助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Calibri"/>
              </a:rPr>
              <a:t>封面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一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二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三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四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Calibri"/>
              </a:rPr>
              <a:t>第五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第六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内容占位符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33112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09T01:09:49Z</dcterms:created>
  <dc:creator>Administrator</dc:creator>
  <dc:description/>
  <dc:language>en-US</dc:language>
  <cp:lastModifiedBy>Administrator</cp:lastModifiedBy>
  <dcterms:modified xsi:type="dcterms:W3CDTF">2020-04-09T01:14:49Z</dcterms:modified>
  <cp:revision>1</cp:revision>
  <dc:subject/>
  <dc:title>奈末拼图助手</dc:title>
</cp:coreProperties>
</file>