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B08F-ADA0-4FFC-8CBD-8BBEA9CA0D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BF7-A40C-4D7E-96AC-B9E70F2797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00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112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7268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2400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7268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9800" y="404640"/>
            <a:ext cx="76658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400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112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112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fb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19640" y="655308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c2532"/>
                </a:solidFill>
                <a:latin typeface="Zurich UBlkEx BT"/>
              </a:rPr>
              <a:t>www.bjpowernod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95280" y="6705720"/>
            <a:ext cx="21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51640" y="6705720"/>
            <a:ext cx="20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152280" y="304560"/>
            <a:ext cx="762120" cy="9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1880" y="1143000"/>
            <a:ext cx="762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400" y="1143000"/>
            <a:ext cx="59086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1640" y="2158920"/>
            <a:ext cx="1652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915160" y="102888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Times New Roman"/>
              </a:rPr>
              <a:t>北京动力节点教育科技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fb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655308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c2532"/>
                </a:solidFill>
                <a:latin typeface="Zurich UBlkEx BT"/>
              </a:rPr>
              <a:t>www.bjpowernod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6705720"/>
            <a:ext cx="21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6705720"/>
            <a:ext cx="20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445000"/>
            <a:ext cx="83818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2568600"/>
            <a:ext cx="486072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4149720"/>
            <a:ext cx="30956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844640"/>
            <a:ext cx="8382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JD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516640"/>
            <a:ext cx="83818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授课：王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2924280"/>
            <a:ext cx="53578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Java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与数据库打交道的桥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DriverManag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ublic static Connection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Connec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url, String user, String password) throws SQL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Connec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clo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commi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rollbac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 throws SQL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tement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createState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getAutoCommi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llableStatement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prepareC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String?sql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eparedStatement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prepareState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String?sql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AutoCommi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boolean?autoCommit) throws SQL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addBat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sql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clo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[]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executeBat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sultSet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executeQue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sql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executeUpda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sql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reparedStatement-(1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addBatch(Str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sql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clo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[]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executeB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ultSet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executeQue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String sql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executeUpda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String sql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addBatch(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ultSet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executeQuery(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executeUpdate(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D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(int parameterIndex, Date x) throws SQL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reparedStatement-(2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Doub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int parameterIndex, double x) throws SQL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BigDecim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int parameterIndex, BigDecimal x) throws SQL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Flo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int parameterIndex, float x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 setI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int parameterIndex, int x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Lo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int parameterIndex, long x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Sho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int parameterIndex, short x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Str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int parameterIndex, String x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Ti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int parameterIndex, Time x) throws SQL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setTimesta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int parameterIndex, Timestamp x) throws SQLExcepti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CallableStatemen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解即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ResultSet-(1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clo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igDecimal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BigDecim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Boole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te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Da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Dou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loat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Flo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ResultSet-(2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I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ong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Lo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Str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Ti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imestamp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getTimesta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String columnName) throws SQL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) throws SQL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JDB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高级特性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地事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局事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务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批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lo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lo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字段的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纲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访问数据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种驱动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程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用类和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级特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JDB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简介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英文全称为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DataBase Connectivity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与数据库打交道的桥梁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03280" y="2781360"/>
            <a:ext cx="6264360" cy="2736720"/>
            <a:chOff x="1403280" y="2781360"/>
            <a:chExt cx="6264360" cy="2736720"/>
          </a:xfrm>
        </p:grpSpPr>
        <p:sp>
          <p:nvSpPr>
            <p:cNvPr id="69" name=""/>
            <p:cNvSpPr/>
            <p:nvPr/>
          </p:nvSpPr>
          <p:spPr>
            <a:xfrm>
              <a:off x="1403280" y="2781360"/>
              <a:ext cx="129708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客户端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03280" y="3789360"/>
              <a:ext cx="129708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客户端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03280" y="4797360"/>
              <a:ext cx="129708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客户端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51280" y="2997360"/>
              <a:ext cx="1152360" cy="23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JDB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99280" y="3070440"/>
              <a:ext cx="1368360" cy="23032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数据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98560" y="3213000"/>
              <a:ext cx="1079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98560" y="41497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698560" y="4365720"/>
              <a:ext cx="11527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03640" y="4149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JDB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简介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司定义的一套接口规范，各数据库产品有相应的实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39640" y="2421000"/>
            <a:ext cx="7589880" cy="2879640"/>
            <a:chOff x="539640" y="2421000"/>
            <a:chExt cx="7589880" cy="2879640"/>
          </a:xfrm>
        </p:grpSpPr>
        <p:sp>
          <p:nvSpPr>
            <p:cNvPr id="81" name=""/>
            <p:cNvSpPr/>
            <p:nvPr/>
          </p:nvSpPr>
          <p:spPr>
            <a:xfrm>
              <a:off x="539640" y="2492280"/>
              <a:ext cx="129708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客户端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640" y="3500280"/>
              <a:ext cx="129708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客户端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9640" y="4508640"/>
              <a:ext cx="129708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客户端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71640" y="2492280"/>
              <a:ext cx="1152720" cy="280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JDB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61160" y="2421000"/>
              <a:ext cx="1368360" cy="80784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4920" y="2924280"/>
              <a:ext cx="90036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34920" y="386064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834920" y="4076280"/>
              <a:ext cx="9003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03760" y="3416400"/>
              <a:ext cx="1296720" cy="86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MySQL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实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81440" y="2421000"/>
              <a:ext cx="1297080" cy="86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Oracle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实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03760" y="4424400"/>
              <a:ext cx="1296720" cy="86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其他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24360" y="28526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360" y="38606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24360" y="48690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1160" y="3429000"/>
              <a:ext cx="1368360" cy="8082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1160" y="4437000"/>
              <a:ext cx="1368360" cy="8082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其他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1640" y="2852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1640" y="3860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1640" y="4869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DB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访问数据库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种驱动模式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模式三和模式四）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1" name="" descr="图1 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95640" y="1479600"/>
            <a:ext cx="48243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模式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图左边的分支称为模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它一般是数据库厂商才能实现的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基于本地协议的驱动，直接调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BM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数据库管理系统）使用的网络协议，对于企业内部互联网来说，是一个实用的解决方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模式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图右边的分支称为模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它同样是一个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驱动，不同于模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是基于网络协议。它的机制是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用转换为中间网络协议，然后转换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BM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。中间网络协议层起到一个读取数据库的中间件的作用，能够连接许多类型的数据库，因而是最灵活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式。这种模式的产品比较适用于企业内部互联网，如若支持国际互联网，还需添加对安全、穿过防火墙访问等的支持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DB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访问数据库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种驱动模式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模式一和模式二）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4" name="" descr="图2"/>
          <p:cNvPicPr/>
          <p:nvPr/>
        </p:nvPicPr>
        <p:blipFill>
          <a:blip r:embed="rId1"/>
          <a:stretch/>
        </p:blipFill>
        <p:spPr>
          <a:xfrm>
            <a:off x="468360" y="1773360"/>
            <a:ext cx="3166920" cy="424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95640" y="1479600"/>
            <a:ext cx="4824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模式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图左边的分支称为模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即通常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提供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DBC-O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桥接器。它提供了经由一种或多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驱动进行访问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口，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驱动，在很多情况下也即数据库的客户端，必须加载到客户机。因而，它适用于下载和自动安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不重要、实验用途或者没有其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驱动可用的情况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模式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图右边的分支成为模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类似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DBC-O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桥接器，需要加载到客户机，却是一个部分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实现的驱动接口。它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用转换为对数据库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yb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form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B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）客户端接口的调用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JDB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编程步骤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装载相应数据库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驱动，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lass.forName("oracle.jdbc.driver.OracleDriver"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riverManager.getConnection("jdbc:oracle:thin:@127.0.0.1:1521:bjpowernode", “scott", “tiger"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nection.createStatement(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tement.executeQuery(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tement.executeUpdate(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理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hile(ResultSet.next()){…}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ultSet.getXX(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释放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ultSet.close()/Statement.close()/Connection.close(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Oracle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对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JDB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连接方式的支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acle 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ci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如果使用需要安装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Oracle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客户端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acle JD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一般使用此种方式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9800" y="404640"/>
            <a:ext cx="7665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JDB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常用类和接口的关系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0000cc"/>
              </a:solidFill>
              <a:latin typeface="Arial"/>
              <a:ea typeface="楷体_GB2312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4360" y="2133720"/>
            <a:ext cx="7775280" cy="3921120"/>
            <a:chOff x="684360" y="2133720"/>
            <a:chExt cx="7775280" cy="3921120"/>
          </a:xfrm>
        </p:grpSpPr>
        <p:grpSp>
          <p:nvGrpSpPr>
            <p:cNvPr id="113" name=""/>
            <p:cNvGrpSpPr/>
            <p:nvPr/>
          </p:nvGrpSpPr>
          <p:grpSpPr>
            <a:xfrm>
              <a:off x="684360" y="2133720"/>
              <a:ext cx="7775280" cy="3889080"/>
              <a:chOff x="684360" y="2133720"/>
              <a:chExt cx="7775280" cy="3889080"/>
            </a:xfrm>
          </p:grpSpPr>
          <p:sp>
            <p:nvSpPr>
              <p:cNvPr id="114" name=""/>
              <p:cNvSpPr/>
              <p:nvPr/>
            </p:nvSpPr>
            <p:spPr>
              <a:xfrm>
                <a:off x="684360" y="2133720"/>
                <a:ext cx="2016000" cy="1009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Verdana"/>
                  </a:rPr>
                  <a:t>DriverManag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---------------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getConne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43280" y="2133720"/>
                <a:ext cx="2016000" cy="1009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Verdana"/>
                  </a:rPr>
                  <a:t>Conne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---------------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createStat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03640" y="2133720"/>
                <a:ext cx="1800360" cy="1009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Verdana"/>
                  </a:rPr>
                  <a:t>Stat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---------------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executeQu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48360" y="2133720"/>
                <a:ext cx="1511280" cy="1009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Verdana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-----------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16360" y="3573360"/>
                <a:ext cx="2592360" cy="1009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Verdana"/>
                  </a:rPr>
                  <a:t>PreparedStat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----------------------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executeQu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16360" y="5013360"/>
                <a:ext cx="2592360" cy="1009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Verdana"/>
                  </a:rPr>
                  <a:t>CallableStat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-----------------------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Verdana"/>
                  </a:rPr>
                  <a:t>executeQu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00360" y="26370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59280" y="2637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04000" y="2637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5940360" y="3141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5940360" y="4581360"/>
                <a:ext cx="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68360" y="5300640"/>
              <a:ext cx="1872000" cy="754200"/>
            </a:xfrm>
            <a:prstGeom prst="wedgeRoundRectCallout">
              <a:avLst>
                <a:gd name="adj1" fmla="val 83078"/>
                <a:gd name="adj2" fmla="val -7357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主要用于调用存储过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38:08Z</dcterms:created>
  <dc:creator>dlnode</dc:creator>
  <dc:description/>
  <dc:language>en-US</dc:language>
  <cp:lastModifiedBy>微软用户</cp:lastModifiedBy>
  <dcterms:modified xsi:type="dcterms:W3CDTF">2010-02-21T07:15:24Z</dcterms:modified>
  <cp:revision>1542</cp:revision>
  <dc:subject/>
  <dc:title>幻灯片 1</dc:title>
</cp:coreProperties>
</file>