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00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112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112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7268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2400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7268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12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9800" y="404640"/>
            <a:ext cx="76658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12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400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112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112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112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bfb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419640" y="655308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c2532"/>
                </a:solidFill>
                <a:latin typeface="Zurich UBlkEx BT"/>
              </a:rPr>
              <a:t>www.bjpowernod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95280" y="6705720"/>
            <a:ext cx="21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51640" y="6705720"/>
            <a:ext cx="20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152280" y="304560"/>
            <a:ext cx="762120" cy="914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1880" y="1143000"/>
            <a:ext cx="762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400" y="1143000"/>
            <a:ext cx="59086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1640" y="2158920"/>
            <a:ext cx="1652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915160" y="102888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Times New Roman"/>
              </a:rPr>
              <a:t>北京动力节点教育科技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bfb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655308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c2532"/>
                </a:solidFill>
                <a:latin typeface="Zurich UBlkEx BT"/>
              </a:rPr>
              <a:t>www.bjpowernod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6705720"/>
            <a:ext cx="21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51640" y="6705720"/>
            <a:ext cx="20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5445000"/>
            <a:ext cx="83818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2568600"/>
            <a:ext cx="486072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4149720"/>
            <a:ext cx="30956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844640"/>
            <a:ext cx="8382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成绩管理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5516640"/>
            <a:ext cx="83818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授课：王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924280"/>
            <a:ext cx="53578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JAVA SE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及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JDBC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预热项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用例分析示例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事件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Arial"/>
              </a:rPr>
              <a:t>基本路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用户启动这个应用系统时，用例开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统显示登录界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输入用户名和密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统验证信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统设置访问权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统显示主菜单（子用例：显示主页面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例结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Arial"/>
              </a:rPr>
              <a:t>可选路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错误的用户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错误的密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后置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子用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用例分析示例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获取用户记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cc3300"/>
                </a:solidFill>
                <a:latin typeface="Arial"/>
              </a:rPr>
              <a:t>基本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接到接到获取用户记录的请求时，用例开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统通过用户来定位记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统把用户记录返回为请求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显示主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cc3300"/>
                </a:solidFill>
                <a:latin typeface="Arial"/>
              </a:rPr>
              <a:t>基本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接到显示主界面的请求时，用例开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统根据登录时的权限设置来判定为该用户提供哪些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统在主界面上显示该用户可以选择的合适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例结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41371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用例分析示例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392120"/>
            <a:ext cx="41353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活动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37372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户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与类视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55880" y="1557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登录基本场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543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用例分析示例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用户界面（接上页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主界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411280" y="3986280"/>
          <a:ext cx="380844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986280"/>
                    <a:ext cx="380844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79280" y="5157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业务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特殊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其他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出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960" y="148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登录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56000" y="2039760"/>
          <a:ext cx="33130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2039760"/>
                    <a:ext cx="33130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用例元素详解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通常只需要一段话，有时可能包含用例的优先级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下文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这个一个较小的用例图，它可以描述这个用例和它所有的联系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前置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在开始用例之前，一系列必须为真的条件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事件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Arial"/>
              </a:rPr>
              <a:t>基本路径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每一个用例必须包含一个基本路径，基本路径主要是用例的陈述，没有分支、选择和错误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Arial"/>
              </a:rPr>
              <a:t>可选路径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添加可选项和异常处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用例元素详解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可选路径（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一个找出可选路径的方法是沿着基本路径一条一条的找，如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这个点上还可以执行别的活动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这个点上有没有可能出错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什么随时可能发生的行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也可以用以下大类来发现可选路径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者退出应用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者取消指定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者提供了不完整数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统崩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统不可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置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当用例结束后，一系列必须为真的条件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用例元素详解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子用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描述一个用例的子用例的一个较小用例图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子用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关于子用例和事件流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活动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描述事件流或者一些重要的复杂部分的事件流图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与类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描述所有参与实现一个用例的类图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一个或多个描述基本路径和可选路径的时序图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户界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简单的展现用户界面原型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用例元素详解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业务规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这个用例实现的一系列业务规则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特殊需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如：用例执行时间，可用性等等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他成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这可能会涉及到用例所属的子系统，分析模型，设计模型，程序代码或测试计划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突出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如何实现需求？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需求分析后的结果，进行数据库的设计，建立数据库表，数据库表主要来源于领域中的概念，即名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确定开发架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B/S(Browse/Server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C/S(Client/Server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/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Model1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Model2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数据的设计建立实体类，通常每个数据库表对应一个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系统架构确定各层的交互类，业务逻辑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参与者与用例的交互来发现方法的定义，方法通常对应了领域中动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以上分析得到的类，完成具体代码的填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较为复杂的方法，进行单元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迭代周期完成后，测试部会进行功能测试或性能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如何实施，上线？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公司进行完测试的系统，安装到客户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如何使用系统，对客户培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化客户数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手工帐和计算机并行运行，直到计算机每月的运行数据和手工一致，舍弃手工，完全使用计算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收（初验和终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项目针对对象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AVA S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库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程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做这个项目的目的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复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AVA S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础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一步了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了解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数据库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了解树形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步了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owerDesign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库建模工具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步了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ified Modeling Languag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统一建模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步了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模工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ational Ros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步了解用例分析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成绩管理项目需求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能对学生信息、班级信息、成绩信息和课程信息进行增删改查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学生信息主要包括：学生代码、姓名、性别、出生日期、联系电话和家庭住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班级信息主要包括：班级代码和班级名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成绩信息主要包括：学生、科目和成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课程信息主要包括：课程代码和课程名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关于班级是分层次的如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学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一年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一年一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一年二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二年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二年一班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成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ff"/>
                </a:solidFill>
                <a:latin typeface="Arial"/>
              </a:rPr>
              <a:t>需要提供按照学生代码进行查询，需要显示出学生代码、学生姓名、所属班级、课程名称、成绩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ff"/>
                </a:solidFill>
                <a:latin typeface="Arial"/>
              </a:rPr>
              <a:t>需要提供每科最高分的查询，需要显示出：学生代码、学生姓名、所属班级、课程名称、成绩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ff"/>
                </a:solidFill>
                <a:latin typeface="Arial"/>
              </a:rPr>
              <a:t>提供总分最高分前三名排行榜，需要显示出学生代码，学生名称，班级名称，总分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ff"/>
                </a:solidFill>
                <a:latin typeface="Arial"/>
              </a:rPr>
              <a:t>需要提供分页查询所有的学生成绩，显示学生代码、学生姓名、所属班级、课程名称、成绩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学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ff"/>
                </a:solidFill>
                <a:latin typeface="Arial"/>
              </a:rPr>
              <a:t>特殊要求：对学生的查询采用分页查询，需要显示学生代码、姓名、性别、出生日期、联系电话、家庭住址、班级名称，并显示出学生的年龄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ff"/>
                </a:solidFill>
                <a:latin typeface="Arial"/>
              </a:rPr>
              <a:t>将学生信息保存到文本文件中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软件开发过程纲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目计划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确定项目的可行性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定制项目进度表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为项目安排人员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启动项目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析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收集信息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定义系统需求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建立原型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确定需求的优先级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需求评审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软件开发过程纲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计实现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建立原型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集成运行环境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架构设计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数据库设计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类设计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编写代码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测试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元测试（白盒测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黑盒测试（功能性测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目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指导培训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验收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初验、终验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如何调研和分析需求？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司投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通常由销售和售前参与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需求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调研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发和收集调研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收集用户现有的报表和表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持用户面谈和讨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观察商业过程和工作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立原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持会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确定系统边界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何确定系统边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确定执行者和用例来确定系统边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如何调研和分析需求？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执行者是通系统交互的所有事物，如：人、其他软件、硬件设备等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执行者总是在系统之外，它从来都不属于系统中的一部分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可以提出如下问题发现执行者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谁使用这个系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谁安装这个系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谁启动这个系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谁维护这个系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那些其他的系统使用这个系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谁从这个系统获取信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谁为这个系统提供信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否有事物在预计的事件发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如何调研和分析需求？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确定用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用例确定执行者想要系统完成的事情，例如：登录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用例通常由执行者来启动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描述执行者和用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录用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这个用例描述用户登录到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ERP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系统的过程，设置各种用户的访问权限。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上下文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前置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系统正常启动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4581360"/>
            <a:ext cx="362556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38:08Z</dcterms:created>
  <dc:creator>dlnode</dc:creator>
  <dc:description/>
  <dc:language>en-US</dc:language>
  <cp:lastModifiedBy>微软用户</cp:lastModifiedBy>
  <dcterms:modified xsi:type="dcterms:W3CDTF">2010-02-25T07:44:37Z</dcterms:modified>
  <cp:revision>1523</cp:revision>
  <dc:subject/>
  <dc:title>幻灯片 1</dc:title>
</cp:coreProperties>
</file>