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42A4-3B87-4785-AF77-B0033A293AA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C149-3370-458C-8DB2-B30E42949E8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D30E-0535-4CC2-9E2E-8FAD8481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55C6-E2FF-42B5-98E3-4009A4FE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016A-C941-43BD-AACB-7E2C312B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38F3-E188-474E-8E61-47F88E46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A9AE-A6E5-493B-9726-C9F1B10A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D886-1BFA-42B6-813A-E7EB0940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6165-23C4-4359-B8AD-BCC5E7C1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D499-D52F-4615-B996-444AAF59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58E5-F38D-46D0-9270-ACADA93F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31D3-E7D5-43FA-8717-03B9E1BD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B832-EDD3-4D52-B478-55B2BC23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903D-73E7-4626-9E7F-CFEA840F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A6CD-ADA4-440A-82FD-210670EC48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3:57:15Z</dcterms:created>
  <dc:creator>微软系统</dc:creator>
  <dc:description/>
  <dc:language>en-US</dc:language>
  <cp:lastModifiedBy>行易软件 http://www.ExeSoft.cn</cp:lastModifiedBy>
  <dcterms:modified xsi:type="dcterms:W3CDTF">2013-01-10T15:15:28Z</dcterms:modified>
  <cp:revision>22</cp:revision>
  <dc:subject/>
  <dc:title>幻灯片 1</dc:title>
</cp:coreProperties>
</file>