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3629-566F-4D9B-9EDB-6058B2436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5D20-72EE-43AB-A9E9-D28EDB66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F350-CC42-4870-B7A4-BF3F24DE0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85E6-C975-45B1-ADA4-F69970E97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D18D-2B75-41B0-AE27-1AF546C4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9589-1979-41E6-949C-6A7C0D5D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37E4-97B7-4EBF-A77F-432A030B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5609-1209-45AB-B957-C800337D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5291-7438-489D-86AA-3057F0A5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9A4F-056C-4430-B879-05BE4CC2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CAE4-AE7B-4145-B3D7-5155807A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917F-ACA8-45FF-A1A9-5EE3DB09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B77D-0D5D-44DD-85A6-878CBC9B2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1557360"/>
            <a:ext cx="6769440" cy="2925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行易软件</a:t>
            </a:r>
            <a:r>
              <a:rPr b="1" lang="en-US" sz="6000" spc="-1" strike="noStrike">
                <a:solidFill>
                  <a:srgbClr val="ffffff"/>
                </a:solidFill>
                <a:latin typeface="黑体"/>
                <a:ea typeface="黑体"/>
              </a:rPr>
              <a:t>2013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年度幸运抽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4360" y="2276640"/>
            <a:ext cx="7920000" cy="360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一等奖</a:t>
            </a: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:2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名 欧洲双人豪华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等奖</a:t>
            </a: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:3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名 液晶彩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476280"/>
            <a:ext cx="7920000" cy="1584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抽奖规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03:19:33Z</dcterms:created>
  <dc:creator>Boomcode</dc:creator>
  <dc:description/>
  <dc:language>en-US</dc:language>
  <cp:lastModifiedBy>行易软件 http://www.ExeSoft.cn</cp:lastModifiedBy>
  <dcterms:modified xsi:type="dcterms:W3CDTF">2013-01-10T16:17:54Z</dcterms:modified>
  <cp:revision>14</cp:revision>
  <dc:subject/>
  <dc:title>幻灯片 1</dc:title>
</cp:coreProperties>
</file>