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D2C4-1052-4DF6-9441-27B97E84FD7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63F3-F78F-4120-9D6B-0FAC4ABDB8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A9C1-26C5-4F7A-A83C-7E4A0E97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3A1A-CC6E-488F-8E3A-AC93A444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69C-5ADE-4C33-9C20-6D1B5982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3BF-4B5E-4A20-A444-E184B6AD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260E-BD48-46A3-835C-829C8B06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4EE-D547-4112-896B-1A48C50A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6B8-B1A1-4D8C-81FD-D2FF42AC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49D5-5C70-4B1C-9D46-EBD6F1B9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2015-E541-48E6-B2FC-D99D596A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8254-87DB-4DDD-BFEC-36A0BDCE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EF6C-128E-48E7-8B89-E70737CC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809-468C-4434-8C87-25426E66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DD59-1F2A-41E7-BFB1-2C7C8288AB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3:57:15Z</dcterms:created>
  <dc:creator>微软系统</dc:creator>
  <dc:description/>
  <dc:language>en-US</dc:language>
  <cp:lastModifiedBy>行易软件 http://www.ExeSoft.cn</cp:lastModifiedBy>
  <dcterms:modified xsi:type="dcterms:W3CDTF">2013-01-10T15:15:28Z</dcterms:modified>
  <cp:revision>22</cp:revision>
  <dc:subject/>
  <dc:title>幻灯片 1</dc:title>
</cp:coreProperties>
</file>