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7F49-7BF8-47B1-9177-7153051546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821F-14D5-4656-A6DC-24C5067759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0BE-421D-40F2-BDE4-B38BDD58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794-AD1B-4D09-BA61-7826CE8D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421-12FE-4BE6-B742-DE872EC3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B15-D7B8-492E-8D55-60D9303F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A7B-5122-4C5E-96F3-5A8AA9D7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2F8-BAB2-4518-A2B6-A5FA67BC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892-874C-4059-84BA-37EFC37B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EDB-3917-41C3-843B-980635BA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DB2-4D1A-468F-8105-CB73736C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974-9F69-4784-8D0F-7899F3F2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3D8-3B14-4664-A852-FA7D16EE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AD3-A93E-4861-A5FE-7ED95C4B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1493-6548-4FA6-AAD4-117276CF29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15:28Z</dcterms:modified>
  <cp:revision>22</cp:revision>
  <dc:subject/>
  <dc:title>幻灯片 1</dc:title>
</cp:coreProperties>
</file>