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74A9-1B3A-4C96-842D-D79F49F9E9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CE12-2CE6-49DA-887A-3F7E3256EA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D67-7AA9-4800-AB75-096E0B69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E99-B1A9-4B4E-8011-B43D060F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AAD-7B3E-4B8C-B31E-398F6D82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455-37BF-4255-9283-71F1E10F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8B5-DF5A-4114-AC0A-2A10FF44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736-672D-4817-8D18-DAAD5A01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443-019E-456A-BAFC-43FA2376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73F-1814-46F5-8447-453BE380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C8E-BCEF-4027-B311-CB80894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E6B-02A1-4C47-B4B4-D3DA89A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029-393C-442F-96C8-88E7A90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019-719B-4553-A476-9753F7FF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D884-2B74-4DF3-AD9E-39E6776C37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484280"/>
            <a:ext cx="7129440" cy="360036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二等奖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iPh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数量 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484280"/>
            <a:ext cx="7129440" cy="360036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抽奖嘉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王大伟 总经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21:44Z</dcterms:modified>
  <cp:revision>27</cp:revision>
  <dc:subject/>
  <dc:title>幻灯片 1</dc:title>
</cp:coreProperties>
</file>