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E9AE3-117F-42B5-B2B4-02B0036B34E0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F07A8-D683-4CAF-8C32-307048395862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247F7-D57C-477C-9F5A-C5F0CD711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D6352-0F89-43B7-8E3D-6A51D1B20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6CADF-93A0-4C7E-B7F0-2E4334DF0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45F43-CD05-46D0-ADB0-2C1A661AB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48AA6-3911-4001-B43A-1572ADB00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80DC8-D278-4309-99C1-DFAB4164A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7C24F-32E8-4D54-9222-9C2D6CE5D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DC494-5A59-460B-A0A4-59D65B37D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6130F-C83C-4AEF-AB8D-80CFDB254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F21FA-E9C5-4DAA-AB8D-F0925C9B0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BA4A8-BBE7-43AC-9F91-7B562284C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50682-C56B-4483-AED5-D815007C6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DD04C-23BC-4950-8D8B-D38E320CB82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8T03:57:15Z</dcterms:created>
  <dc:creator>微软系统</dc:creator>
  <dc:description/>
  <dc:language>en-US</dc:language>
  <cp:lastModifiedBy>行易软件 http://www.ExeSoft.cn</cp:lastModifiedBy>
  <dcterms:modified xsi:type="dcterms:W3CDTF">2013-01-22T14:49:52Z</dcterms:modified>
  <cp:revision>28</cp:revision>
  <dc:subject/>
  <dc:title>幻灯片 1</dc:title>
</cp:coreProperties>
</file>