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0E8B-3B97-464F-9FF4-A9885F8499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24AF-BE25-4B9D-BBFB-89C7C9F523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3A4-056E-4F72-B09B-271BB99E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25B-AF10-42C9-B29F-AFD1C621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1A7-5FDC-4421-820C-FC45DA20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041-1B06-4922-826D-85310836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829-023A-4820-8950-84280F67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733F-E870-4EF7-9818-867BFD3A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8FA-C981-4F27-BEA5-EEF87813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2D91-BDE9-43B2-BB67-22DD1129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933C-2D53-47B6-B65E-00B0505B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B8AB-6368-45FC-9FCA-970214B5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886-A58F-484B-AB7D-C3BD9A9F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B28C-4CEE-4724-B5EF-40924212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D61E-ECB9-493C-A874-34856613BA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3:57:15Z</dcterms:created>
  <dc:creator>微软系统</dc:creator>
  <dc:description/>
  <dc:language>en-US</dc:language>
  <cp:lastModifiedBy>行易软件 http://www.ExeSoft.cn</cp:lastModifiedBy>
  <dcterms:modified xsi:type="dcterms:W3CDTF">2013-01-10T15:15:28Z</dcterms:modified>
  <cp:revision>22</cp:revision>
  <dc:subject/>
  <dc:title>幻灯片 1</dc:title>
</cp:coreProperties>
</file>