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B467-AF39-4828-A663-E3CFBE34D6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安七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杜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刘亦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蔡依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曹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楚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慧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乔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意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5E2-9AF4-42B9-B0B7-295E77F7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765-D2ED-4356-AB34-2882DBFF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E3E-E41F-48E9-A409-EAED1AAF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949-511A-4631-B6C1-F41FDD55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9D3-7D7E-4000-AEF3-5B0460C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F16-336C-40CF-B38D-74CA46B1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A42-4898-4C2C-9618-0AA3DF88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C84-13BA-4C86-BB45-17D54A4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135-580C-44E0-8B07-EFB2B5A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955-A334-491B-9C3C-0AFDF8F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6F0-2DBD-4103-AB36-3EE6A36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64F-26E7-416E-A568-BE0D974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5733720"/>
            <a:ext cx="2133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F568-C350-484D-A599-A0A58D544FCD}" type="slidenum">
              <a:rPr b="1" lang="zh-CN" sz="4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43280" y="692280"/>
            <a:ext cx="3514680" cy="5752440"/>
            <a:chOff x="2843280" y="692280"/>
            <a:chExt cx="3514680" cy="5752440"/>
          </a:xfrm>
        </p:grpSpPr>
        <p:sp>
          <p:nvSpPr>
            <p:cNvPr id="50" name=""/>
            <p:cNvSpPr/>
            <p:nvPr/>
          </p:nvSpPr>
          <p:spPr>
            <a:xfrm>
              <a:off x="2843280" y="692280"/>
              <a:ext cx="351468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43280" y="6216480"/>
              <a:ext cx="3514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安七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13E-5722-4388-AAD1-2EE5C7F2F4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624040" y="685800"/>
            <a:ext cx="3895920" cy="5753160"/>
            <a:chOff x="2624040" y="685800"/>
            <a:chExt cx="3895920" cy="5753160"/>
          </a:xfrm>
        </p:grpSpPr>
        <p:sp>
          <p:nvSpPr>
            <p:cNvPr id="86" name=""/>
            <p:cNvSpPr/>
            <p:nvPr/>
          </p:nvSpPr>
          <p:spPr>
            <a:xfrm>
              <a:off x="2624040" y="685800"/>
              <a:ext cx="389592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4040" y="6210360"/>
              <a:ext cx="389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大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FF0-C520-448A-B3C4-FA14B89A1B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14680" y="685800"/>
            <a:ext cx="3913200" cy="5753160"/>
            <a:chOff x="2614680" y="685800"/>
            <a:chExt cx="3913200" cy="5753160"/>
          </a:xfrm>
        </p:grpSpPr>
        <p:sp>
          <p:nvSpPr>
            <p:cNvPr id="90" name=""/>
            <p:cNvSpPr/>
            <p:nvPr/>
          </p:nvSpPr>
          <p:spPr>
            <a:xfrm>
              <a:off x="2614680" y="685800"/>
              <a:ext cx="3913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4680" y="6210360"/>
              <a:ext cx="391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杜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547-6ECC-4D10-8DEF-660FBEECCD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22560" y="685800"/>
            <a:ext cx="4898880" cy="5753160"/>
            <a:chOff x="2122560" y="685800"/>
            <a:chExt cx="4898880" cy="5753160"/>
          </a:xfrm>
        </p:grpSpPr>
        <p:sp>
          <p:nvSpPr>
            <p:cNvPr id="94" name=""/>
            <p:cNvSpPr/>
            <p:nvPr/>
          </p:nvSpPr>
          <p:spPr>
            <a:xfrm>
              <a:off x="2122560" y="685800"/>
              <a:ext cx="48988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2560" y="6210360"/>
              <a:ext cx="489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刘亦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7BD-7D30-42BF-AD39-E097B7CAF821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74920" y="685800"/>
            <a:ext cx="4394160" cy="5753160"/>
            <a:chOff x="2374920" y="685800"/>
            <a:chExt cx="4394160" cy="5753160"/>
          </a:xfrm>
        </p:grpSpPr>
        <p:sp>
          <p:nvSpPr>
            <p:cNvPr id="54" name=""/>
            <p:cNvSpPr/>
            <p:nvPr/>
          </p:nvSpPr>
          <p:spPr>
            <a:xfrm>
              <a:off x="2374920" y="685800"/>
              <a:ext cx="43941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74920" y="6210360"/>
              <a:ext cx="439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蔡依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A19-0D21-48FB-9586-2C24BC6C6E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89120" y="685800"/>
            <a:ext cx="3963960" cy="5753160"/>
            <a:chOff x="2589120" y="685800"/>
            <a:chExt cx="3963960" cy="5753160"/>
          </a:xfrm>
        </p:grpSpPr>
        <p:sp>
          <p:nvSpPr>
            <p:cNvPr id="58" name=""/>
            <p:cNvSpPr/>
            <p:nvPr/>
          </p:nvSpPr>
          <p:spPr>
            <a:xfrm>
              <a:off x="2589120" y="685800"/>
              <a:ext cx="3963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89120" y="6210360"/>
              <a:ext cx="396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曹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6A9-5E46-47FE-A616-562EA13C11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847800"/>
            <a:ext cx="7772400" cy="5429160"/>
            <a:chOff x="685800" y="847800"/>
            <a:chExt cx="7772400" cy="5429160"/>
          </a:xfrm>
        </p:grpSpPr>
        <p:sp>
          <p:nvSpPr>
            <p:cNvPr id="62" name=""/>
            <p:cNvSpPr/>
            <p:nvPr/>
          </p:nvSpPr>
          <p:spPr>
            <a:xfrm>
              <a:off x="685800" y="847800"/>
              <a:ext cx="7772400" cy="5162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6048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楚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41C-EFC7-482D-90E5-0611D2F908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66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慧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4D0-AF94-480E-95BB-271BA34208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4640" y="685800"/>
            <a:ext cx="4913280" cy="5753160"/>
            <a:chOff x="2114640" y="685800"/>
            <a:chExt cx="4913280" cy="5753160"/>
          </a:xfrm>
        </p:grpSpPr>
        <p:sp>
          <p:nvSpPr>
            <p:cNvPr id="70" name=""/>
            <p:cNvSpPr/>
            <p:nvPr/>
          </p:nvSpPr>
          <p:spPr>
            <a:xfrm>
              <a:off x="2114640" y="685800"/>
              <a:ext cx="49132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14640" y="6210360"/>
              <a:ext cx="491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100-4264-42DE-81D2-895701724C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40080" y="685800"/>
            <a:ext cx="4263840" cy="5753160"/>
            <a:chOff x="2440080" y="685800"/>
            <a:chExt cx="4263840" cy="5753160"/>
          </a:xfrm>
        </p:grpSpPr>
        <p:sp>
          <p:nvSpPr>
            <p:cNvPr id="74" name=""/>
            <p:cNvSpPr/>
            <p:nvPr/>
          </p:nvSpPr>
          <p:spPr>
            <a:xfrm>
              <a:off x="2440080" y="685800"/>
              <a:ext cx="4263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0080" y="6210360"/>
              <a:ext cx="426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乔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39D-14E6-4CE4-B324-87C6DC131C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52720" y="685800"/>
            <a:ext cx="5038560" cy="5753160"/>
            <a:chOff x="2052720" y="685800"/>
            <a:chExt cx="5038560" cy="5753160"/>
          </a:xfrm>
        </p:grpSpPr>
        <p:sp>
          <p:nvSpPr>
            <p:cNvPr id="78" name=""/>
            <p:cNvSpPr/>
            <p:nvPr/>
          </p:nvSpPr>
          <p:spPr>
            <a:xfrm>
              <a:off x="2052720" y="685800"/>
              <a:ext cx="50385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2720" y="6210360"/>
              <a:ext cx="503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意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4C5-8831-4E1D-8DC7-402B45CF6D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444760" y="685800"/>
            <a:ext cx="4254480" cy="5753160"/>
            <a:chOff x="2444760" y="685800"/>
            <a:chExt cx="4254480" cy="5753160"/>
          </a:xfrm>
        </p:grpSpPr>
        <p:sp>
          <p:nvSpPr>
            <p:cNvPr id="82" name=""/>
            <p:cNvSpPr/>
            <p:nvPr/>
          </p:nvSpPr>
          <p:spPr>
            <a:xfrm>
              <a:off x="2444760" y="685800"/>
              <a:ext cx="42544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44760" y="6210360"/>
              <a:ext cx="42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成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A8D-A0E5-468A-894B-8AEBB1B685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行易软件 http://www.ExeSoft.cn</dc:creator>
  <dc:description/>
  <dc:language>en-US</dc:language>
  <cp:lastModifiedBy>Test</cp:lastModifiedBy>
  <dcterms:modified xsi:type="dcterms:W3CDTF">2013-01-27T06:59:20Z</dcterms:modified>
  <cp:revision>22</cp:revision>
  <dc:subject/>
  <dc:title>图片PPT</dc:title>
</cp:coreProperties>
</file>