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714-54B9-4EA2-882C-FBF80464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D55-6113-4C19-8B2D-DB44106C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DA7-AE3B-44EB-9B45-1A733250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887-D162-422C-8CDA-3C9467F0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6581-407E-4D08-88EA-D8BA7AB8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2A08-EBA0-478B-8B48-EC6BE5CC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44AC-5AA2-4FCA-83DA-15E17581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21FF-B94F-4BFC-984B-9EBC6946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3C2B-7D30-4BCF-AD88-337FC5B0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38D1-1EE9-4CF4-B8D4-6B1922F8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3BD1-5D87-45E0-9137-2FD92055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F1F-4394-4EE0-B791-5C89564E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8FEB-519C-4ECB-81DB-CBDB638E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F30A-F4DF-4BD1-A7E8-4A5FD5CE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F7C3-873A-47AC-A47E-1FA7D3AD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1A0A-B64E-4F90-844B-DF4D9A09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867E-FBA6-46AA-845D-BE1E5C8A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CD7-600A-413D-8FD6-8BDB4280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3D9-61CE-4D87-B893-EF43BC94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155-D7DD-40EC-9C81-66B223ED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2DE-A376-4EEA-A75C-C7F353B9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B8E-CDD8-477F-BE4D-D1044FE6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079-63C6-4AAA-8DF4-0C06723F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1D0-63AE-4A0F-A628-B626E5D9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CD30-1C3E-46D5-9493-BD8BE7256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CA71-DEB9-45EA-A2DF-E179F80C9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920" y="2600280"/>
            <a:ext cx="557208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85800" y="3463560"/>
            <a:ext cx="3652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24000" y="4437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32:20Z</dcterms:created>
  <dc:creator>Admin</dc:creator>
  <dc:description/>
  <dc:language>en-US</dc:language>
  <cp:lastModifiedBy>Admin</cp:lastModifiedBy>
  <cp:lastPrinted>1899-12-30T00:00:00Z</cp:lastPrinted>
  <dcterms:modified xsi:type="dcterms:W3CDTF">2009-06-29T20:36:01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