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A31-CB84-475C-8E54-72A52300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B79-06A3-4B6A-B789-30684B9C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EFB-1FF2-4038-A334-8B16490D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847-F2A6-439B-8888-AA4675FF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CF6D-1AB8-42D6-BFCE-70537D1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BAD8-EA46-4D8C-B7CA-E1F063C3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3981-306A-4174-9026-47D00D06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AC9F-6E29-48C9-B790-7C21F97E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D567-AAF2-473B-996D-15C586E2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508F-864F-44D8-93A9-8C6EC692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1AD1-541E-4A56-9CF4-C482404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8FE-7CCF-4477-8F41-98435182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70BB-FC82-4100-BA3D-6BBCC051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06DE-FBBD-4CFA-9289-9FD5F8F0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A3CF-E9C1-432D-AC47-2A409E15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9617-23FE-4AC8-B24C-B373B586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0832-AE7E-4C0F-8081-68A04482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4D6-2318-4005-99FB-08C704E5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520-D9F1-4360-984E-260A0008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650-14AB-4BCC-89FB-99BCFAEA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021-EFC4-4CEB-9481-7105F4C2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C8B-EA1C-46BF-BDCA-8D5A0ECF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768-75DE-4489-AC03-9B6AD83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2A6-858D-46FC-90DC-51FD3A38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04E3-BD64-40BA-B7E9-1474B6AF3A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A18A-B6DC-4E75-AB49-611A5B40E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88B0-568E-4EBF-BFE1-5E927BDBF9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B561-60DF-4131-B014-DEB644A59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269120" y="2133720"/>
            <a:ext cx="824040" cy="3657600"/>
            <a:chOff x="7269120" y="2133720"/>
            <a:chExt cx="824040" cy="3657600"/>
          </a:xfrm>
        </p:grpSpPr>
        <p:sp>
          <p:nvSpPr>
            <p:cNvPr id="84" name="Freeform 7"/>
            <p:cNvSpPr/>
            <p:nvPr/>
          </p:nvSpPr>
          <p:spPr>
            <a:xfrm>
              <a:off x="7269120" y="2286000"/>
              <a:ext cx="824040" cy="35053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7269120" y="2133720"/>
              <a:ext cx="824040" cy="2743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315120" y="2895480"/>
            <a:ext cx="817560" cy="2878200"/>
            <a:chOff x="6315120" y="2895480"/>
            <a:chExt cx="817560" cy="2878200"/>
          </a:xfrm>
        </p:grpSpPr>
        <p:sp>
          <p:nvSpPr>
            <p:cNvPr id="87" name="Freeform 8"/>
            <p:cNvSpPr/>
            <p:nvPr/>
          </p:nvSpPr>
          <p:spPr>
            <a:xfrm>
              <a:off x="6315120" y="3047760"/>
              <a:ext cx="817560" cy="27259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"/>
            <p:cNvSpPr/>
            <p:nvPr/>
          </p:nvSpPr>
          <p:spPr>
            <a:xfrm>
              <a:off x="6315120" y="2895480"/>
              <a:ext cx="817560" cy="2617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89560" y="3505320"/>
            <a:ext cx="822240" cy="2286000"/>
            <a:chOff x="5389560" y="3505320"/>
            <a:chExt cx="822240" cy="2286000"/>
          </a:xfrm>
        </p:grpSpPr>
        <p:sp>
          <p:nvSpPr>
            <p:cNvPr id="90" name="Freeform 9"/>
            <p:cNvSpPr/>
            <p:nvPr/>
          </p:nvSpPr>
          <p:spPr>
            <a:xfrm>
              <a:off x="5389560" y="3657600"/>
              <a:ext cx="822240" cy="21337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5389560" y="3505320"/>
              <a:ext cx="822240" cy="25236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64000" y="3949560"/>
            <a:ext cx="822240" cy="1841760"/>
            <a:chOff x="4464000" y="3949560"/>
            <a:chExt cx="822240" cy="1841760"/>
          </a:xfrm>
        </p:grpSpPr>
        <p:sp>
          <p:nvSpPr>
            <p:cNvPr id="93" name="Freeform 10"/>
            <p:cNvSpPr/>
            <p:nvPr/>
          </p:nvSpPr>
          <p:spPr>
            <a:xfrm>
              <a:off x="4464000" y="4098600"/>
              <a:ext cx="822240" cy="16927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4464000" y="3949560"/>
              <a:ext cx="822240" cy="3175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538440" y="4317840"/>
            <a:ext cx="822600" cy="1473480"/>
            <a:chOff x="3538440" y="4317840"/>
            <a:chExt cx="822600" cy="1473480"/>
          </a:xfrm>
        </p:grpSpPr>
        <p:sp>
          <p:nvSpPr>
            <p:cNvPr id="96" name="Freeform 11"/>
            <p:cNvSpPr/>
            <p:nvPr/>
          </p:nvSpPr>
          <p:spPr>
            <a:xfrm>
              <a:off x="3538440" y="4463640"/>
              <a:ext cx="822600" cy="132768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3538440" y="4317840"/>
              <a:ext cx="822600" cy="3049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612880" y="4633920"/>
            <a:ext cx="822600" cy="1157400"/>
            <a:chOff x="2612880" y="4633920"/>
            <a:chExt cx="822600" cy="1157400"/>
          </a:xfrm>
        </p:grpSpPr>
        <p:sp>
          <p:nvSpPr>
            <p:cNvPr id="99" name="Freeform 12"/>
            <p:cNvSpPr/>
            <p:nvPr/>
          </p:nvSpPr>
          <p:spPr>
            <a:xfrm>
              <a:off x="2612880" y="4775040"/>
              <a:ext cx="822600" cy="101628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9"/>
            <p:cNvSpPr/>
            <p:nvPr/>
          </p:nvSpPr>
          <p:spPr>
            <a:xfrm>
              <a:off x="2612880" y="4633920"/>
              <a:ext cx="822600" cy="27468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87680" y="5054760"/>
            <a:ext cx="822240" cy="736560"/>
            <a:chOff x="1687680" y="5054760"/>
            <a:chExt cx="822240" cy="736560"/>
          </a:xfrm>
        </p:grpSpPr>
        <p:sp>
          <p:nvSpPr>
            <p:cNvPr id="102" name="Freeform 13"/>
            <p:cNvSpPr/>
            <p:nvPr/>
          </p:nvSpPr>
          <p:spPr>
            <a:xfrm>
              <a:off x="1687680" y="5191200"/>
              <a:ext cx="822240" cy="6001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1687680" y="5054760"/>
              <a:ext cx="822240" cy="27468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62120" y="5243400"/>
            <a:ext cx="817560" cy="547920"/>
            <a:chOff x="762120" y="5243400"/>
            <a:chExt cx="817560" cy="547920"/>
          </a:xfrm>
        </p:grpSpPr>
        <p:sp>
          <p:nvSpPr>
            <p:cNvPr id="105" name="Freeform 21"/>
            <p:cNvSpPr/>
            <p:nvPr/>
          </p:nvSpPr>
          <p:spPr>
            <a:xfrm>
              <a:off x="762120" y="5392440"/>
              <a:ext cx="817560" cy="39888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762120" y="5243400"/>
              <a:ext cx="817560" cy="27468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Freeform 82"/>
          <p:cNvSpPr/>
          <p:nvPr/>
        </p:nvSpPr>
        <p:spPr>
          <a:xfrm rot="21196800">
            <a:off x="718920" y="1412640"/>
            <a:ext cx="7424640" cy="331308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404040"/>
              </a:gs>
            </a:gsLst>
            <a:lin ang="12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387360" y="22860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D B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HARTS </a:t>
            </a:r>
            <a:r>
              <a:rPr b="0" lang="en-US" sz="1800" spc="-1" strike="noStrike">
                <a:solidFill>
                  <a:srgbClr val="165ec3"/>
                </a:solidFill>
                <a:latin typeface="Calibri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86000" y="1752480"/>
            <a:ext cx="1660680" cy="3081600"/>
            <a:chOff x="2286000" y="1752480"/>
            <a:chExt cx="1660680" cy="3081600"/>
          </a:xfrm>
        </p:grpSpPr>
        <p:pic>
          <p:nvPicPr>
            <p:cNvPr id="110" name="Gruppe 113" descr=""/>
            <p:cNvPicPr/>
            <p:nvPr/>
          </p:nvPicPr>
          <p:blipFill>
            <a:blip r:embed="rId1"/>
            <a:stretch/>
          </p:blipFill>
          <p:spPr>
            <a:xfrm>
              <a:off x="2286000" y="1752480"/>
              <a:ext cx="1660680" cy="308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"/>
            <p:cNvGrpSpPr/>
            <p:nvPr/>
          </p:nvGrpSpPr>
          <p:grpSpPr>
            <a:xfrm>
              <a:off x="3215160" y="2111400"/>
              <a:ext cx="354960" cy="772200"/>
              <a:chOff x="3215160" y="2111400"/>
              <a:chExt cx="354960" cy="772200"/>
            </a:xfrm>
          </p:grpSpPr>
          <p:sp>
            <p:nvSpPr>
              <p:cNvPr id="112" name="Freeform 24"/>
              <p:cNvSpPr/>
              <p:nvPr/>
            </p:nvSpPr>
            <p:spPr>
              <a:xfrm flipH="1">
                <a:off x="3215160" y="2111400"/>
                <a:ext cx="318960" cy="40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5"/>
              <p:cNvSpPr/>
              <p:nvPr/>
            </p:nvSpPr>
            <p:spPr>
              <a:xfrm flipH="1">
                <a:off x="3265560" y="2233440"/>
                <a:ext cx="304200" cy="650160"/>
              </a:xfrm>
              <a:prstGeom prst="pie">
                <a:avLst/>
              </a:prstGeom>
              <a:solidFill>
                <a:srgbClr val="217d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0:37:12Z</dcterms:created>
  <dc:creator/>
  <dc:description/>
  <dc:language>en-US</dc:language>
  <cp:lastModifiedBy>echo</cp:lastModifiedBy>
  <cp:lastPrinted>1899-12-30T00:00:00Z</cp:lastPrinted>
  <dcterms:modified xsi:type="dcterms:W3CDTF">2010-03-19T14:53:48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