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47F-E02E-42A4-98F2-F0077415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FC2-E203-4ECA-8C82-F5E8FF6A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4E7-D0F5-4940-A5E9-6656207D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105-58B1-4F46-B458-659692EA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B5C3-3B9E-4FD1-BE91-35E9A296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3C36-F870-43AA-BBE7-5023B3F6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199-5FAC-4A2C-B62D-0EB624FD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1C77-9590-4142-A1F0-BDF9EC6D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7DFF-F0C8-46BF-8EAE-8913FB74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01F5-9F3B-4723-A9AF-FB164C78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AF28-F4F8-4FED-9EC5-17A389B7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FA2-4A64-4C82-AA45-6C91AB2B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5011-EC48-4475-B22F-0A82FC3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21BE-D577-4FA6-9191-661175FB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FE7D-C1DF-4EA0-9C30-D9E1011D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D122-A70F-4AC4-ABCF-C755B0C5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7CBD-42B7-449E-86CA-603BDF04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2562-BE9F-4FE0-91B1-2B91838E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9AAF-59B4-4068-B507-5AA4A22A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A2CE-35BD-48F5-8B15-C32CD4DF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5343-34CA-4286-A89C-06E62D0C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705A-DA24-43C5-A787-B077C143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FB8-4EFD-47A4-B919-62BBDAE8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28AF-7CBB-46E2-81F4-1760DC9D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0C47-B9D1-46D0-B2FD-75D531A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813A-4793-4B54-BF9C-8742C42D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210D-E4D3-4C03-A0D5-14E0DABF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FA30-A769-446D-AC8C-B685F67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3601-BB0F-41D4-B7F6-BC8EA9A7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AC12-A4FE-4E84-A375-02E52737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8D9-28C3-4E01-98B8-0A6718AC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19F-7F79-4891-85E9-03FD3B13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9B3-4203-43A6-9909-FC6028F6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668-2B83-42B2-AC9E-1CD5352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241-CAD9-4142-BFF6-6F2961BE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E98-BD73-45B4-9808-00035D3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18DD-4451-46FC-90F3-213D190798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CC4-BF75-4E1E-B0AC-74A3853A9E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A06B-8DF3-4F0D-A051-9BB2C9161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0" y="686880"/>
            <a:ext cx="650052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0c0"/>
              </a:solidFill>
              <a:latin typeface="汉仪粗宋简"/>
              <a:ea typeface="汉仪粗宋简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0360" y="1536840"/>
            <a:ext cx="6534000" cy="742680"/>
            <a:chOff x="360360" y="1536840"/>
            <a:chExt cx="6534000" cy="742680"/>
          </a:xfrm>
        </p:grpSpPr>
        <p:pic>
          <p:nvPicPr>
            <p:cNvPr id="128" name="副标题 2" descr=""/>
            <p:cNvPicPr/>
            <p:nvPr/>
          </p:nvPicPr>
          <p:blipFill>
            <a:blip r:embed="rId1"/>
            <a:stretch/>
          </p:blipFill>
          <p:spPr>
            <a:xfrm>
              <a:off x="360360" y="1536840"/>
              <a:ext cx="653400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28760" y="1604880"/>
              <a:ext cx="640080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31" name="圆角矩形 4"/>
          <p:cNvSpPr/>
          <p:nvPr/>
        </p:nvSpPr>
        <p:spPr>
          <a:xfrm>
            <a:off x="1643040" y="2292480"/>
            <a:ext cx="49291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鱼不愚\桌面\3dicon1_zcool.com.cn [转换].png"/>
          <p:cNvPicPr/>
          <p:nvPr/>
        </p:nvPicPr>
        <p:blipFill>
          <a:blip r:embed="rId1"/>
          <a:srcRect l="38759" t="0" r="35730" b="62560"/>
          <a:stretch/>
        </p:blipFill>
        <p:spPr>
          <a:xfrm>
            <a:off x="1071720" y="185724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292400" y="24084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8"/>
          <p:cNvSpPr/>
          <p:nvPr/>
        </p:nvSpPr>
        <p:spPr>
          <a:xfrm>
            <a:off x="2357280" y="352116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鱼不愚\桌面\3dicon1_zcool.com.cn [转换].png"/>
          <p:cNvPicPr/>
          <p:nvPr/>
        </p:nvPicPr>
        <p:blipFill>
          <a:blip r:embed="rId2"/>
          <a:srcRect l="38759" t="0" r="35730" b="62560"/>
          <a:stretch/>
        </p:blipFill>
        <p:spPr>
          <a:xfrm>
            <a:off x="1785960" y="307188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2006640" y="363708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12"/>
          <p:cNvSpPr/>
          <p:nvPr/>
        </p:nvSpPr>
        <p:spPr>
          <a:xfrm>
            <a:off x="3051000" y="479268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鱼不愚\桌面\3dicon1_zcool.com.cn [转换].png"/>
          <p:cNvPicPr/>
          <p:nvPr/>
        </p:nvPicPr>
        <p:blipFill>
          <a:blip r:embed="rId3"/>
          <a:srcRect l="38759" t="0" r="35730" b="62560"/>
          <a:stretch/>
        </p:blipFill>
        <p:spPr>
          <a:xfrm>
            <a:off x="2479680" y="435780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2700360" y="49086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58840" y="2301840"/>
            <a:ext cx="4329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" name="内容占位符 2"/>
          <p:cNvSpPr/>
          <p:nvPr/>
        </p:nvSpPr>
        <p:spPr>
          <a:xfrm>
            <a:off x="2857680" y="351648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3529080" y="481176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对角圆角矩形 5"/>
          <p:cNvSpPr/>
          <p:nvPr/>
        </p:nvSpPr>
        <p:spPr>
          <a:xfrm rot="21346800">
            <a:off x="1133640" y="1809360"/>
            <a:ext cx="6954840" cy="3879720"/>
          </a:xfrm>
          <a:custGeom>
            <a:avLst/>
            <a:gdLst/>
            <a:ahLst/>
            <a:rect l="l" t="t" r="r" b="b"/>
            <a:pathLst>
              <a:path w="6954838" h="3879850">
                <a:moveTo>
                  <a:pt x="492043" y="0"/>
                </a:moveTo>
                <a:lnTo>
                  <a:pt x="6954838" y="0"/>
                </a:lnTo>
                <a:lnTo>
                  <a:pt x="6954838" y="0"/>
                </a:lnTo>
                <a:lnTo>
                  <a:pt x="6954838" y="3387807"/>
                </a:lnTo>
                <a:cubicBezTo>
                  <a:pt x="6954838" y="3659555"/>
                  <a:pt x="6734543" y="3879850"/>
                  <a:pt x="6462795" y="3879850"/>
                </a:cubicBezTo>
                <a:lnTo>
                  <a:pt x="0" y="3879850"/>
                </a:lnTo>
                <a:lnTo>
                  <a:pt x="0" y="3879850"/>
                </a:lnTo>
                <a:lnTo>
                  <a:pt x="0" y="492043"/>
                </a:lnTo>
                <a:cubicBezTo>
                  <a:pt x="0" y="220295"/>
                  <a:pt x="220295" y="0"/>
                  <a:pt x="492043" y="0"/>
                </a:cubicBez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8352000"/>
          </a:gra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45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 rot="21361200">
            <a:off x="1348920" y="2091960"/>
            <a:ext cx="64548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506520" y="858960"/>
            <a:ext cx="6491160" cy="1207800"/>
            <a:chOff x="506520" y="858960"/>
            <a:chExt cx="6491160" cy="1207800"/>
          </a:xfrm>
        </p:grpSpPr>
        <p:pic>
          <p:nvPicPr>
            <p:cNvPr id="150" name="副标题 2" descr=""/>
            <p:cNvPicPr/>
            <p:nvPr/>
          </p:nvPicPr>
          <p:blipFill>
            <a:blip r:embed="rId1"/>
            <a:stretch/>
          </p:blipFill>
          <p:spPr>
            <a:xfrm>
              <a:off x="506520" y="858960"/>
              <a:ext cx="649116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71680" y="928440"/>
              <a:ext cx="63579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70c0"/>
                  </a:solidFill>
                  <a:latin typeface="汉仪粗宋简"/>
                  <a:ea typeface="汉仪粗宋简"/>
                </a:rPr>
                <a:t>THANK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1:08:52Z</dcterms:created>
  <dc:creator>rachel</dc:creator>
  <dc:description/>
  <dc:language>en-US</dc:language>
  <cp:lastModifiedBy>微软中国</cp:lastModifiedBy>
  <cp:lastPrinted>1899-12-30T00:00:00Z</cp:lastPrinted>
  <dcterms:modified xsi:type="dcterms:W3CDTF">2011-06-07T04:36:43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