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C4D-D0D5-4CAA-81F8-4319E273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3FA-CCE8-4F6D-8E45-F7DBECB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F63-9AF3-457F-9DD3-0E3FCFE6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A07-136E-4DF8-A79B-B0D2DC60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707-FDE0-42F0-9B70-0DD948E7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AA1-CDDA-40CC-B285-E8B8740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EFBC-4469-47D4-9B62-0A988E37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BC6E-DAC3-4805-A6AD-32F0413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450-21CA-4398-9251-442CE76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A7E-5CA5-4B40-9263-5F0910E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2DC-5066-45BA-A03C-14B327E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4B2-D8FD-4E85-90DC-C2309F7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2A6A-90C7-4C1B-A5EC-83F019E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9354-B764-4FAC-A324-417D0354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3F81-26A8-4BE2-921D-15834DDB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FF6-010C-4486-8897-FF58B730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0F66-0959-48A1-9E7D-AC05BF32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63A-C4F1-4C82-B171-62C803F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12C-D742-4856-8978-830A65E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FBE-2E65-44CD-A14D-03F6750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96C-3DEC-44E9-B163-9FEFC65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164-DBD4-45C0-8734-3B85851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617-613A-4F8D-BEBE-0069A8D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BE0-E3B8-42D9-A612-384D6A0C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2268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EC4-081F-48C4-918B-CE86FD69FD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C8F5-39F3-4488-968A-9B367D50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77840" y="46483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6"/>
          <p:cNvSpPr/>
          <p:nvPr/>
        </p:nvSpPr>
        <p:spPr>
          <a:xfrm>
            <a:off x="1219320" y="19692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08040" y="1143000"/>
            <a:ext cx="7056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cp:lastPrinted>1899-12-30T00:00:00Z</cp:lastPrinted>
  <dcterms:modified xsi:type="dcterms:W3CDTF">2009-03-12T09:00:00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