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936-8A5E-4077-B40E-1A4EA871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9BCC-5E02-4503-B478-4CDFD79E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C736-215C-41DC-9446-31C7AC05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49F-DE43-4DCE-A0FB-6FC7BDAC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57F8-8194-4F5E-92CC-67FC3755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DD0F-6F47-4A7F-BE7F-BE8889A1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B919-7DAC-4FBC-B1B0-E2DA3000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B6A4-AA97-4A34-9485-848B3BAA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4518-FF71-4691-8BFF-5AC5B070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09D8-79FD-4EDD-8C65-409348F5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22B9-F978-414A-B3E0-95F7EE69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8DE-BF27-40FB-B23A-DE7E45F8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0C8B-34AA-465D-A105-447541B6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F85C-0885-4F7A-A4EF-FB9AE4F1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0C6D-839D-4CFF-9A98-3199F4D0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EC47-C0FD-4AB2-918B-4C2FC68C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0B27-A774-497A-9C6B-6D002932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2AE10-AA12-4B34-A53B-20F53552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01F79-1D44-4C77-B1CC-7C422A1B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01ECA-811F-4496-AEFA-958E35B2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88782-6E82-4821-BCC8-5FF93177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9AB08-CB1D-4F2B-9562-5B6EAD54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9CE-E508-4205-8785-71046D82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71F5A-A98D-4153-A082-4F936616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AD59E-1FB3-4943-AF4B-033D7F15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276E7-6642-4398-B744-96F17F2A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CB656-E792-472B-907C-B5B82089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02754-3EED-450F-B947-3F21899F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EC01B-A792-4C93-867E-4D7312DC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77002-2225-4CA3-ADBD-DF424EF9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13D-148F-4B76-BFAA-82097A27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1C4A-B412-4A0B-9864-E7E02280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4A45-E1F5-4C8B-9765-16211A91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895-42A6-4C48-8B8C-C93A02DB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057-8F0F-45AB-A075-BF3991A6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EE41-A52C-488C-88A9-B9EEF402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3716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A417-1F50-4292-BFA3-E2796592BF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-360" y="13716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9059-6042-41AC-9A65-228E4F0ACD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86AC-E92F-46AE-A969-6A00490DC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ero"/>
                <a:ea typeface="宋体"/>
              </a:rPr>
              <a:t>EXECUTIVE B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ero"/>
                <a:ea typeface="宋体"/>
              </a:rPr>
              <a:t>Your Sub-title Goe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ero"/>
                <a:ea typeface="宋体"/>
              </a:rPr>
              <a:t>Your Topic Goes He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e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ero"/>
                <a:ea typeface="宋体"/>
              </a:rPr>
              <a:t>Your Sub-topics Go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ero"/>
                <a:ea typeface="宋体"/>
              </a:rPr>
              <a:t>Printable P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e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ero"/>
                <a:ea typeface="宋体"/>
              </a:rPr>
              <a:t>Add Your Text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833760" y="571464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ero"/>
                <a:ea typeface="宋体"/>
              </a:rPr>
              <a:t>TRANSI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407988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Times New Roman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-842760" y="5302080"/>
            <a:ext cx="51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20:28:57Z</dcterms:created>
  <dc:creator>eclipse</dc:creator>
  <dc:description/>
  <dc:language>en-US</dc:language>
  <cp:lastModifiedBy>echo</cp:lastModifiedBy>
  <cp:lastPrinted>1899-12-30T00:00:00Z</cp:lastPrinted>
  <dcterms:modified xsi:type="dcterms:W3CDTF">2009-12-08T03:45:24Z</dcterms:modified>
  <cp:revision>2</cp:revision>
  <dc:subject/>
  <dc:title>EXECUTIVE BAL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