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398-9854-4214-A493-893D7AF4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EA3-484F-4CA5-AAA6-6D1B3F29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3D8-205D-4799-9846-8A3F121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607-6F7E-4B2F-8ECD-DEF67D6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22A-EEAF-4F61-89BC-C237E2D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FA5-1645-4478-B93B-E725EB33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C38-872A-4B7F-88BD-D451ADA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6CD-1010-48A8-9328-3DFF7A8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FFA-D677-40DA-8496-1D9E903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516-0708-42A1-B174-90E63C6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BC2-A24B-456B-80F7-86DCBC26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257-60D5-4225-9C69-D29735D4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-4680" y="0"/>
            <a:ext cx="917712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未知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未知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-4680" y="6553080"/>
            <a:ext cx="9139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"/>
          <p:cNvSpPr/>
          <p:nvPr/>
        </p:nvSpPr>
        <p:spPr>
          <a:xfrm>
            <a:off x="-4680" y="797040"/>
            <a:ext cx="91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-4680" y="0"/>
            <a:ext cx="915804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未知"/>
          <p:cNvSpPr/>
          <p:nvPr/>
        </p:nvSpPr>
        <p:spPr>
          <a:xfrm>
            <a:off x="-31680" y="3429000"/>
            <a:ext cx="345600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6EA-60C6-44DF-A1DF-3CD93F9DF8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4680" y="1989000"/>
            <a:ext cx="9158040" cy="4873680"/>
          </a:xfrm>
          <a:prstGeom prst="rect">
            <a:avLst/>
          </a:prstGeom>
          <a:ln w="0">
            <a:noFill/>
          </a:ln>
        </p:spPr>
      </p:pic>
      <p:sp>
        <p:nvSpPr>
          <p:cNvPr id="130" name="未知"/>
          <p:cNvSpPr/>
          <p:nvPr/>
        </p:nvSpPr>
        <p:spPr>
          <a:xfrm>
            <a:off x="-4680" y="0"/>
            <a:ext cx="915804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-31680" y="3429000"/>
            <a:ext cx="345600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3511440" y="654372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Gulim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8690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56610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sub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>
            <a:off x="-4680" y="797040"/>
            <a:ext cx="91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64488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24000" y="443700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0B6-B951-4B4B-9D32-0799F35250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氤?霐旍瀽鞚胳潃 ARTCOM PT鞐瓣惮靻岇棎 鞝€鞛戧秾鞚?鞛堨姷雼堧嫟. </dc:description>
  <dc:language>en-US</dc:language>
  <cp:lastModifiedBy>king</cp:lastModifiedBy>
  <cp:lastPrinted>1899-12-30T00:00:00Z</cp:lastPrinted>
  <dcterms:modified xsi:type="dcterms:W3CDTF">2011-12-21T02:15:17Z</dcterms:modified>
  <cp:revision>14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