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E2EAF-183E-4225-954E-4019690012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3E044-22FB-4086-92BD-6E10B791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C6661-5970-4382-9B07-FA8EBF7F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A1827-51C1-4A89-81E0-340747A851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44FF0-A692-4E5B-A095-F4195F47E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ECE97-A661-4431-B92D-38CB2008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7B8F1-59A3-426C-BD06-185E2B71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18344-14BC-4ECD-AF09-8E6BC816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3D9134-74AE-4E6C-B555-AF5B6269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AEBEF-0B45-4EAF-9B81-F401FE91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662C1-D87E-4052-AA71-41BEA8BE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B4A15-463C-4358-9C82-6B5B4BD7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87E25-5B3B-451D-B3FB-6C8F057F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DE05F-CF3C-4D26-BAE1-1AC388D5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864B0-A110-4613-A50B-046DD706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1DF61-A983-4F2E-A3D0-F66933AF9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77CCD-A80E-4875-9AD7-29E406F23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FCC35C-FF99-4325-BFDA-B667FBF22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67A588-D091-42DD-83F2-A93BCBE8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0091DC-6633-44D2-B295-B7E628BC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49663B-CDAE-4AC2-BDAF-A52FC2CE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94BBB2-A2EC-4F0E-BBFE-F8F744EA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2AD25-B7E5-439F-92BF-E1EFCD2A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2229AE-6C04-497A-9388-1627AACF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5E9D36-A6DC-478C-97EC-82EB12DB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F47C5E-6ED2-4028-854F-A9578B15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4C594E-1141-48CC-B278-F3D4A0AC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B5C851-6F32-482A-B8AF-319CCA15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AABB72-AFDB-4F2E-B334-054F9DB88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763410-F3E9-4B2C-BED5-0D97404FC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4115F-7883-4CD1-84BC-393D7107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97E39-486D-4EE1-A782-2BB2A09E1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DF89A-7FA1-4E18-9DEB-B3BDAAB77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22795-35EF-43D6-890D-C08FDF79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62E76-D1EF-484D-BA72-7340995D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49647-9B96-4590-8E27-99BAB2CB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55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3428640" y="6555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B323-788C-413D-85D7-84939A0F25F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360" y="1143000"/>
            <a:ext cx="7086600" cy="22320"/>
            <a:chOff x="-360" y="1143000"/>
            <a:chExt cx="7086600" cy="22320"/>
          </a:xfrm>
        </p:grpSpPr>
        <p:sp>
          <p:nvSpPr>
            <p:cNvPr id="3" name=""/>
            <p:cNvSpPr/>
            <p:nvPr/>
          </p:nvSpPr>
          <p:spPr>
            <a:xfrm flipH="1">
              <a:off x="-360" y="1143000"/>
              <a:ext cx="70866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165320"/>
              <a:ext cx="312408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84c9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984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dt" idx="3"/>
          </p:nvPr>
        </p:nvSpPr>
        <p:spPr>
          <a:xfrm>
            <a:off x="1371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4"/>
          </p:nvPr>
        </p:nvSpPr>
        <p:spPr>
          <a:xfrm>
            <a:off x="1371240" y="64767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5"/>
          </p:nvPr>
        </p:nvSpPr>
        <p:spPr>
          <a:xfrm>
            <a:off x="1371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ED26-9F35-47E3-B616-922758DD6A04}" type="slidenum"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2590920" y="2514240"/>
            <a:ext cx="63244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84c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3984c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884A-BB7E-478C-AB63-7BB12EA59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19160" y="3365640"/>
            <a:ext cx="60195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2895120" y="4038480"/>
            <a:ext cx="5715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984c9"/>
                </a:solidFill>
                <a:latin typeface="Verdana"/>
              </a:rPr>
              <a:t>Click to add title</a:t>
            </a: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1452600" y="1444680"/>
            <a:ext cx="5769000" cy="4574880"/>
            <a:chOff x="1452600" y="1444680"/>
            <a:chExt cx="5769000" cy="4574880"/>
          </a:xfrm>
        </p:grpSpPr>
        <p:sp>
          <p:nvSpPr>
            <p:cNvPr id="323" name=""/>
            <p:cNvSpPr/>
            <p:nvPr/>
          </p:nvSpPr>
          <p:spPr>
            <a:xfrm rot="13770000">
              <a:off x="4914720" y="3882960"/>
              <a:ext cx="960480" cy="19188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20856000">
              <a:off x="2928600" y="3433680"/>
              <a:ext cx="100980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3867120" y="2127240"/>
              <a:ext cx="1702800" cy="1836360"/>
              <a:chOff x="3867120" y="2127240"/>
              <a:chExt cx="1702800" cy="1836360"/>
            </a:xfrm>
          </p:grpSpPr>
          <p:sp>
            <p:nvSpPr>
              <p:cNvPr id="326" name=""/>
              <p:cNvSpPr/>
              <p:nvPr/>
            </p:nvSpPr>
            <p:spPr>
              <a:xfrm rot="18394200">
                <a:off x="5041440" y="2339640"/>
                <a:ext cx="59580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327" name=""/>
              <p:cNvGrpSpPr/>
              <p:nvPr/>
            </p:nvGrpSpPr>
            <p:grpSpPr>
              <a:xfrm>
                <a:off x="3867120" y="2375640"/>
                <a:ext cx="1609560" cy="1587960"/>
                <a:chOff x="3867120" y="2375640"/>
                <a:chExt cx="1609560" cy="158796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3867120" y="2375640"/>
                  <a:ext cx="1609560" cy="158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0a8b0"/>
                    </a:gs>
                    <a:gs pos="100000">
                      <a:srgbClr val="22282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29" name="未知"/>
                <p:cNvSpPr/>
                <p:nvPr/>
              </p:nvSpPr>
              <p:spPr>
                <a:xfrm>
                  <a:off x="4051080" y="2401920"/>
                  <a:ext cx="1241640" cy="5990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0a8b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0" name=""/>
              <p:cNvSpPr/>
              <p:nvPr/>
            </p:nvSpPr>
            <p:spPr>
              <a:xfrm>
                <a:off x="3953880" y="306684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5276880" y="1444680"/>
              <a:ext cx="891720" cy="861840"/>
              <a:chOff x="5276880" y="1444680"/>
              <a:chExt cx="891720" cy="861840"/>
            </a:xfrm>
          </p:grpSpPr>
          <p:grpSp>
            <p:nvGrpSpPr>
              <p:cNvPr id="332" name=""/>
              <p:cNvGrpSpPr/>
              <p:nvPr/>
            </p:nvGrpSpPr>
            <p:grpSpPr>
              <a:xfrm>
                <a:off x="5276880" y="1444680"/>
                <a:ext cx="871560" cy="861840"/>
                <a:chOff x="5276880" y="1444680"/>
                <a:chExt cx="871560" cy="86184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5276880" y="144468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84c9"/>
                    </a:gs>
                    <a:gs pos="100000">
                      <a:srgbClr val="193b5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34" name="未知"/>
                <p:cNvSpPr/>
                <p:nvPr/>
              </p:nvSpPr>
              <p:spPr>
                <a:xfrm>
                  <a:off x="5376240" y="145872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984c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5" name=""/>
              <p:cNvSpPr/>
              <p:nvPr/>
            </p:nvSpPr>
            <p:spPr>
              <a:xfrm>
                <a:off x="5297400" y="177660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1452600" y="2770200"/>
              <a:ext cx="1744560" cy="1790640"/>
              <a:chOff x="1452600" y="2770200"/>
              <a:chExt cx="1744560" cy="1790640"/>
            </a:xfrm>
          </p:grpSpPr>
          <p:grpSp>
            <p:nvGrpSpPr>
              <p:cNvPr id="337" name=""/>
              <p:cNvGrpSpPr/>
              <p:nvPr/>
            </p:nvGrpSpPr>
            <p:grpSpPr>
              <a:xfrm>
                <a:off x="1452600" y="2770200"/>
                <a:ext cx="1744560" cy="1790640"/>
                <a:chOff x="1452600" y="2770200"/>
                <a:chExt cx="1744560" cy="179064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1452600" y="277020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7ae26"/>
                    </a:gs>
                    <a:gs pos="100000">
                      <a:srgbClr val="557d1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39" name="未知"/>
                <p:cNvSpPr/>
                <p:nvPr/>
              </p:nvSpPr>
              <p:spPr>
                <a:xfrm>
                  <a:off x="1652040" y="279972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7ae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0" name=""/>
              <p:cNvSpPr/>
              <p:nvPr/>
            </p:nvSpPr>
            <p:spPr>
              <a:xfrm>
                <a:off x="1546920" y="35654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5208480" y="4030560"/>
              <a:ext cx="2013120" cy="1989000"/>
              <a:chOff x="5208480" y="4030560"/>
              <a:chExt cx="2013120" cy="198900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5208480" y="4030560"/>
                <a:ext cx="2013120" cy="1989000"/>
                <a:chOff x="5208480" y="4030560"/>
                <a:chExt cx="2013120" cy="198900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5208480" y="403056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815b"/>
                    </a:gs>
                    <a:gs pos="100000">
                      <a:srgbClr val="3b463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4" name="未知"/>
                <p:cNvSpPr/>
                <p:nvPr/>
              </p:nvSpPr>
              <p:spPr>
                <a:xfrm>
                  <a:off x="5438520" y="406332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6e815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" name=""/>
              <p:cNvSpPr/>
              <p:nvPr/>
            </p:nvSpPr>
            <p:spPr>
              <a:xfrm>
                <a:off x="5496840" y="489240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984c9"/>
                </a:solidFill>
                <a:latin typeface="Verdana"/>
              </a:rPr>
              <a:t>Click to add title</a:t>
            </a: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 rot="17973000">
            <a:off x="4615560" y="267552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3984c9"/>
              </a:gs>
              <a:gs pos="100000">
                <a:srgbClr val="3275b2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3465600">
            <a:off x="4614840" y="48394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3984c9"/>
              </a:gs>
              <a:gs pos="100000">
                <a:srgbClr val="3275b2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rot="14368800">
            <a:off x="3396240" y="27514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984c9"/>
              </a:gs>
              <a:gs pos="100000">
                <a:srgbClr val="3275b2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rot="7534800">
            <a:off x="3358080" y="48060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984c9"/>
              </a:gs>
              <a:gs pos="100000">
                <a:srgbClr val="3275b2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194440" y="380376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3984c9"/>
              </a:gs>
              <a:gs pos="100000">
                <a:srgbClr val="3275b2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rot="10800000">
            <a:off x="278424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3984c9"/>
              </a:gs>
              <a:gs pos="100000">
                <a:srgbClr val="3275b2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505240" y="2046240"/>
            <a:ext cx="3743280" cy="3745080"/>
          </a:xfrm>
          <a:prstGeom prst="ellipse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3267000" y="2093760"/>
            <a:ext cx="360360" cy="360360"/>
            <a:chOff x="3267000" y="2093760"/>
            <a:chExt cx="360360" cy="360360"/>
          </a:xfrm>
        </p:grpSpPr>
        <p:sp>
          <p:nvSpPr>
            <p:cNvPr id="355" name=""/>
            <p:cNvSpPr/>
            <p:nvPr/>
          </p:nvSpPr>
          <p:spPr>
            <a:xfrm>
              <a:off x="3267000" y="2093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0e2b5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282840" y="2124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0e2b5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2322360" y="3749760"/>
            <a:ext cx="360360" cy="360360"/>
            <a:chOff x="2322360" y="3749760"/>
            <a:chExt cx="360360" cy="360360"/>
          </a:xfrm>
        </p:grpSpPr>
        <p:sp>
          <p:nvSpPr>
            <p:cNvPr id="358" name=""/>
            <p:cNvSpPr/>
            <p:nvPr/>
          </p:nvSpPr>
          <p:spPr>
            <a:xfrm>
              <a:off x="232236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0e2b5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33820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0e2b5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3186000" y="5292720"/>
            <a:ext cx="360360" cy="360360"/>
            <a:chOff x="3186000" y="5292720"/>
            <a:chExt cx="360360" cy="360360"/>
          </a:xfrm>
        </p:grpSpPr>
        <p:sp>
          <p:nvSpPr>
            <p:cNvPr id="361" name=""/>
            <p:cNvSpPr/>
            <p:nvPr/>
          </p:nvSpPr>
          <p:spPr>
            <a:xfrm>
              <a:off x="3186000" y="529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0e2b5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201840" y="5322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0e2b5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116680" y="2073240"/>
            <a:ext cx="360360" cy="360360"/>
            <a:chOff x="5116680" y="2073240"/>
            <a:chExt cx="360360" cy="360360"/>
          </a:xfrm>
        </p:grpSpPr>
        <p:sp>
          <p:nvSpPr>
            <p:cNvPr id="364" name=""/>
            <p:cNvSpPr/>
            <p:nvPr/>
          </p:nvSpPr>
          <p:spPr>
            <a:xfrm>
              <a:off x="5116680" y="2073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0e2b5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132520" y="2103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0e2b5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6066000" y="3749760"/>
            <a:ext cx="360360" cy="360360"/>
            <a:chOff x="6066000" y="3749760"/>
            <a:chExt cx="360360" cy="360360"/>
          </a:xfrm>
        </p:grpSpPr>
        <p:sp>
          <p:nvSpPr>
            <p:cNvPr id="367" name=""/>
            <p:cNvSpPr/>
            <p:nvPr/>
          </p:nvSpPr>
          <p:spPr>
            <a:xfrm>
              <a:off x="606600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0e2b5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8184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0e2b5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5172120" y="5349960"/>
            <a:ext cx="360360" cy="360360"/>
            <a:chOff x="5172120" y="5349960"/>
            <a:chExt cx="360360" cy="360360"/>
          </a:xfrm>
        </p:grpSpPr>
        <p:sp>
          <p:nvSpPr>
            <p:cNvPr id="370" name=""/>
            <p:cNvSpPr/>
            <p:nvPr/>
          </p:nvSpPr>
          <p:spPr>
            <a:xfrm>
              <a:off x="517212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0e2b5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187960" y="53802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0e2b5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346248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6e815b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45600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323b29"/>
              </a:gs>
              <a:gs pos="100000">
                <a:srgbClr val="6e815b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589200" y="3114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3b4531"/>
              </a:gs>
              <a:gs pos="50000">
                <a:srgbClr val="6e815b"/>
              </a:gs>
              <a:gs pos="100000">
                <a:srgbClr val="3b453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571920" y="3087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6e815b">
                  <a:alpha val="0"/>
                </a:srgbClr>
              </a:gs>
              <a:gs pos="100000">
                <a:srgbClr val="45513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73440" y="31989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695760" y="321804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713040" y="322740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72888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809880" y="327816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002840" y="36878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55660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66716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47100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56600" y="53737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5276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90840" y="53118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984c9"/>
                </a:solidFill>
                <a:latin typeface="Verdana"/>
              </a:rPr>
              <a:t>Click to add title</a:t>
            </a: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1265400" y="1832040"/>
            <a:ext cx="2170080" cy="4034880"/>
            <a:chOff x="1265400" y="1832040"/>
            <a:chExt cx="2170080" cy="4034880"/>
          </a:xfrm>
        </p:grpSpPr>
        <p:sp>
          <p:nvSpPr>
            <p:cNvPr id="390" name=""/>
            <p:cNvSpPr/>
            <p:nvPr/>
          </p:nvSpPr>
          <p:spPr>
            <a:xfrm>
              <a:off x="12654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29888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3161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161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27188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31616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2009880" y="1832040"/>
              <a:ext cx="642960" cy="642600"/>
              <a:chOff x="2009880" y="1832040"/>
              <a:chExt cx="642960" cy="642600"/>
            </a:xfrm>
          </p:grpSpPr>
          <p:sp>
            <p:nvSpPr>
              <p:cNvPr id="397" name=""/>
              <p:cNvSpPr/>
              <p:nvPr/>
            </p:nvSpPr>
            <p:spPr>
              <a:xfrm>
                <a:off x="20098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0163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0242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0307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0646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21499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3417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3627360" y="1832040"/>
            <a:ext cx="2166840" cy="4034880"/>
            <a:chOff x="3627360" y="1832040"/>
            <a:chExt cx="2166840" cy="4034880"/>
          </a:xfrm>
        </p:grpSpPr>
        <p:sp>
          <p:nvSpPr>
            <p:cNvPr id="405" name=""/>
            <p:cNvSpPr/>
            <p:nvPr/>
          </p:nvSpPr>
          <p:spPr>
            <a:xfrm>
              <a:off x="362736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66084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67812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67812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37184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37832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38624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39236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2764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51188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70368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6306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7488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5983200" y="1832040"/>
            <a:ext cx="2170080" cy="4034880"/>
            <a:chOff x="5983200" y="1832040"/>
            <a:chExt cx="2170080" cy="4034880"/>
          </a:xfrm>
        </p:grpSpPr>
        <p:sp>
          <p:nvSpPr>
            <p:cNvPr id="419" name=""/>
            <p:cNvSpPr/>
            <p:nvPr/>
          </p:nvSpPr>
          <p:spPr>
            <a:xfrm>
              <a:off x="59896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228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0404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0404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6734160" y="1832040"/>
              <a:ext cx="642960" cy="642600"/>
              <a:chOff x="6734160" y="1832040"/>
              <a:chExt cx="642960" cy="642600"/>
            </a:xfrm>
          </p:grpSpPr>
          <p:sp>
            <p:nvSpPr>
              <p:cNvPr id="424" name=""/>
              <p:cNvSpPr/>
              <p:nvPr/>
            </p:nvSpPr>
            <p:spPr>
              <a:xfrm>
                <a:off x="673416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74064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74856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75504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78888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>
              <a:off x="68742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06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9832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2748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984c9"/>
                </a:solidFill>
                <a:latin typeface="Verdana"/>
              </a:rPr>
              <a:t>Click to add title</a:t>
            </a: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35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4721760" y="3529440"/>
            <a:ext cx="1523160" cy="2421720"/>
            <a:chOff x="4721760" y="3529440"/>
            <a:chExt cx="1523160" cy="2421720"/>
          </a:xfrm>
        </p:grpSpPr>
        <p:grpSp>
          <p:nvGrpSpPr>
            <p:cNvPr id="438" name=""/>
            <p:cNvGrpSpPr/>
            <p:nvPr/>
          </p:nvGrpSpPr>
          <p:grpSpPr>
            <a:xfrm>
              <a:off x="4721760" y="3686760"/>
              <a:ext cx="1418400" cy="2264400"/>
              <a:chOff x="4721760" y="3686760"/>
              <a:chExt cx="1418400" cy="2264400"/>
            </a:xfrm>
          </p:grpSpPr>
          <p:sp>
            <p:nvSpPr>
              <p:cNvPr id="439" name="未知"/>
              <p:cNvSpPr/>
              <p:nvPr/>
            </p:nvSpPr>
            <p:spPr>
              <a:xfrm rot="3876600">
                <a:off x="429408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0" name="未知"/>
              <p:cNvSpPr/>
              <p:nvPr/>
            </p:nvSpPr>
            <p:spPr>
              <a:xfrm rot="3876600">
                <a:off x="56599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5156640" y="3529440"/>
              <a:ext cx="1088280" cy="1737360"/>
              <a:chOff x="5156640" y="3529440"/>
              <a:chExt cx="1088280" cy="1737360"/>
            </a:xfrm>
          </p:grpSpPr>
          <p:sp>
            <p:nvSpPr>
              <p:cNvPr id="442" name="未知"/>
              <p:cNvSpPr/>
              <p:nvPr/>
            </p:nvSpPr>
            <p:spPr>
              <a:xfrm flipV="1" rot="3876600">
                <a:off x="482832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3" name="未知"/>
              <p:cNvSpPr/>
              <p:nvPr/>
            </p:nvSpPr>
            <p:spPr>
              <a:xfrm flipV="1" rot="3876600">
                <a:off x="586116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44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45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397040" y="277092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397040" y="277380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51760" y="2828880"/>
              <a:ext cx="99252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50" name=""/>
            <p:cNvGrpSpPr/>
            <p:nvPr/>
          </p:nvGrpSpPr>
          <p:grpSpPr>
            <a:xfrm>
              <a:off x="4466880" y="2844360"/>
              <a:ext cx="961920" cy="992160"/>
              <a:chOff x="4466880" y="2844360"/>
              <a:chExt cx="961920" cy="992160"/>
            </a:xfrm>
          </p:grpSpPr>
          <p:sp>
            <p:nvSpPr>
              <p:cNvPr id="451" name=""/>
              <p:cNvSpPr/>
              <p:nvPr/>
            </p:nvSpPr>
            <p:spPr>
              <a:xfrm>
                <a:off x="4466880" y="2844360"/>
                <a:ext cx="96192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479120" y="2849760"/>
                <a:ext cx="93888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488840" y="2859120"/>
                <a:ext cx="89280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541400" y="2884680"/>
                <a:ext cx="79344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55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56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57" name="未知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8" name="未知"/>
              <p:cNvSpPr/>
              <p:nvPr/>
            </p:nvSpPr>
            <p:spPr>
              <a:xfrm rot="3876600">
                <a:off x="762732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60" name="未知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1" name="未知"/>
              <p:cNvSpPr/>
              <p:nvPr/>
            </p:nvSpPr>
            <p:spPr>
              <a:xfrm flipV="1" rot="3876600">
                <a:off x="7828560" y="49564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62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68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29028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2916720" y="3529440"/>
            <a:ext cx="1523160" cy="2421720"/>
            <a:chOff x="2916720" y="3529440"/>
            <a:chExt cx="1523160" cy="2421720"/>
          </a:xfrm>
        </p:grpSpPr>
        <p:grpSp>
          <p:nvGrpSpPr>
            <p:cNvPr id="473" name=""/>
            <p:cNvGrpSpPr/>
            <p:nvPr/>
          </p:nvGrpSpPr>
          <p:grpSpPr>
            <a:xfrm>
              <a:off x="2916720" y="3686760"/>
              <a:ext cx="1418400" cy="2264400"/>
              <a:chOff x="2916720" y="3686760"/>
              <a:chExt cx="1418400" cy="2264400"/>
            </a:xfrm>
          </p:grpSpPr>
          <p:sp>
            <p:nvSpPr>
              <p:cNvPr id="474" name="未知"/>
              <p:cNvSpPr/>
              <p:nvPr/>
            </p:nvSpPr>
            <p:spPr>
              <a:xfrm rot="3876600">
                <a:off x="248904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5" name="未知"/>
              <p:cNvSpPr/>
              <p:nvPr/>
            </p:nvSpPr>
            <p:spPr>
              <a:xfrm rot="3876600">
                <a:off x="3854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3351600" y="3529440"/>
              <a:ext cx="1088280" cy="1737360"/>
              <a:chOff x="3351600" y="3529440"/>
              <a:chExt cx="1088280" cy="1737360"/>
            </a:xfrm>
          </p:grpSpPr>
          <p:sp>
            <p:nvSpPr>
              <p:cNvPr id="477" name="未知"/>
              <p:cNvSpPr/>
              <p:nvPr/>
            </p:nvSpPr>
            <p:spPr>
              <a:xfrm flipV="1" rot="3876600">
                <a:off x="302328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8" name="未知"/>
              <p:cNvSpPr/>
              <p:nvPr/>
            </p:nvSpPr>
            <p:spPr>
              <a:xfrm flipV="1" rot="3876600">
                <a:off x="405612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79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80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5938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5938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6481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2663640" y="2844360"/>
              <a:ext cx="960480" cy="992160"/>
              <a:chOff x="2663640" y="2844360"/>
              <a:chExt cx="960480" cy="992160"/>
            </a:xfrm>
          </p:grpSpPr>
          <p:sp>
            <p:nvSpPr>
              <p:cNvPr id="486" name=""/>
              <p:cNvSpPr/>
              <p:nvPr/>
            </p:nvSpPr>
            <p:spPr>
              <a:xfrm>
                <a:off x="26636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6758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6856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7378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90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91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92" name="未知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3" name="未知"/>
              <p:cNvSpPr/>
              <p:nvPr/>
            </p:nvSpPr>
            <p:spPr>
              <a:xfrm rot="3876600">
                <a:off x="210924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95" name="未知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6" name="未知"/>
              <p:cNvSpPr/>
              <p:nvPr/>
            </p:nvSpPr>
            <p:spPr>
              <a:xfrm flipV="1" rot="3876600">
                <a:off x="2310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97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98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460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460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9003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915840" y="2844360"/>
              <a:ext cx="960480" cy="992160"/>
              <a:chOff x="915840" y="2844360"/>
              <a:chExt cx="960480" cy="992160"/>
            </a:xfrm>
          </p:grpSpPr>
          <p:sp>
            <p:nvSpPr>
              <p:cNvPr id="504" name=""/>
              <p:cNvSpPr/>
              <p:nvPr/>
            </p:nvSpPr>
            <p:spPr>
              <a:xfrm>
                <a:off x="9158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9280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9378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9900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08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1101600" y="1828800"/>
            <a:ext cx="6056640" cy="407880"/>
            <a:chOff x="1101600" y="1828800"/>
            <a:chExt cx="6056640" cy="407880"/>
          </a:xfrm>
        </p:grpSpPr>
        <p:sp>
          <p:nvSpPr>
            <p:cNvPr id="517" name="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6272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6272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601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6272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39216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e6272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521" name=""/>
            <p:cNvCxnSpPr>
              <a:stCxn id="517" idx="3"/>
              <a:endCxn id="518" idx="1"/>
            </p:cNvCxnSpPr>
            <p:nvPr/>
          </p:nvCxnSpPr>
          <p:spPr>
            <a:xfrm>
              <a:off x="1837800" y="2052360"/>
              <a:ext cx="986760" cy="1080"/>
            </a:xfrm>
            <a:prstGeom prst="straightConnector1">
              <a:avLst/>
            </a:prstGeom>
            <a:ln w="9360">
              <a:solidFill>
                <a:srgbClr val="2e6272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518" idx="3"/>
              <a:endCxn id="519" idx="1"/>
            </p:cNvCxnSpPr>
            <p:nvPr/>
          </p:nvCxnSpPr>
          <p:spPr>
            <a:xfrm>
              <a:off x="3592440" y="2052360"/>
              <a:ext cx="978480" cy="1080"/>
            </a:xfrm>
            <a:prstGeom prst="straightConnector1">
              <a:avLst/>
            </a:prstGeom>
            <a:ln w="9360">
              <a:solidFill>
                <a:srgbClr val="2e6272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2e6272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984c9"/>
                </a:solidFill>
                <a:latin typeface="Verdana"/>
              </a:rPr>
              <a:t>Click to add title</a:t>
            </a: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526" name="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528" name="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984c9"/>
                  </a:gs>
                  <a:gs pos="100000">
                    <a:srgbClr val="275b8b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9" name="未知"/>
              <p:cNvSpPr/>
              <p:nvPr/>
            </p:nvSpPr>
            <p:spPr>
              <a:xfrm>
                <a:off x="1875240" y="17118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2bbe0"/>
                  </a:gs>
                  <a:gs pos="50000">
                    <a:srgbClr val="3984c9">
                      <a:alpha val="0"/>
                    </a:srgbClr>
                  </a:gs>
                  <a:gs pos="100000">
                    <a:srgbClr val="92bbe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930680" y="193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31" name="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33" name="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34" name="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535" name="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5a287"/>
                  </a:gs>
                  <a:gs pos="100000">
                    <a:srgbClr val="6e815b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6" name="未知"/>
              <p:cNvSpPr/>
              <p:nvPr/>
            </p:nvSpPr>
            <p:spPr>
              <a:xfrm>
                <a:off x="1875240" y="324216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e815b">
                      <a:alpha val="0"/>
                    </a:srgbClr>
                  </a:gs>
                  <a:gs pos="100000">
                    <a:srgbClr val="c0c8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93068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38" name="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40" name="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542" name="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7c6cc"/>
                  </a:gs>
                  <a:gs pos="100000">
                    <a:srgbClr val="90a8b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3" name="未知"/>
              <p:cNvSpPr/>
              <p:nvPr/>
            </p:nvSpPr>
            <p:spPr>
              <a:xfrm>
                <a:off x="1875240" y="478224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a8b0">
                      <a:alpha val="0"/>
                    </a:srgbClr>
                  </a:gs>
                  <a:gs pos="100000">
                    <a:srgbClr val="c8d3d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93068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45" name="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984c9"/>
                </a:solidFill>
                <a:latin typeface="Verdana"/>
              </a:rPr>
              <a:t>Click to add title</a:t>
            </a: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sp>
        <p:nvSpPr>
          <p:cNvPr id="547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552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323b29"/>
                </a:gs>
              </a:gsLst>
              <a:lin ang="198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53" name="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554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58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3984c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59" name="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560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323b29"/>
                </a:gs>
              </a:gsLst>
              <a:lin ang="198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65" name="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566" name="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3984c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71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984c9"/>
                </a:solidFill>
                <a:latin typeface="Verdana"/>
              </a:rPr>
              <a:t>Click to add title</a:t>
            </a: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914400" y="2057400"/>
          <a:ext cx="7467480" cy="328464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</a:tr>
              <a:tr h="4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黑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"/>
          <p:cNvGrpSpPr/>
          <p:nvPr/>
        </p:nvGrpSpPr>
        <p:grpSpPr>
          <a:xfrm>
            <a:off x="824760" y="504360"/>
            <a:ext cx="7379640" cy="5581800"/>
            <a:chOff x="824760" y="504360"/>
            <a:chExt cx="7379640" cy="5581800"/>
          </a:xfrm>
        </p:grpSpPr>
        <p:sp>
          <p:nvSpPr>
            <p:cNvPr id="582" name=""/>
            <p:cNvSpPr/>
            <p:nvPr/>
          </p:nvSpPr>
          <p:spPr>
            <a:xfrm>
              <a:off x="2362320" y="42912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121212">
                    <a:alpha val="0"/>
                  </a:srgbClr>
                </a:gs>
                <a:gs pos="100000">
                  <a:srgbClr val="292929">
                    <a:alpha val="7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20601600">
              <a:off x="1672920" y="21794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b2b2b2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20601600">
              <a:off x="1692000" y="20163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20601600">
              <a:off x="1609560" y="200160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9daa91"/>
                </a:gs>
                <a:gs pos="100000">
                  <a:srgbClr val="6e815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 rot="20602200">
              <a:off x="1658520" y="2001240"/>
              <a:ext cx="564408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224f79"/>
                </a:gs>
                <a:gs pos="100000">
                  <a:srgbClr val="3984c9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20601600">
              <a:off x="1616400" y="201384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587" y="1342"/>
                  </a:moveTo>
                  <a:arcTo wR="10800" hR="10800" stAng="-7131749" swAng="4032112"/>
                  <a:lnTo>
                    <a:pt x="10800" y="10800"/>
                  </a:lnTo>
                  <a:close/>
                </a:path>
                <a:path fill="none" w="21600" h="21600">
                  <a:moveTo>
                    <a:pt x="5587" y="1342"/>
                  </a:moveTo>
                  <a:arcTo wR="10800" hR="10800" stAng="-7131749" swAng="4032112"/>
                </a:path>
              </a:pathLst>
            </a:custGeom>
            <a:gradFill rotWithShape="0">
              <a:gsLst>
                <a:gs pos="0">
                  <a:srgbClr val="18333b"/>
                </a:gs>
                <a:gs pos="100000">
                  <a:srgbClr val="2e62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 rot="20602200">
              <a:off x="1626480" y="1994400"/>
              <a:ext cx="5698440" cy="297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74" y="719"/>
                  </a:moveTo>
                  <a:arcTo wR="10800" hR="10800" stAng="-4138599" swAng="5887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74" y="719"/>
                  </a:moveTo>
                  <a:arcTo wR="10800" hR="10800" stAng="-4138599" swAng="5887996"/>
                </a:path>
              </a:pathLst>
            </a:custGeom>
            <a:gradFill rotWithShape="0">
              <a:gsLst>
                <a:gs pos="0">
                  <a:srgbClr val="405e14"/>
                </a:gs>
                <a:gs pos="100000">
                  <a:srgbClr val="77ae26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20601600">
              <a:off x="315432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bebeb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14524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050360" y="2190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87916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93" name=""/>
            <p:cNvGrpSpPr/>
            <p:nvPr/>
          </p:nvGrpSpPr>
          <p:grpSpPr>
            <a:xfrm>
              <a:off x="824760" y="504360"/>
              <a:ext cx="7379640" cy="5581800"/>
              <a:chOff x="824760" y="504360"/>
              <a:chExt cx="7379640" cy="5581800"/>
            </a:xfrm>
          </p:grpSpPr>
          <p:sp>
            <p:nvSpPr>
              <p:cNvPr id="594" name="未知"/>
              <p:cNvSpPr/>
              <p:nvPr/>
            </p:nvSpPr>
            <p:spPr>
              <a:xfrm>
                <a:off x="5668920" y="344844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0a8b0"/>
                  </a:gs>
                  <a:gs pos="100000">
                    <a:srgbClr val="57656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20539200">
                <a:off x="1243080" y="1408320"/>
                <a:ext cx="6542640" cy="377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808" y="16758"/>
                    </a:moveTo>
                    <a:arcTo wR="10800" hR="10800" stAng="2008784" swAng="28002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808" y="16758"/>
                    </a:moveTo>
                    <a:arcTo wR="10800" hR="10800" stAng="2008784" swAng="2800242"/>
                  </a:path>
                </a:pathLst>
              </a:custGeom>
              <a:gradFill rotWithShape="0">
                <a:gsLst>
                  <a:gs pos="0">
                    <a:srgbClr val="424d51"/>
                  </a:gs>
                  <a:gs pos="100000">
                    <a:srgbClr val="90a8b0"/>
                  </a:gs>
                </a:gsLst>
                <a:lin ang="118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6" name="未知"/>
              <p:cNvSpPr/>
              <p:nvPr/>
            </p:nvSpPr>
            <p:spPr>
              <a:xfrm>
                <a:off x="4803480" y="392472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d51"/>
                  </a:gs>
                  <a:gs pos="100000">
                    <a:srgbClr val="90a8b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573880" y="37152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Text4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98" name=""/>
            <p:cNvSpPr/>
            <p:nvPr/>
          </p:nvSpPr>
          <p:spPr>
            <a:xfrm>
              <a:off x="336456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未知"/>
            <p:cNvSpPr/>
            <p:nvPr/>
          </p:nvSpPr>
          <p:spPr>
            <a:xfrm>
              <a:off x="4648320" y="39909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6e815b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20601600">
              <a:off x="3257640" y="29815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984c9"/>
                </a:solidFill>
                <a:latin typeface="Verdana"/>
              </a:rPr>
              <a:t>Click to add title</a:t>
            </a: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984c9"/>
                </a:solidFill>
                <a:latin typeface="Verdana"/>
              </a:rPr>
              <a:t>Click to add title</a:t>
            </a: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1447920" y="2162160"/>
            <a:ext cx="6248160" cy="4114800"/>
          </a:xfrm>
          <a:prstGeom prst="upArrow">
            <a:avLst>
              <a:gd name="adj1" fmla="val 73769"/>
              <a:gd name="adj2" fmla="val 32588"/>
            </a:avLst>
          </a:prstGeom>
          <a:gradFill rotWithShape="0">
            <a:gsLst>
              <a:gs pos="0">
                <a:srgbClr val="3984c9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124080" y="162864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438280" y="3381480"/>
            <a:ext cx="4267440" cy="3085920"/>
          </a:xfrm>
          <a:prstGeom prst="upArrow">
            <a:avLst>
              <a:gd name="adj1" fmla="val 72694"/>
              <a:gd name="adj2" fmla="val 33931"/>
            </a:avLst>
          </a:prstGeom>
          <a:gradFill rotWithShape="0">
            <a:gsLst>
              <a:gs pos="0">
                <a:srgbClr val="77ae26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638680" y="4844880"/>
            <a:ext cx="2438640" cy="161640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2e6272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3371760" y="4924440"/>
            <a:ext cx="2286000" cy="1542960"/>
            <a:chOff x="3371760" y="4924440"/>
            <a:chExt cx="2286000" cy="1542960"/>
          </a:xfrm>
        </p:grpSpPr>
        <p:sp>
          <p:nvSpPr>
            <p:cNvPr id="608" name=""/>
            <p:cNvSpPr/>
            <p:nvPr/>
          </p:nvSpPr>
          <p:spPr>
            <a:xfrm>
              <a:off x="3371760" y="4924440"/>
              <a:ext cx="2286000" cy="1542960"/>
            </a:xfrm>
            <a:prstGeom prst="upArrow">
              <a:avLst>
                <a:gd name="adj1" fmla="val 78306"/>
                <a:gd name="adj2" fmla="val 48213"/>
              </a:avLst>
            </a:prstGeom>
            <a:gradFill rotWithShape="0">
              <a:gsLst>
                <a:gs pos="0">
                  <a:srgbClr val="2e6272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756240" y="5550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6042240" y="55530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599640" y="429408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599640" y="255744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1123920" y="4933800"/>
            <a:ext cx="2286000" cy="1543320"/>
            <a:chOff x="1123920" y="4933800"/>
            <a:chExt cx="2286000" cy="1543320"/>
          </a:xfrm>
        </p:grpSpPr>
        <p:sp>
          <p:nvSpPr>
            <p:cNvPr id="614" name=""/>
            <p:cNvSpPr/>
            <p:nvPr/>
          </p:nvSpPr>
          <p:spPr>
            <a:xfrm>
              <a:off x="1123920" y="4933800"/>
              <a:ext cx="2286000" cy="1543320"/>
            </a:xfrm>
            <a:prstGeom prst="upArrow">
              <a:avLst>
                <a:gd name="adj1" fmla="val 78306"/>
                <a:gd name="adj2" fmla="val 48213"/>
              </a:avLst>
            </a:prstGeom>
            <a:gradFill rotWithShape="0">
              <a:gsLst>
                <a:gs pos="0">
                  <a:srgbClr val="2e6272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508400" y="555984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3048120" y="4190760"/>
            <a:ext cx="4952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2895480" y="3505320"/>
            <a:ext cx="4343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984c9"/>
                    </a:gs>
                    <a:gs pos="100000">
                      <a:srgbClr val="2e6272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00336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984c9"/>
                  </a:gs>
                  <a:gs pos="100000">
                    <a:srgbClr val="2e6272"/>
                  </a:gs>
                </a:gsLst>
                <a:lin ang="10800000"/>
              </a:gradFill>
              <a:effectLst>
                <a:outerShdw dist="53966" dir="2700000" blurRad="0" rotWithShape="0">
                  <a:srgbClr val="00336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971800" y="4267080"/>
            <a:ext cx="763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238880" y="0"/>
            <a:ext cx="15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984c9"/>
                </a:solidFill>
                <a:latin typeface="Verdana"/>
              </a:rPr>
              <a:t>Click to add title</a:t>
            </a: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29" name="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7ae26"/>
                </a:gs>
                <a:gs pos="50000">
                  <a:srgbClr val="e1ecd0"/>
                </a:gs>
                <a:gs pos="100000">
                  <a:srgbClr val="77ae2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77ae2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34" name="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984c9"/>
                </a:gs>
                <a:gs pos="50000">
                  <a:srgbClr val="d4e4f2"/>
                </a:gs>
                <a:gs pos="100000">
                  <a:srgbClr val="3984c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3984c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39" name="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e815b"/>
                </a:gs>
                <a:gs pos="50000">
                  <a:srgbClr val="dfe3db"/>
                </a:gs>
                <a:gs pos="100000">
                  <a:srgbClr val="6e81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6e815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44" name="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e6ebed"/>
                </a:gs>
                <a:gs pos="100000">
                  <a:srgbClr val="90a8b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90a8b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0" y="4076640"/>
            <a:ext cx="9144000" cy="278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2" name="TextBox 5"/>
          <p:cNvSpPr/>
          <p:nvPr/>
        </p:nvSpPr>
        <p:spPr>
          <a:xfrm>
            <a:off x="324000" y="443700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Kingsoft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3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984c9"/>
                </a:solidFill>
                <a:latin typeface="Verdana"/>
              </a:rPr>
              <a:t>Click to add title</a:t>
            </a: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556272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38400" y="33717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未知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7ca74"/>
              </a:gs>
              <a:gs pos="100000">
                <a:srgbClr val="77ae2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未知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0d6ca"/>
              </a:gs>
              <a:gs pos="100000">
                <a:srgbClr val="6e815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55" name=""/>
            <p:cNvGrpSpPr/>
            <p:nvPr/>
          </p:nvGrpSpPr>
          <p:grpSpPr>
            <a:xfrm>
              <a:off x="3048120" y="1590840"/>
              <a:ext cx="2998440" cy="1458360"/>
              <a:chOff x="3048120" y="1590840"/>
              <a:chExt cx="2998440" cy="1458360"/>
            </a:xfrm>
          </p:grpSpPr>
          <p:sp>
            <p:nvSpPr>
              <p:cNvPr id="156" name=""/>
              <p:cNvSpPr/>
              <p:nvPr/>
            </p:nvSpPr>
            <p:spPr>
              <a:xfrm>
                <a:off x="3080880" y="163728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353e2c"/>
                  </a:gs>
                  <a:gs pos="100000">
                    <a:srgbClr val="6e815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048120" y="159084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6e815b"/>
                  </a:gs>
                  <a:gs pos="100000">
                    <a:srgbClr val="bec6b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3189240" y="144792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3984c9"/>
                </a:gs>
                <a:gs pos="100000">
                  <a:srgbClr val="1a3c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24160" y="145584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b9d3eb"/>
                </a:gs>
                <a:gs pos="100000">
                  <a:srgbClr val="3984c9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51160" y="146844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3984c9">
                    <a:alpha val="48235"/>
                  </a:srgbClr>
                </a:gs>
                <a:gs pos="100000">
                  <a:srgbClr val="2c689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82920" y="149544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3984c9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3882960" y="164772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91320" y="34005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984c9"/>
                </a:solidFill>
                <a:latin typeface="Verdana"/>
              </a:rPr>
              <a:t>Click to add title</a:t>
            </a: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09480" y="1553040"/>
            <a:ext cx="7700400" cy="4816440"/>
            <a:chOff x="609480" y="1553040"/>
            <a:chExt cx="7700400" cy="4816440"/>
          </a:xfrm>
        </p:grpSpPr>
        <p:sp>
          <p:nvSpPr>
            <p:cNvPr id="166" name="未知"/>
            <p:cNvSpPr/>
            <p:nvPr/>
          </p:nvSpPr>
          <p:spPr>
            <a:xfrm rot="20241600">
              <a:off x="1271160" y="2687040"/>
              <a:ext cx="6403680" cy="25477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dddddd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20056200">
              <a:off x="4452120" y="2545560"/>
              <a:ext cx="1120680" cy="32040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20056200">
              <a:off x="7174800" y="2785680"/>
              <a:ext cx="1120680" cy="32040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056200">
              <a:off x="2930760" y="5508720"/>
              <a:ext cx="1121040" cy="32040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20056200">
              <a:off x="5573520" y="4921200"/>
              <a:ext cx="1121040" cy="32004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056200">
              <a:off x="2050200" y="3987000"/>
              <a:ext cx="1120680" cy="32040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23920" y="1905120"/>
              <a:ext cx="1200960" cy="1157760"/>
            </a:xfrm>
            <a:prstGeom prst="ellipse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252c1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75280" y="3289680"/>
              <a:ext cx="1198800" cy="1157760"/>
            </a:xfrm>
            <a:prstGeom prst="ellipse">
              <a:avLst/>
            </a:prstGeom>
            <a:gradFill rotWithShape="0">
              <a:gsLst>
                <a:gs pos="0">
                  <a:srgbClr val="3984c9"/>
                </a:gs>
                <a:gs pos="100000">
                  <a:srgbClr val="1129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98960" y="4831560"/>
              <a:ext cx="1199520" cy="1157760"/>
            </a:xfrm>
            <a:prstGeom prst="ellipse">
              <a:avLst/>
            </a:prstGeom>
            <a:gradFill rotWithShape="0">
              <a:gsLst>
                <a:gs pos="0">
                  <a:srgbClr val="77ae26"/>
                </a:gs>
                <a:gs pos="100000">
                  <a:srgbClr val="2a3d0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93120" y="4259160"/>
              <a:ext cx="1199520" cy="1157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3f3f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01320" y="2111760"/>
              <a:ext cx="1134000" cy="1159560"/>
            </a:xfrm>
            <a:prstGeom prst="ellipse">
              <a:avLst/>
            </a:prstGeom>
            <a:gradFill rotWithShape="0">
              <a:gsLst>
                <a:gs pos="0">
                  <a:srgbClr val="90a8b0"/>
                </a:gs>
                <a:gs pos="100000">
                  <a:srgbClr val="31393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722240" y="37051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143600" y="2320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885360" y="2572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12080" y="4674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74720" y="5240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411720" y="3586680"/>
              <a:ext cx="242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42680" y="2320560"/>
              <a:ext cx="1709640" cy="1314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184" name=""/>
            <p:cNvCxnSpPr/>
            <p:nvPr/>
          </p:nvCxnSpPr>
          <p:spPr>
            <a:xfrm flipH="1">
              <a:off x="740160" y="2320200"/>
              <a:ext cx="1814040" cy="108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</a:ln>
          </p:spPr>
        </p:cxnSp>
        <p:sp>
          <p:nvSpPr>
            <p:cNvPr id="185" name=""/>
            <p:cNvSpPr/>
            <p:nvPr/>
          </p:nvSpPr>
          <p:spPr>
            <a:xfrm>
              <a:off x="609480" y="1905120"/>
              <a:ext cx="216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984c9"/>
                </a:solidFill>
                <a:latin typeface="Verdana"/>
              </a:rPr>
              <a:t>Click to add title</a:t>
            </a: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88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24d51"/>
                </a:gs>
                <a:gs pos="50000">
                  <a:srgbClr val="90a8b0"/>
                </a:gs>
                <a:gs pos="100000">
                  <a:srgbClr val="424d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24d51"/>
                </a:gs>
                <a:gs pos="50000">
                  <a:srgbClr val="90a8b0"/>
                </a:gs>
                <a:gs pos="100000">
                  <a:srgbClr val="424d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24d51"/>
                </a:gs>
                <a:gs pos="50000">
                  <a:srgbClr val="90a8b0"/>
                </a:gs>
                <a:gs pos="100000">
                  <a:srgbClr val="424d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a3c5c"/>
                </a:gs>
                <a:gs pos="50000">
                  <a:srgbClr val="3984c9"/>
                </a:gs>
                <a:gs pos="100000">
                  <a:srgbClr val="1a3c5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dcdcd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323b29"/>
                </a:gs>
                <a:gs pos="50000">
                  <a:srgbClr val="6e815b"/>
                </a:gs>
                <a:gs pos="100000">
                  <a:srgbClr val="323b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dcdcd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984c9"/>
                </a:solidFill>
                <a:latin typeface="Verdana"/>
              </a:rPr>
              <a:t>Click to add title</a:t>
            </a: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08" name="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209" name=""/>
              <p:cNvSpPr/>
              <p:nvPr/>
            </p:nvSpPr>
            <p:spPr>
              <a:xfrm flipH="1" rot="16200000">
                <a:off x="2927880" y="325692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cc0c6"/>
                  </a:gs>
                  <a:gs pos="100000">
                    <a:srgbClr val="2e62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 rot="5400000">
                <a:off x="5531400" y="320616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cc0c6"/>
                  </a:gs>
                  <a:gs pos="100000">
                    <a:srgbClr val="2e6272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 rot="10800000">
                <a:off x="423864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cc0c6"/>
                  </a:gs>
                  <a:gs pos="100000">
                    <a:srgbClr val="2e627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305880" y="2209680"/>
                <a:ext cx="23281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438720" y="2344680"/>
                <a:ext cx="206136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6e815b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3b4531"/>
                  </a:gs>
                  <a:gs pos="50000">
                    <a:srgbClr val="6e815b"/>
                  </a:gs>
                  <a:gs pos="100000">
                    <a:srgbClr val="3b453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24d51"/>
                </a:gs>
                <a:gs pos="50000">
                  <a:srgbClr val="90a8b0"/>
                </a:gs>
                <a:gs pos="100000">
                  <a:srgbClr val="424d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24d51"/>
                </a:gs>
                <a:gs pos="50000">
                  <a:srgbClr val="90a8b0"/>
                </a:gs>
                <a:gs pos="100000">
                  <a:srgbClr val="424d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24d51"/>
                </a:gs>
                <a:gs pos="50000">
                  <a:srgbClr val="90a8b0"/>
                </a:gs>
                <a:gs pos="100000">
                  <a:srgbClr val="424d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3c5c"/>
                </a:gs>
                <a:gs pos="50000">
                  <a:srgbClr val="3984c9"/>
                </a:gs>
                <a:gs pos="100000">
                  <a:srgbClr val="1a3c5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3c5c"/>
                </a:gs>
                <a:gs pos="50000">
                  <a:srgbClr val="3984c9"/>
                </a:gs>
                <a:gs pos="100000">
                  <a:srgbClr val="1a3c5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3c5c"/>
                </a:gs>
                <a:gs pos="50000">
                  <a:srgbClr val="3984c9"/>
                </a:gs>
                <a:gs pos="100000">
                  <a:srgbClr val="1a3c5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984c9"/>
                </a:solidFill>
                <a:latin typeface="Verdana"/>
              </a:rPr>
              <a:t>Click to add title</a:t>
            </a: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47" name="未知"/>
            <p:cNvSpPr/>
            <p:nvPr/>
          </p:nvSpPr>
          <p:spPr>
            <a:xfrm>
              <a:off x="7833960" y="2286000"/>
              <a:ext cx="57600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365011"/>
                </a:gs>
                <a:gs pos="50000">
                  <a:srgbClr val="77ae26"/>
                </a:gs>
                <a:gs pos="100000">
                  <a:srgbClr val="36501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8" name="未知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77ae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9" name="未知"/>
            <p:cNvSpPr/>
            <p:nvPr/>
          </p:nvSpPr>
          <p:spPr>
            <a:xfrm>
              <a:off x="7254720" y="3117960"/>
              <a:ext cx="57564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323b29"/>
                </a:gs>
                <a:gs pos="50000">
                  <a:srgbClr val="6e815b"/>
                </a:gs>
                <a:gs pos="100000">
                  <a:srgbClr val="323b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0" name="未知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6e81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1" name="未知"/>
            <p:cNvSpPr/>
            <p:nvPr/>
          </p:nvSpPr>
          <p:spPr>
            <a:xfrm>
              <a:off x="6673680" y="394956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4d51"/>
                </a:gs>
                <a:gs pos="50000">
                  <a:srgbClr val="90a8b0"/>
                </a:gs>
                <a:gs pos="100000">
                  <a:srgbClr val="424d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未知"/>
            <p:cNvSpPr/>
            <p:nvPr/>
          </p:nvSpPr>
          <p:spPr>
            <a:xfrm>
              <a:off x="6095880" y="4782960"/>
              <a:ext cx="5774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1a3c5c"/>
                </a:gs>
                <a:gs pos="50000">
                  <a:srgbClr val="3984c9"/>
                </a:gs>
                <a:gs pos="100000">
                  <a:srgbClr val="1a3c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3" name="未知"/>
            <p:cNvSpPr/>
            <p:nvPr/>
          </p:nvSpPr>
          <p:spPr>
            <a:xfrm>
              <a:off x="2592000" y="4788000"/>
              <a:ext cx="408132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398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4" name="未知"/>
            <p:cNvSpPr/>
            <p:nvPr/>
          </p:nvSpPr>
          <p:spPr>
            <a:xfrm>
              <a:off x="3184200" y="2440080"/>
              <a:ext cx="1838160" cy="27223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79600" y="2827440"/>
              <a:ext cx="2766960" cy="304560"/>
            </a:xfrm>
            <a:prstGeom prst="rect">
              <a:avLst/>
            </a:prstGeom>
            <a:gradFill rotWithShape="0">
              <a:gsLst>
                <a:gs pos="0">
                  <a:srgbClr val="557d1b"/>
                </a:gs>
                <a:gs pos="50000">
                  <a:srgbClr val="77ae26"/>
                </a:gs>
                <a:gs pos="100000">
                  <a:srgbClr val="557d1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44760" y="3657600"/>
              <a:ext cx="3015720" cy="298440"/>
            </a:xfrm>
            <a:prstGeom prst="rect">
              <a:avLst/>
            </a:prstGeom>
            <a:gradFill rotWithShape="0">
              <a:gsLst>
                <a:gs pos="0">
                  <a:srgbClr val="4f5d41"/>
                </a:gs>
                <a:gs pos="50000">
                  <a:srgbClr val="6e815b"/>
                </a:gs>
                <a:gs pos="100000">
                  <a:srgbClr val="4f5d4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7" name="未知"/>
            <p:cNvSpPr/>
            <p:nvPr/>
          </p:nvSpPr>
          <p:spPr>
            <a:xfrm>
              <a:off x="3419280" y="3949560"/>
              <a:ext cx="3833280" cy="54468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0a8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8797f"/>
                </a:gs>
                <a:gs pos="50000">
                  <a:srgbClr val="90a8b0"/>
                </a:gs>
                <a:gs pos="100000">
                  <a:srgbClr val="68797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590920" y="532908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295f91"/>
                </a:gs>
                <a:gs pos="50000">
                  <a:srgbClr val="3984c9"/>
                </a:gs>
                <a:gs pos="100000">
                  <a:srgbClr val="295f9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984c9"/>
                </a:solidFill>
                <a:latin typeface="Verdana"/>
              </a:rPr>
              <a:t>Click to add title</a:t>
            </a: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sp>
        <p:nvSpPr>
          <p:cNvPr id="261" name="未知"/>
          <p:cNvSpPr/>
          <p:nvPr/>
        </p:nvSpPr>
        <p:spPr>
          <a:xfrm>
            <a:off x="5073480" y="1219320"/>
            <a:ext cx="1467000" cy="11556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6e815b"/>
              </a:gs>
              <a:gs pos="100000">
                <a:srgbClr val="7a8b69">
                  <a:alpha val="3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424320" y="26528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77a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657600" y="25146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65011"/>
              </a:gs>
              <a:gs pos="50000">
                <a:srgbClr val="77ae26"/>
              </a:gs>
              <a:gs pos="100000">
                <a:srgbClr val="36501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5333400" y="25909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742560" y="25812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934240" y="21510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6e81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49880" y="20080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23b29"/>
              </a:gs>
              <a:gs pos="50000">
                <a:srgbClr val="6e815b"/>
              </a:gs>
              <a:gs pos="100000">
                <a:srgbClr val="323b2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7835040" y="20797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6253200" y="20797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未知"/>
          <p:cNvSpPr/>
          <p:nvPr/>
        </p:nvSpPr>
        <p:spPr>
          <a:xfrm>
            <a:off x="2492280" y="1720800"/>
            <a:ext cx="146700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90a8b0"/>
              </a:gs>
              <a:gs pos="100000">
                <a:srgbClr val="beccd0">
                  <a:alpha val="3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13200" y="24861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27800" y="19908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914400" y="2914560"/>
            <a:ext cx="2295360" cy="3324240"/>
            <a:chOff x="914400" y="2914560"/>
            <a:chExt cx="2295360" cy="3324240"/>
          </a:xfrm>
        </p:grpSpPr>
        <p:sp>
          <p:nvSpPr>
            <p:cNvPr id="274" name=""/>
            <p:cNvSpPr/>
            <p:nvPr/>
          </p:nvSpPr>
          <p:spPr>
            <a:xfrm>
              <a:off x="914400" y="3082680"/>
              <a:ext cx="2295360" cy="315612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6120"/>
                <a:gd name="textAreaBottom" fmla="*/ 3124800 h 3156120"/>
              </a:gdLst>
              <a:ahLst/>
              <a:rect l="textAreaLeft" t="textAreaTop" r="textAreaRight" b="textAreaBottom"/>
              <a:pathLst>
                <a:path w="21600" h="29699">
                  <a:moveTo>
                    <a:pt x="1013" y="0"/>
                  </a:moveTo>
                  <a:arcTo wR="1013" hR="1013" stAng="16200000" swAng="-5400000"/>
                  <a:lnTo>
                    <a:pt x="0" y="28686"/>
                  </a:lnTo>
                  <a:arcTo wR="1013" hR="1013" stAng="10800000" swAng="-5400000"/>
                  <a:lnTo>
                    <a:pt x="20587" y="29699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90a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30400" y="29401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74044"/>
                </a:gs>
                <a:gs pos="50000">
                  <a:srgbClr val="90a8b0"/>
                </a:gs>
                <a:gs pos="100000">
                  <a:srgbClr val="3740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2813760" y="3011400"/>
              <a:ext cx="7164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1231200" y="3011400"/>
              <a:ext cx="7308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398600" y="29145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90720" y="33433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3505320" y="28861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19920" y="235260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984c9"/>
                </a:solidFill>
                <a:latin typeface="Verdana"/>
              </a:rPr>
              <a:t>Click to add title</a:t>
            </a:r>
            <a:endParaRPr b="1" lang="en-US" sz="2800" spc="-1" strike="noStrike">
              <a:solidFill>
                <a:srgbClr val="3984c9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98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e81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6e815b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6e815b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3b4531"/>
              </a:gs>
              <a:gs pos="50000">
                <a:srgbClr val="6e815b"/>
              </a:gs>
              <a:gs pos="100000">
                <a:srgbClr val="3b453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6e815b">
                  <a:alpha val="0"/>
                </a:srgbClr>
              </a:gs>
              <a:gs pos="100000">
                <a:srgbClr val="45513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0a8b0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0a8b0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d5a5e"/>
              </a:gs>
              <a:gs pos="50000">
                <a:srgbClr val="90a8b0"/>
              </a:gs>
              <a:gs pos="100000">
                <a:srgbClr val="4d5a5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90a8b0">
                  <a:alpha val="0"/>
                </a:srgbClr>
              </a:gs>
              <a:gs pos="100000">
                <a:srgbClr val="5b6a6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99" name="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518480" y="2038680"/>
              <a:ext cx="12592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984c9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1a3c5c"/>
              </a:gs>
              <a:gs pos="100000">
                <a:srgbClr val="3984c9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1e476c"/>
              </a:gs>
              <a:gs pos="50000">
                <a:srgbClr val="3984c9"/>
              </a:gs>
              <a:gs pos="100000">
                <a:srgbClr val="1e476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3984c9">
                  <a:alpha val="0"/>
                </a:srgbClr>
              </a:gs>
              <a:gs pos="100000">
                <a:srgbClr val="24537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309" name="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98196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314" name="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5228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1T04:52:28Z</dcterms:created>
  <dc:creator/>
  <dc:description/>
  <dc:language>en-US</dc:language>
  <cp:lastModifiedBy>Sung Ha, Park</cp:lastModifiedBy>
  <cp:lastPrinted>1899-12-30T00:00:00Z</cp:lastPrinted>
  <dcterms:modified xsi:type="dcterms:W3CDTF">2004-11-23T08:19:59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