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E1E-1B30-4D20-B037-F95CE581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BBA-8C0C-4D7C-8D79-5F4D47C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61F-3A13-4068-9990-D0B1C97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88E-28A9-4E3A-8F7D-C9FFF2F6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395-ADDA-4826-B503-87F06A9A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9B20-9827-4CD5-BCD1-1BC83C61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7F79-FCAC-4DAD-BDF5-ED903B59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E691-3D43-414F-ADFC-5652BD8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AB8-3844-42D4-97AB-0CAF167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EC9-6570-46AA-89A2-93D9232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458-5225-4042-B4E4-9012234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F94-3BE7-43B0-82ED-3DF7523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1B1-9DE7-441D-AC72-F603C04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D2C2-3AAA-41B5-BD97-8EFDB1F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296-2D76-48E7-B836-4A0D94F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F18-551B-4898-8F83-DDEC29F7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849-6F9A-43B6-96CF-4FF16B60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D00B-5912-4D1E-B133-E44FD41B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31D1-CDD6-4459-B084-E92EBE4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D01C-12C9-456D-85F6-36FD59B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6E91-CD76-4F4A-92E8-E693D8C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723C-A5E0-4242-845A-FFFB053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E78-F1CD-49E3-939D-5DA44995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4427-76E7-42BC-A2FA-86FD689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D6B7-AF2F-4895-BC9B-C53E13E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F462-BF46-4927-96BE-FE8D330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A27D-9C91-40CA-B02E-D6E8A6D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7942-41C5-44AB-ADF8-AD7AB62B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A63F-9457-4C42-8B69-C1EC400E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7150-858A-4236-888D-582F4D67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FC3-9F4C-4299-B34F-1DAE7937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474-1C37-4B24-AD99-3FE1FE2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3CD-052D-4E84-8716-A891791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8BF-BBA5-49DE-93A1-1B7A025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DE2-6C48-4390-BA7E-0900DAF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7DF-4798-49FB-BDC6-CA009AD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b6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9ED-57C8-44F6-9387-D24138B1D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67640" y="115920"/>
            <a:ext cx="1081080" cy="115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"/>
            <p:cNvSpPr/>
            <p:nvPr/>
          </p:nvSpPr>
          <p:spPr>
            <a:xfrm>
              <a:off x="1066680" y="6480"/>
              <a:ext cx="7346880" cy="6851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313F-7F34-4DA3-B83C-612EC13B9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2028960"/>
            <a:ext cx="4380120" cy="4424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48E-0C5C-46B5-856F-30CF20BF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owerPoint Template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34120" y="61722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43000" y="1523880"/>
            <a:ext cx="7467480" cy="4444920"/>
            <a:chOff x="1143000" y="1523880"/>
            <a:chExt cx="7467480" cy="4444920"/>
          </a:xfrm>
        </p:grpSpPr>
        <p:sp>
          <p:nvSpPr>
            <p:cNvPr id="326" name="Unknown Shape"/>
            <p:cNvSpPr/>
            <p:nvPr/>
          </p:nvSpPr>
          <p:spPr>
            <a:xfrm>
              <a:off x="1143000" y="19303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2eb62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91320" y="330192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14880" y="3733560"/>
              <a:ext cx="1704960" cy="2028960"/>
              <a:chOff x="3314880" y="3733560"/>
              <a:chExt cx="1704960" cy="2028960"/>
            </a:xfrm>
          </p:grpSpPr>
          <p:sp>
            <p:nvSpPr>
              <p:cNvPr id="329" name=""/>
              <p:cNvSpPr/>
              <p:nvPr/>
            </p:nvSpPr>
            <p:spPr>
              <a:xfrm rot="20876400">
                <a:off x="338328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1488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3540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5304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4520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3248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477800" y="3352680"/>
              <a:ext cx="1371240" cy="1718640"/>
              <a:chOff x="1477800" y="3352680"/>
              <a:chExt cx="1371240" cy="1718640"/>
            </a:xfrm>
          </p:grpSpPr>
          <p:sp>
            <p:nvSpPr>
              <p:cNvPr id="336" name=""/>
              <p:cNvSpPr/>
              <p:nvPr/>
            </p:nvSpPr>
            <p:spPr>
              <a:xfrm rot="20826600">
                <a:off x="155412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477800" y="3352680"/>
                <a:ext cx="1371240" cy="1441080"/>
                <a:chOff x="1477800" y="3352680"/>
                <a:chExt cx="1371240" cy="14410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7780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9580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0876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8040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5824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219320" y="1981080"/>
              <a:ext cx="1100160" cy="1139760"/>
              <a:chOff x="1219320" y="1981080"/>
              <a:chExt cx="1100160" cy="1139760"/>
            </a:xfrm>
          </p:grpSpPr>
          <p:sp>
            <p:nvSpPr>
              <p:cNvPr id="344" name=""/>
              <p:cNvSpPr/>
              <p:nvPr/>
            </p:nvSpPr>
            <p:spPr>
              <a:xfrm>
                <a:off x="1219320" y="25876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95640" y="19810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19857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19400" y="199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73400" y="20224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92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514600" y="1523880"/>
              <a:ext cx="804960" cy="762120"/>
              <a:chOff x="2514600" y="1523880"/>
              <a:chExt cx="804960" cy="76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25146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370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463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528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892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72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55640" y="2279520"/>
            <a:ext cx="7632720" cy="3054240"/>
            <a:chOff x="755640" y="2279520"/>
            <a:chExt cx="7632720" cy="3054240"/>
          </a:xfrm>
        </p:grpSpPr>
        <p:sp>
          <p:nvSpPr>
            <p:cNvPr id="359" name=""/>
            <p:cNvSpPr/>
            <p:nvPr/>
          </p:nvSpPr>
          <p:spPr>
            <a:xfrm>
              <a:off x="291636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8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164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eb62e"/>
                </a:gs>
                <a:gs pos="100000">
                  <a:srgbClr val="a5df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eb6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2764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eb62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69120" y="24271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186218"/>
                </a:gs>
                <a:gs pos="50000">
                  <a:srgbClr val="2eb62e"/>
                </a:gs>
                <a:gs pos="100000">
                  <a:srgbClr val="1862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eb62e">
                    <a:alpha val="0"/>
                  </a:srgbClr>
                </a:gs>
                <a:gs pos="100000">
                  <a:srgbClr val="1d73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06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88a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88a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2420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d4a00"/>
                </a:gs>
                <a:gs pos="50000">
                  <a:srgbClr val="e88a00"/>
                </a:gs>
                <a:gs pos="100000">
                  <a:srgbClr val="7d4a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98560" y="2423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e88a00">
                    <a:alpha val="0"/>
                  </a:srgbClr>
                </a:gs>
                <a:gs pos="100000">
                  <a:srgbClr val="92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072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017720" y="2539800"/>
              <a:ext cx="1636560" cy="1636920"/>
              <a:chOff x="1017720" y="2539800"/>
              <a:chExt cx="1636560" cy="1636920"/>
            </a:xfrm>
          </p:grpSpPr>
          <p:sp>
            <p:nvSpPr>
              <p:cNvPr id="372" name=""/>
              <p:cNvSpPr/>
              <p:nvPr/>
            </p:nvSpPr>
            <p:spPr>
              <a:xfrm>
                <a:off x="101772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3860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5552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444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66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360" y="2286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384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d3600"/>
                </a:gs>
                <a:gs pos="50000">
                  <a:srgbClr val="cc6600"/>
                </a:gs>
                <a:gs pos="100000">
                  <a:srgbClr val="6d3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528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cc6600">
                    <a:alpha val="0"/>
                  </a:srgbClr>
                </a:gs>
                <a:gs pos="100000">
                  <a:srgbClr val="814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27440" y="2520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754440" y="2539800"/>
              <a:ext cx="1636560" cy="1636920"/>
              <a:chOff x="3754440" y="2539800"/>
              <a:chExt cx="1636560" cy="1636920"/>
            </a:xfrm>
          </p:grpSpPr>
          <p:sp>
            <p:nvSpPr>
              <p:cNvPr id="382" name=""/>
              <p:cNvSpPr/>
              <p:nvPr/>
            </p:nvSpPr>
            <p:spPr>
              <a:xfrm>
                <a:off x="375444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7532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9224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116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500880" y="2539800"/>
              <a:ext cx="1636560" cy="1636920"/>
              <a:chOff x="6500880" y="2539800"/>
              <a:chExt cx="1636560" cy="1636920"/>
            </a:xfrm>
          </p:grpSpPr>
          <p:sp>
            <p:nvSpPr>
              <p:cNvPr id="387" name=""/>
              <p:cNvSpPr/>
              <p:nvPr/>
            </p:nvSpPr>
            <p:spPr>
              <a:xfrm>
                <a:off x="6500880" y="2539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21760" y="25488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38680" y="2564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27600" y="2606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49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844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91360" y="4817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522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54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8640" y="3144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99" name="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88a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c582"/>
                </a:gs>
                <a:gs pos="100000">
                  <a:srgbClr val="e8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eb6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eb62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86218"/>
                </a:gs>
                <a:gs pos="50000">
                  <a:srgbClr val="2eb62e"/>
                </a:gs>
                <a:gs pos="100000">
                  <a:srgbClr val="1862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eb62e">
                    <a:alpha val="0"/>
                  </a:srgbClr>
                </a:gs>
                <a:gs pos="100000">
                  <a:srgbClr val="1d73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4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44520" y="2039760"/>
            <a:ext cx="2163600" cy="3165480"/>
            <a:chOff x="1244520" y="2039760"/>
            <a:chExt cx="2163600" cy="3165480"/>
          </a:xfrm>
        </p:grpSpPr>
        <p:sp>
          <p:nvSpPr>
            <p:cNvPr id="431" name=""/>
            <p:cNvSpPr/>
            <p:nvPr/>
          </p:nvSpPr>
          <p:spPr>
            <a:xfrm>
              <a:off x="1244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278000" y="2039760"/>
              <a:ext cx="2100240" cy="3119400"/>
              <a:chOff x="1278000" y="2039760"/>
              <a:chExt cx="2100240" cy="3119400"/>
            </a:xfrm>
          </p:grpSpPr>
          <p:sp>
            <p:nvSpPr>
              <p:cNvPr id="433" name=""/>
              <p:cNvSpPr/>
              <p:nvPr/>
            </p:nvSpPr>
            <p:spPr>
              <a:xfrm>
                <a:off x="1278000" y="235584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9564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9564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989360" y="2039760"/>
                <a:ext cx="642600" cy="642960"/>
                <a:chOff x="1989360" y="2039760"/>
                <a:chExt cx="642600" cy="6429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98936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99584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0340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01024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04408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12940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208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5969160" y="2039760"/>
            <a:ext cx="2163600" cy="3165480"/>
            <a:chOff x="5969160" y="2039760"/>
            <a:chExt cx="2163600" cy="3165480"/>
          </a:xfrm>
        </p:grpSpPr>
        <p:sp>
          <p:nvSpPr>
            <p:cNvPr id="445" name=""/>
            <p:cNvSpPr/>
            <p:nvPr/>
          </p:nvSpPr>
          <p:spPr>
            <a:xfrm>
              <a:off x="59691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002640" y="2039760"/>
              <a:ext cx="2100240" cy="3119400"/>
              <a:chOff x="6002640" y="2039760"/>
              <a:chExt cx="2100240" cy="3119400"/>
            </a:xfrm>
          </p:grpSpPr>
          <p:sp>
            <p:nvSpPr>
              <p:cNvPr id="447" name=""/>
              <p:cNvSpPr/>
              <p:nvPr/>
            </p:nvSpPr>
            <p:spPr>
              <a:xfrm>
                <a:off x="6002640" y="2355840"/>
                <a:ext cx="2098800" cy="280332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49">
                    <a:moveTo>
                      <a:pt x="3600" y="0"/>
                    </a:moveTo>
                    <a:arcTo wR="3600" hR="3600" stAng="16200000" swAng="-5400000"/>
                    <a:lnTo>
                      <a:pt x="0" y="25249"/>
                    </a:lnTo>
                    <a:arcTo wR="3600" hR="3600" stAng="10800000" swAng="-5400000"/>
                    <a:lnTo>
                      <a:pt x="18000" y="288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202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202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6714000" y="2039760"/>
                <a:ext cx="642600" cy="642960"/>
                <a:chOff x="6714000" y="2039760"/>
                <a:chExt cx="642600" cy="642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71400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2048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72804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488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76872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8540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4548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3606840" y="2039760"/>
            <a:ext cx="2163600" cy="3165480"/>
            <a:chOff x="3606840" y="2039760"/>
            <a:chExt cx="2163600" cy="3165480"/>
          </a:xfrm>
        </p:grpSpPr>
        <p:sp>
          <p:nvSpPr>
            <p:cNvPr id="459" name=""/>
            <p:cNvSpPr/>
            <p:nvPr/>
          </p:nvSpPr>
          <p:spPr>
            <a:xfrm>
              <a:off x="3606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40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57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51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5780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6572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7184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0712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1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3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1752480"/>
            <a:ext cx="9144000" cy="4274280"/>
            <a:chOff x="0" y="1752480"/>
            <a:chExt cx="9144000" cy="4274280"/>
          </a:xfrm>
        </p:grpSpPr>
        <p:sp>
          <p:nvSpPr>
            <p:cNvPr id="472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09480" y="2286000"/>
              <a:ext cx="8159760" cy="3740760"/>
              <a:chOff x="609480" y="2286000"/>
              <a:chExt cx="8159760" cy="37407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957920" y="3342240"/>
                <a:ext cx="1654920" cy="2612880"/>
                <a:chOff x="4957920" y="3342240"/>
                <a:chExt cx="1654920" cy="261288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4957920" y="3514680"/>
                  <a:ext cx="1535040" cy="2440440"/>
                  <a:chOff x="4957920" y="3514680"/>
                  <a:chExt cx="1535040" cy="2440440"/>
                </a:xfrm>
              </p:grpSpPr>
              <p:sp>
                <p:nvSpPr>
                  <p:cNvPr id="477" name="Unknown Shape"/>
                  <p:cNvSpPr/>
                  <p:nvPr/>
                </p:nvSpPr>
                <p:spPr>
                  <a:xfrm rot="3876600">
                    <a:off x="4502520" y="446544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Unknown Shape"/>
                  <p:cNvSpPr/>
                  <p:nvPr/>
                </p:nvSpPr>
                <p:spPr>
                  <a:xfrm rot="3876600">
                    <a:off x="5972400" y="541080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435280" y="3342240"/>
                  <a:ext cx="1177560" cy="1872360"/>
                  <a:chOff x="5435280" y="3342240"/>
                  <a:chExt cx="1177560" cy="1872360"/>
                </a:xfrm>
              </p:grpSpPr>
              <p:sp>
                <p:nvSpPr>
                  <p:cNvPr id="480" name="Unknown Shape"/>
                  <p:cNvSpPr/>
                  <p:nvPr/>
                </p:nvSpPr>
                <p:spPr>
                  <a:xfrm flipV="1" rot="3876600">
                    <a:off x="50857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Unknown Shape"/>
                  <p:cNvSpPr/>
                  <p:nvPr/>
                </p:nvSpPr>
                <p:spPr>
                  <a:xfrm flipV="1" rot="3876600">
                    <a:off x="61966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4502880" y="2440800"/>
                <a:ext cx="1390680" cy="1406880"/>
                <a:chOff x="4502880" y="2440800"/>
                <a:chExt cx="1390680" cy="14068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5028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028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946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946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6548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4671360" y="2611080"/>
                  <a:ext cx="1053360" cy="1067040"/>
                  <a:chOff x="4671360" y="2611080"/>
                  <a:chExt cx="1053360" cy="10670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6713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6846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6954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7527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7114320" y="3413880"/>
                <a:ext cx="1654920" cy="2612880"/>
                <a:chOff x="7114320" y="3413880"/>
                <a:chExt cx="1654920" cy="261288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7114320" y="3586320"/>
                  <a:ext cx="1535040" cy="2440440"/>
                  <a:chOff x="7114320" y="3586320"/>
                  <a:chExt cx="1535040" cy="2440440"/>
                </a:xfrm>
              </p:grpSpPr>
              <p:sp>
                <p:nvSpPr>
                  <p:cNvPr id="495" name="Unknown Shape"/>
                  <p:cNvSpPr/>
                  <p:nvPr/>
                </p:nvSpPr>
                <p:spPr>
                  <a:xfrm rot="3876600">
                    <a:off x="6658920" y="453708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Unknown Shape"/>
                  <p:cNvSpPr/>
                  <p:nvPr/>
                </p:nvSpPr>
                <p:spPr>
                  <a:xfrm rot="3876600">
                    <a:off x="8128800" y="548244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591680" y="3413880"/>
                  <a:ext cx="1177560" cy="1872360"/>
                  <a:chOff x="7591680" y="3413880"/>
                  <a:chExt cx="1177560" cy="1872360"/>
                </a:xfrm>
              </p:grpSpPr>
              <p:sp>
                <p:nvSpPr>
                  <p:cNvPr id="498" name="Unknown Shape"/>
                  <p:cNvSpPr/>
                  <p:nvPr/>
                </p:nvSpPr>
                <p:spPr>
                  <a:xfrm flipV="1" rot="3876600">
                    <a:off x="7242120" y="414288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Unknown Shape"/>
                  <p:cNvSpPr/>
                  <p:nvPr/>
                </p:nvSpPr>
                <p:spPr>
                  <a:xfrm flipV="1" rot="3876600">
                    <a:off x="8353080" y="487620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"/>
              <p:cNvSpPr/>
              <p:nvPr/>
            </p:nvSpPr>
            <p:spPr>
              <a:xfrm>
                <a:off x="6448680" y="2286000"/>
                <a:ext cx="1671480" cy="168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48680" y="2286000"/>
                <a:ext cx="1671480" cy="1687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61000" y="2395800"/>
                <a:ext cx="1450800" cy="14655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62440" y="2399040"/>
                <a:ext cx="1450440" cy="1465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32640" y="2470320"/>
                <a:ext cx="1306440" cy="131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6653160" y="2490480"/>
                <a:ext cx="1266480" cy="1279440"/>
                <a:chOff x="6653160" y="2490480"/>
                <a:chExt cx="1266480" cy="12794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653160" y="2490480"/>
                  <a:ext cx="126648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69360" y="2497320"/>
                  <a:ext cx="1235880" cy="124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82320" y="2509920"/>
                  <a:ext cx="1175400" cy="116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751080" y="2542320"/>
                  <a:ext cx="1044720" cy="94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979360" y="3342240"/>
                <a:ext cx="1655280" cy="2612880"/>
                <a:chOff x="2979360" y="3342240"/>
                <a:chExt cx="1655280" cy="261288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2979360" y="3514680"/>
                  <a:ext cx="1535400" cy="2440440"/>
                  <a:chOff x="2979360" y="3514680"/>
                  <a:chExt cx="1535400" cy="2440440"/>
                </a:xfrm>
              </p:grpSpPr>
              <p:sp>
                <p:nvSpPr>
                  <p:cNvPr id="512" name="Unknown Shape"/>
                  <p:cNvSpPr/>
                  <p:nvPr/>
                </p:nvSpPr>
                <p:spPr>
                  <a:xfrm rot="3876600">
                    <a:off x="2523960" y="4465440"/>
                    <a:ext cx="2445840" cy="5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Unknown Shape"/>
                  <p:cNvSpPr/>
                  <p:nvPr/>
                </p:nvSpPr>
                <p:spPr>
                  <a:xfrm rot="3876600">
                    <a:off x="3993840" y="5410800"/>
                    <a:ext cx="384480" cy="44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3457080" y="3342240"/>
                  <a:ext cx="1177560" cy="1872360"/>
                  <a:chOff x="3457080" y="3342240"/>
                  <a:chExt cx="1177560" cy="1872360"/>
                </a:xfrm>
              </p:grpSpPr>
              <p:sp>
                <p:nvSpPr>
                  <p:cNvPr id="515" name="Unknown Shape"/>
                  <p:cNvSpPr/>
                  <p:nvPr/>
                </p:nvSpPr>
                <p:spPr>
                  <a:xfrm flipV="1" rot="3876600">
                    <a:off x="31075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Unknown Shape"/>
                  <p:cNvSpPr/>
                  <p:nvPr/>
                </p:nvSpPr>
                <p:spPr>
                  <a:xfrm flipV="1" rot="3876600">
                    <a:off x="42184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7" name=""/>
              <p:cNvGrpSpPr/>
              <p:nvPr/>
            </p:nvGrpSpPr>
            <p:grpSpPr>
              <a:xfrm>
                <a:off x="2524680" y="2440800"/>
                <a:ext cx="1390680" cy="1406880"/>
                <a:chOff x="2524680" y="2440800"/>
                <a:chExt cx="1390680" cy="14068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5246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246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6164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164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766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2693160" y="2611080"/>
                  <a:ext cx="1053360" cy="1067040"/>
                  <a:chOff x="2693160" y="2611080"/>
                  <a:chExt cx="1053360" cy="10670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26931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7064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7172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7745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1064520" y="3342240"/>
                <a:ext cx="1654920" cy="2612880"/>
                <a:chOff x="1064520" y="3342240"/>
                <a:chExt cx="1654920" cy="261288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1064520" y="3514680"/>
                  <a:ext cx="1535040" cy="2440440"/>
                  <a:chOff x="1064520" y="3514680"/>
                  <a:chExt cx="1535040" cy="2440440"/>
                </a:xfrm>
              </p:grpSpPr>
              <p:sp>
                <p:nvSpPr>
                  <p:cNvPr id="530" name="Unknown Shape"/>
                  <p:cNvSpPr/>
                  <p:nvPr/>
                </p:nvSpPr>
                <p:spPr>
                  <a:xfrm rot="3876600">
                    <a:off x="609120" y="4465440"/>
                    <a:ext cx="244584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Unknown Shape"/>
                  <p:cNvSpPr/>
                  <p:nvPr/>
                </p:nvSpPr>
                <p:spPr>
                  <a:xfrm rot="3876600">
                    <a:off x="2079000" y="5410800"/>
                    <a:ext cx="38448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1541880" y="3342240"/>
                  <a:ext cx="1177560" cy="1872360"/>
                  <a:chOff x="1541880" y="3342240"/>
                  <a:chExt cx="1177560" cy="1872360"/>
                </a:xfrm>
              </p:grpSpPr>
              <p:sp>
                <p:nvSpPr>
                  <p:cNvPr id="533" name="Unknown Shape"/>
                  <p:cNvSpPr/>
                  <p:nvPr/>
                </p:nvSpPr>
                <p:spPr>
                  <a:xfrm flipV="1" rot="3876600">
                    <a:off x="1192320" y="4071240"/>
                    <a:ext cx="1876680" cy="4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Unknown Shape"/>
                  <p:cNvSpPr/>
                  <p:nvPr/>
                </p:nvSpPr>
                <p:spPr>
                  <a:xfrm flipV="1" rot="3876600">
                    <a:off x="2303280" y="4804560"/>
                    <a:ext cx="294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609480" y="2440800"/>
                <a:ext cx="1390680" cy="1406880"/>
                <a:chOff x="609480" y="2440800"/>
                <a:chExt cx="1390680" cy="14068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94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9480" y="2440800"/>
                  <a:ext cx="1390680" cy="140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01280" y="253224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01280" y="2535120"/>
                  <a:ext cx="1206360" cy="122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61400" y="2594160"/>
                  <a:ext cx="1086480" cy="109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777960" y="2611080"/>
                  <a:ext cx="1053360" cy="1067040"/>
                  <a:chOff x="777960" y="2611080"/>
                  <a:chExt cx="1053360" cy="10670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777960" y="2611080"/>
                    <a:ext cx="1053360" cy="106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91280" y="2616840"/>
                    <a:ext cx="10278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02080" y="2627280"/>
                    <a:ext cx="97776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859320" y="2654280"/>
                    <a:ext cx="869040" cy="78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"/>
              <p:cNvSpPr/>
              <p:nvPr/>
            </p:nvSpPr>
            <p:spPr>
              <a:xfrm rot="3925800">
                <a:off x="1066320" y="435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3925800">
                <a:off x="156096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3925800">
                <a:off x="2977200" y="4353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3925800">
                <a:off x="347220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3925800">
                <a:off x="4963320" y="4350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3925800">
                <a:off x="5457600" y="4066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10244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3925800">
                <a:off x="7596000" y="4220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7796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6840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49840" y="179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95000" y="1752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1514160" y="197928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3504960" y="197928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6" idx="3"/>
              <a:endCxn id="557" idx="1"/>
            </p:cNvCxnSpPr>
            <p:nvPr/>
          </p:nvCxnSpPr>
          <p:spPr>
            <a:xfrm>
              <a:off x="5486040" y="197964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eb62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c66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b62e"/>
              </a:gs>
              <a:gs pos="100000">
                <a:srgbClr val="1553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0e0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b62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447920" y="1519200"/>
            <a:ext cx="5769000" cy="4574880"/>
            <a:chOff x="1447920" y="1519200"/>
            <a:chExt cx="5769000" cy="4574880"/>
          </a:xfrm>
        </p:grpSpPr>
        <p:sp>
          <p:nvSpPr>
            <p:cNvPr id="572" name=""/>
            <p:cNvSpPr/>
            <p:nvPr/>
          </p:nvSpPr>
          <p:spPr>
            <a:xfrm rot="13770000">
              <a:off x="4911840" y="395856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856000">
              <a:off x="2923920" y="350820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3862440" y="2202120"/>
              <a:ext cx="1704600" cy="1836000"/>
              <a:chOff x="3862440" y="2202120"/>
              <a:chExt cx="1704600" cy="1836000"/>
            </a:xfrm>
          </p:grpSpPr>
          <p:sp>
            <p:nvSpPr>
              <p:cNvPr id="575" name=""/>
              <p:cNvSpPr/>
              <p:nvPr/>
            </p:nvSpPr>
            <p:spPr>
              <a:xfrm rot="18394200">
                <a:off x="5038200" y="241488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3862440" y="2448720"/>
                <a:ext cx="1609560" cy="1589400"/>
                <a:chOff x="3862440" y="2448720"/>
                <a:chExt cx="1609560" cy="15894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862440" y="244872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Unknown Shape"/>
                <p:cNvSpPr/>
                <p:nvPr/>
              </p:nvSpPr>
              <p:spPr>
                <a:xfrm>
                  <a:off x="4046400" y="2475000"/>
                  <a:ext cx="1241640" cy="599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3949200" y="31402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272200" y="1519200"/>
              <a:ext cx="891720" cy="861840"/>
              <a:chOff x="5272200" y="1519200"/>
              <a:chExt cx="891720" cy="8618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5272200" y="1519200"/>
                <a:ext cx="871560" cy="861840"/>
                <a:chOff x="5272200" y="1519200"/>
                <a:chExt cx="871560" cy="8618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272200" y="15192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31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Unknown Shape"/>
                <p:cNvSpPr/>
                <p:nvPr/>
              </p:nvSpPr>
              <p:spPr>
                <a:xfrm>
                  <a:off x="5371560" y="15332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5292720" y="18511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447920" y="2844720"/>
                <a:ext cx="1744560" cy="1790640"/>
                <a:chOff x="1447920" y="2844720"/>
                <a:chExt cx="1744560" cy="1790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447920" y="28447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3d311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Unknown Shape"/>
                <p:cNvSpPr/>
                <p:nvPr/>
              </p:nvSpPr>
              <p:spPr>
                <a:xfrm>
                  <a:off x="1647360" y="28742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1542240" y="3639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203800" y="4105080"/>
              <a:ext cx="2013120" cy="1989000"/>
              <a:chOff x="5203800" y="4105080"/>
              <a:chExt cx="2013120" cy="19890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5203800" y="4105080"/>
                <a:ext cx="2013120" cy="1989000"/>
                <a:chOff x="5203800" y="4105080"/>
                <a:chExt cx="2013120" cy="19890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203800" y="41050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461e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Unknown Shape"/>
                <p:cNvSpPr/>
                <p:nvPr/>
              </p:nvSpPr>
              <p:spPr>
                <a:xfrm>
                  <a:off x="5433840" y="41378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5492160" y="49669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966240" y="1097280"/>
            <a:ext cx="6879600" cy="4804560"/>
            <a:chOff x="966240" y="1097280"/>
            <a:chExt cx="6879600" cy="4804560"/>
          </a:xfrm>
        </p:grpSpPr>
        <p:sp>
          <p:nvSpPr>
            <p:cNvPr id="597" name=""/>
            <p:cNvSpPr/>
            <p:nvPr/>
          </p:nvSpPr>
          <p:spPr>
            <a:xfrm>
              <a:off x="2033640" y="42368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470e03"/>
                </a:gs>
                <a:gs pos="100000">
                  <a:srgbClr val="211e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1308240" y="21236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01600">
              <a:off x="1365120" y="19616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1279440" y="19476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20602200">
              <a:off x="1257480" y="19785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01600">
              <a:off x="1289160" y="19587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20602200">
              <a:off x="1271520" y="19663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01600">
              <a:off x="2826000" y="26762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4640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6148440" y="29746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539200">
              <a:off x="1283760" y="19771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Unknown Shape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22560" y="3431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470e03"/>
                </a:gs>
                <a:gs pos="100000">
                  <a:srgbClr val="20060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94920" y="1447920"/>
            <a:ext cx="7315200" cy="4467240"/>
            <a:chOff x="1294920" y="1447920"/>
            <a:chExt cx="7315200" cy="4467240"/>
          </a:xfrm>
        </p:grpSpPr>
        <p:grpSp>
          <p:nvGrpSpPr>
            <p:cNvPr id="618" name=""/>
            <p:cNvGrpSpPr/>
            <p:nvPr/>
          </p:nvGrpSpPr>
          <p:grpSpPr>
            <a:xfrm>
              <a:off x="3335040" y="4606920"/>
              <a:ext cx="5275080" cy="1308240"/>
              <a:chOff x="3335040" y="4606920"/>
              <a:chExt cx="5275080" cy="1308240"/>
            </a:xfrm>
          </p:grpSpPr>
          <p:sp>
            <p:nvSpPr>
              <p:cNvPr id="619" name="Unknown Shape"/>
              <p:cNvSpPr/>
              <p:nvPr/>
            </p:nvSpPr>
            <p:spPr>
              <a:xfrm>
                <a:off x="7679880" y="4606920"/>
                <a:ext cx="930240" cy="130680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Unknown Shape"/>
              <p:cNvSpPr/>
              <p:nvPr/>
            </p:nvSpPr>
            <p:spPr>
              <a:xfrm>
                <a:off x="3756240" y="4606920"/>
                <a:ext cx="4335120" cy="55656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Unknown Shape"/>
              <p:cNvSpPr/>
              <p:nvPr/>
            </p:nvSpPr>
            <p:spPr>
              <a:xfrm>
                <a:off x="3335040" y="5160600"/>
                <a:ext cx="4785480" cy="7545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849480" y="3824280"/>
              <a:ext cx="4179600" cy="1181160"/>
              <a:chOff x="3849480" y="3824280"/>
              <a:chExt cx="4179600" cy="1181160"/>
            </a:xfrm>
          </p:grpSpPr>
          <p:sp>
            <p:nvSpPr>
              <p:cNvPr id="623" name="Unknown Shape"/>
              <p:cNvSpPr/>
              <p:nvPr/>
            </p:nvSpPr>
            <p:spPr>
              <a:xfrm>
                <a:off x="7206840" y="3824280"/>
                <a:ext cx="822240" cy="118116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Unknown Shape"/>
              <p:cNvSpPr/>
              <p:nvPr/>
            </p:nvSpPr>
            <p:spPr>
              <a:xfrm>
                <a:off x="4261320" y="3824280"/>
                <a:ext cx="3257280" cy="4158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Unknown Shape"/>
              <p:cNvSpPr/>
              <p:nvPr/>
            </p:nvSpPr>
            <p:spPr>
              <a:xfrm>
                <a:off x="3849480" y="4238640"/>
                <a:ext cx="3781440" cy="76644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343400" y="3044880"/>
              <a:ext cx="3107880" cy="1027080"/>
              <a:chOff x="4343400" y="3044880"/>
              <a:chExt cx="3107880" cy="1027080"/>
            </a:xfrm>
          </p:grpSpPr>
          <p:sp>
            <p:nvSpPr>
              <p:cNvPr id="627" name="Unknown Shape"/>
              <p:cNvSpPr/>
              <p:nvPr/>
            </p:nvSpPr>
            <p:spPr>
              <a:xfrm>
                <a:off x="6731640" y="3044880"/>
                <a:ext cx="719640" cy="10270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Unknown Shape"/>
              <p:cNvSpPr/>
              <p:nvPr/>
            </p:nvSpPr>
            <p:spPr>
              <a:xfrm>
                <a:off x="4762080" y="3044880"/>
                <a:ext cx="2174760" cy="2772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Unknown Shape"/>
              <p:cNvSpPr/>
              <p:nvPr/>
            </p:nvSpPr>
            <p:spPr>
              <a:xfrm>
                <a:off x="4343400" y="3320640"/>
                <a:ext cx="2813760" cy="75096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844880" y="2257560"/>
              <a:ext cx="2025360" cy="893880"/>
              <a:chOff x="4844880" y="2257560"/>
              <a:chExt cx="2025360" cy="893880"/>
            </a:xfrm>
          </p:grpSpPr>
          <p:sp>
            <p:nvSpPr>
              <p:cNvPr id="631" name="Unknown Shape"/>
              <p:cNvSpPr/>
              <p:nvPr/>
            </p:nvSpPr>
            <p:spPr>
              <a:xfrm>
                <a:off x="6250680" y="2257560"/>
                <a:ext cx="619560" cy="8938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Unknown Shape"/>
              <p:cNvSpPr/>
              <p:nvPr/>
            </p:nvSpPr>
            <p:spPr>
              <a:xfrm>
                <a:off x="5271480" y="2257560"/>
                <a:ext cx="1084680" cy="13392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Unknown Shape"/>
              <p:cNvSpPr/>
              <p:nvPr/>
            </p:nvSpPr>
            <p:spPr>
              <a:xfrm>
                <a:off x="4844880" y="2390040"/>
                <a:ext cx="1831320" cy="76104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341680" y="1470240"/>
              <a:ext cx="948960" cy="757080"/>
              <a:chOff x="5341680" y="1470240"/>
              <a:chExt cx="948960" cy="757080"/>
            </a:xfrm>
          </p:grpSpPr>
          <p:sp>
            <p:nvSpPr>
              <p:cNvPr id="635" name="Unknown Shape"/>
              <p:cNvSpPr/>
              <p:nvPr/>
            </p:nvSpPr>
            <p:spPr>
              <a:xfrm>
                <a:off x="5766120" y="1470240"/>
                <a:ext cx="524520" cy="75708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Unknown Shape"/>
              <p:cNvSpPr/>
              <p:nvPr/>
            </p:nvSpPr>
            <p:spPr>
              <a:xfrm>
                <a:off x="5341680" y="1470240"/>
                <a:ext cx="850320" cy="75708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294920" y="1560600"/>
              <a:ext cx="4419720" cy="4328640"/>
              <a:chOff x="1294920" y="1560600"/>
              <a:chExt cx="4419720" cy="4328640"/>
            </a:xfrm>
          </p:grpSpPr>
          <p:sp>
            <p:nvSpPr>
              <p:cNvPr id="638" name=""/>
              <p:cNvSpPr/>
              <p:nvPr/>
            </p:nvSpPr>
            <p:spPr>
              <a:xfrm flipH="1">
                <a:off x="1295280" y="5887800"/>
                <a:ext cx="1957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94920" y="5015160"/>
                <a:ext cx="25268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294920" y="4110480"/>
                <a:ext cx="29660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294920" y="3221280"/>
                <a:ext cx="347220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1294920" y="2325600"/>
                <a:ext cx="39762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295280" y="1560600"/>
                <a:ext cx="44193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582560" y="1447920"/>
              <a:ext cx="180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82560" y="2248200"/>
              <a:ext cx="1800" cy="88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82560" y="3183120"/>
              <a:ext cx="1800" cy="88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82560" y="4119840"/>
              <a:ext cx="1800" cy="88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82560" y="5051520"/>
              <a:ext cx="1800" cy="82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35840" y="1644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35840" y="2559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35840" y="3473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35840" y="4388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35840" y="5302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82080" y="1844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82080" y="268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82080" y="3597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82080" y="4511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82080" y="5426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138" name=""/>
            <p:cNvGrpSpPr/>
            <p:nvPr/>
          </p:nvGrpSpPr>
          <p:grpSpPr>
            <a:xfrm>
              <a:off x="2004840" y="2771640"/>
              <a:ext cx="609480" cy="609480"/>
              <a:chOff x="2004840" y="2771640"/>
              <a:chExt cx="609480" cy="609480"/>
            </a:xfrm>
          </p:grpSpPr>
          <p:sp>
            <p:nvSpPr>
              <p:cNvPr id="139" name="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04840" y="277164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44440" y="28112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404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6081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8728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5520" y="28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52" name=""/>
            <p:cNvGrpSpPr/>
            <p:nvPr/>
          </p:nvGrpSpPr>
          <p:grpSpPr>
            <a:xfrm>
              <a:off x="2023920" y="4572000"/>
              <a:ext cx="609480" cy="609480"/>
              <a:chOff x="2023920" y="4572000"/>
              <a:chExt cx="609480" cy="609480"/>
            </a:xfrm>
          </p:grpSpPr>
          <p:sp>
            <p:nvSpPr>
              <p:cNvPr id="153" name="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23920" y="45720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63520" y="4611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0312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6081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0636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514600" y="51404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4606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63960" y="464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66" name=""/>
            <p:cNvSpPr/>
            <p:nvPr/>
          </p:nvSpPr>
          <p:spPr>
            <a:xfrm>
              <a:off x="2514600" y="24195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106720" y="1981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1553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2eb62e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18"/>
                    </a:gs>
                    <a:gs pos="50000">
                      <a:srgbClr val="2eb62e"/>
                    </a:gs>
                    <a:gs pos="100000">
                      <a:srgbClr val="18621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019240" y="19432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>
                        <a:alpha val="0"/>
                      </a:srgbClr>
                    </a:gs>
                    <a:gs pos="100000">
                      <a:srgbClr val="1d731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038320" y="196236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106720" y="198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82" name="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106720" y="37911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1553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2eb62e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18"/>
                    </a:gs>
                    <a:gs pos="50000">
                      <a:srgbClr val="2eb62e"/>
                    </a:gs>
                    <a:gs pos="100000">
                      <a:srgbClr val="18621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019240" y="37530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>
                        <a:alpha val="0"/>
                      </a:srgbClr>
                    </a:gs>
                    <a:gs pos="100000">
                      <a:srgbClr val="1d731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038320" y="377208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2106720" y="3791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e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2eb62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2eb62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2eb6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99ccf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2578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You may not extract the image for any other use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202" name="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3471840"/>
              <a:ext cx="2057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205" name="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8400" y="34768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b1ae"/>
              </a:gs>
              <a:gs pos="100000">
                <a:srgbClr val="470e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cdad"/>
              </a:gs>
              <a:gs pos="100000">
                <a:srgbClr val="cc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210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5816"/>
                    </a:gs>
                    <a:gs pos="100000">
                      <a:srgbClr val="2eb62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62e"/>
                    </a:gs>
                    <a:gs pos="100000">
                      <a:srgbClr val="a1dd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cc8a5"/>
                  </a:gs>
                  <a:gs pos="100000">
                    <a:srgbClr val="cc660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cc6600">
                      <a:alpha val="48235"/>
                    </a:srgbClr>
                  </a:gs>
                  <a:gs pos="100000">
                    <a:srgbClr val="a05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cc660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882960" y="1752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221" name="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229" name="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9520" y="228600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9120" y="366552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9120" y="230652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237" name="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90720" y="1600200"/>
            <a:ext cx="7010280" cy="4343400"/>
            <a:chOff x="990720" y="1600200"/>
            <a:chExt cx="7010280" cy="4343400"/>
          </a:xfrm>
        </p:grpSpPr>
        <p:sp>
          <p:nvSpPr>
            <p:cNvPr id="246" name=""/>
            <p:cNvSpPr/>
            <p:nvPr/>
          </p:nvSpPr>
          <p:spPr>
            <a:xfrm>
              <a:off x="3657600" y="40384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35053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29718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9040" y="3201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9040" y="3735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9040" y="4268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71800" y="27432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6e2fe">
                    <a:alpha val="12156"/>
                  </a:srgbClr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0720" y="22096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7040" y="24382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22096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24382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89640" y="27432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6e2fe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5840" y="160020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a3f00"/>
                </a:gs>
                <a:gs pos="50000">
                  <a:srgbClr val="e88a00"/>
                </a:gs>
                <a:gs pos="100000">
                  <a:srgbClr val="6a3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24480" y="236232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6e2f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4920" y="1833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1800" y="53341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55315"/>
                </a:gs>
                <a:gs pos="50000">
                  <a:srgbClr val="2eb62e"/>
                </a:gs>
                <a:gs pos="100000">
                  <a:srgbClr val="1553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4920" y="5567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2160" y="47242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6e2fe">
                    <a:alpha val="12156"/>
                  </a:srgbClr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1981080"/>
            <a:ext cx="7391520" cy="3581280"/>
            <a:chOff x="838080" y="1981080"/>
            <a:chExt cx="7391520" cy="3581280"/>
          </a:xfrm>
        </p:grpSpPr>
        <p:sp>
          <p:nvSpPr>
            <p:cNvPr id="266" name=""/>
            <p:cNvSpPr/>
            <p:nvPr/>
          </p:nvSpPr>
          <p:spPr>
            <a:xfrm>
              <a:off x="838080" y="35812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30477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514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35812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30477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24480" y="2514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2f00"/>
                </a:gs>
                <a:gs pos="5000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17800" y="1981080"/>
              <a:ext cx="3156840" cy="2841480"/>
              <a:chOff x="2917800" y="1981080"/>
              <a:chExt cx="3156840" cy="2841480"/>
            </a:xfrm>
          </p:grpSpPr>
          <p:sp>
            <p:nvSpPr>
              <p:cNvPr id="273" name=""/>
              <p:cNvSpPr/>
              <p:nvPr/>
            </p:nvSpPr>
            <p:spPr>
              <a:xfrm flipH="1" rot="16200000">
                <a:off x="2836080" y="3096360"/>
                <a:ext cx="49032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400000">
                <a:off x="5665320" y="3042000"/>
                <a:ext cx="49032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10800000">
                <a:off x="4250160" y="4495680"/>
                <a:ext cx="4888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676767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22720" y="1981080"/>
                <a:ext cx="25646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68520" y="2125440"/>
                <a:ext cx="227088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02080" y="22604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eb62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02080" y="22604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33840" y="23922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186218"/>
                  </a:gs>
                  <a:gs pos="50000">
                    <a:srgbClr val="2eb62e"/>
                  </a:gs>
                  <a:gs pos="100000">
                    <a:srgbClr val="18621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3840" y="23922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12760" y="3047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557440" y="5029200"/>
              <a:ext cx="3886200" cy="533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671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205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738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671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205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738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92" name="Unknown Shape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Unknown Shape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Unknown Shape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Unknown Shape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Unknown Shape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Unknown Shape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Unknown Shape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Unknown Shape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Unknown Shape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e03"/>
            </a:gs>
            <a:gs pos="100000">
              <a:srgbClr val="20060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6c8ed3"/>
              </a:gs>
              <a:gs pos="100000">
                <a:srgbClr val="0627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eb62e"/>
              </a:gs>
              <a:gs pos="100000">
                <a:srgbClr val="15531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THEME_ENG_01</cp:lastModifiedBy>
  <cp:lastPrinted>1899-12-30T00:00:00Z</cp:lastPrinted>
  <dcterms:modified xsi:type="dcterms:W3CDTF">2005-06-16T05:10:48Z</dcterms:modified>
  <cp:revision>2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