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42A03-16A4-4DEB-A76F-2EF41CA64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C2695-9800-4DDC-8F2D-A2BF937BD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854FC-B144-43AF-856A-83637AB87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D007A-1E3A-434E-8724-B2B5A3F5B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65598-A55E-4004-B379-98D42FB85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FA32F-EB73-4992-B472-A33062790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8AA36-80CC-49F5-8EA0-E82B845BF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B2FC3-2E0E-4185-9B5B-F5E858A6F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DFB2B-D201-42EE-B4C9-A353CFDE6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0F0CB-2164-4973-82C4-0CDAF9FD6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B0D98-7697-4F53-B291-E29FAF882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58E1F-E1F8-4FAB-8170-296B7261D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4360" y="4362120"/>
            <a:ext cx="77724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E3BCB-0C61-4936-9390-57DD8D7364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4360" y="4362120"/>
            <a:ext cx="77724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1260360" y="5157720"/>
            <a:ext cx="64008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  <a:ea typeface="华文细黑"/>
              </a:rPr>
              <a:t>单击此处编辑母版副标题样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4360" y="4390920"/>
            <a:ext cx="77724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感谢您的关注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4078440"/>
            <a:ext cx="9144000" cy="2781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96720" y="1413000"/>
            <a:ext cx="5762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99cc00"/>
                </a:solidFill>
                <a:latin typeface="Arial"/>
                <a:ea typeface="微软雅黑"/>
              </a:rPr>
              <a:t>Thank You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5"/>
          <p:cNvSpPr/>
          <p:nvPr/>
        </p:nvSpPr>
        <p:spPr>
          <a:xfrm>
            <a:off x="324000" y="4437000"/>
            <a:ext cx="468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5f5f5f"/>
                </a:solidFill>
                <a:latin typeface="Arial Unicode MS"/>
                <a:ea typeface="Arial Unicode MS"/>
              </a:rPr>
              <a:t>Kingsoft</a:t>
            </a: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zh-CN" sz="4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Off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6"/>
          <p:cNvSpPr/>
          <p:nvPr/>
        </p:nvSpPr>
        <p:spPr>
          <a:xfrm>
            <a:off x="-219600" y="5302080"/>
            <a:ext cx="39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istral"/>
              </a:rPr>
              <a:t>Make Presentation much more f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1T01:27:31Z</dcterms:created>
  <dc:creator/>
  <dc:description/>
  <dc:language>en-US</dc:language>
  <cp:lastModifiedBy>小田</cp:lastModifiedBy>
  <cp:lastPrinted>1899-12-30T00:00:00Z</cp:lastPrinted>
  <dcterms:modified xsi:type="dcterms:W3CDTF">2008-08-11T06:39:35Z</dcterms:modified>
  <cp:revision>5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8.1.0.3018</vt:lpwstr>
  </property>
</Properties>
</file>