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08C-43D3-4287-8A61-E493AA8B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D29-2C71-418B-A6BC-24B94E46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CD3-6701-4C37-A775-89704E47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B46-4F47-459F-821D-B73942AF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8A68-0EE0-476D-930E-A8BB73CF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CDE4-423B-4426-BFA5-D0BADA6A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62F-9CA9-4152-B949-8644CE6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AAB-0104-49DB-B50A-54D3D54D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159A-09F0-48E7-99D1-0DD9A9AE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6E7-3000-4128-9D8C-BE29107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2C1-F113-4884-BBC5-6417DC4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55F-945C-47DC-A130-C5D613E7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DF96-1EBA-468E-8018-32AAFE9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DDA-C453-408E-9FC6-9574D97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C6C-076D-4C86-9A24-4347AAC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3DC8-D511-4CFB-A36F-D7B6BCD2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D62C-A0A3-474C-83B4-3AB88838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338-D074-4708-A37E-E30A0662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0D1-2251-4F66-B92C-9A05754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56A-BCCF-4196-956F-48B388A4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7C7-E661-490E-89F5-C1CB02DA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8DD-5C52-4E49-9E7D-42DED9E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785-2686-4165-A5BD-B7E6926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504-CEB7-47CC-BD04-9646930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379-9A17-47BD-993F-D5A12C685E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CCDE-2FDA-4E8F-BFD8-C22C1923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" descr="2-1.pn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1" descr="2-2.png"/>
          <p:cNvPicPr/>
          <p:nvPr/>
        </p:nvPicPr>
        <p:blipFill>
          <a:blip r:embed="rId3"/>
          <a:stretch/>
        </p:blipFill>
        <p:spPr>
          <a:xfrm>
            <a:off x="4267080" y="3124080"/>
            <a:ext cx="487692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2" descr="2-3.png"/>
          <p:cNvPicPr/>
          <p:nvPr/>
        </p:nvPicPr>
        <p:blipFill>
          <a:blip r:embed="rId4"/>
          <a:stretch/>
        </p:blipFill>
        <p:spPr>
          <a:xfrm>
            <a:off x="4343400" y="2971800"/>
            <a:ext cx="4802040" cy="1228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3" descr="2-4.png"/>
          <p:cNvPicPr/>
          <p:nvPr/>
        </p:nvPicPr>
        <p:blipFill>
          <a:blip r:embed="rId5"/>
          <a:stretch/>
        </p:blipFill>
        <p:spPr>
          <a:xfrm>
            <a:off x="4495680" y="2666880"/>
            <a:ext cx="4648320" cy="1662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" descr="2-5.png"/>
          <p:cNvPicPr/>
          <p:nvPr/>
        </p:nvPicPr>
        <p:blipFill>
          <a:blip r:embed="rId6"/>
          <a:stretch/>
        </p:blipFill>
        <p:spPr>
          <a:xfrm>
            <a:off x="3886200" y="2514600"/>
            <a:ext cx="5257800" cy="1959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5" descr="3-1.png"/>
          <p:cNvPicPr/>
          <p:nvPr/>
        </p:nvPicPr>
        <p:blipFill>
          <a:blip r:embed="rId7"/>
          <a:stretch/>
        </p:blipFill>
        <p:spPr>
          <a:xfrm>
            <a:off x="0" y="2362320"/>
            <a:ext cx="47372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6" descr="3-2.png"/>
          <p:cNvPicPr/>
          <p:nvPr/>
        </p:nvPicPr>
        <p:blipFill>
          <a:blip r:embed="rId8"/>
          <a:stretch/>
        </p:blipFill>
        <p:spPr>
          <a:xfrm>
            <a:off x="0" y="2362320"/>
            <a:ext cx="4757760" cy="230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7" descr="3-3.png"/>
          <p:cNvPicPr/>
          <p:nvPr/>
        </p:nvPicPr>
        <p:blipFill>
          <a:blip r:embed="rId9"/>
          <a:stretch/>
        </p:blipFill>
        <p:spPr>
          <a:xfrm>
            <a:off x="0" y="3124080"/>
            <a:ext cx="4297320" cy="1044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8" descr="3-4.png"/>
          <p:cNvPicPr/>
          <p:nvPr/>
        </p:nvPicPr>
        <p:blipFill>
          <a:blip r:embed="rId10"/>
          <a:stretch/>
        </p:blipFill>
        <p:spPr>
          <a:xfrm>
            <a:off x="0" y="3200400"/>
            <a:ext cx="4525920" cy="1238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9" descr="3-5.png"/>
          <p:cNvPicPr/>
          <p:nvPr/>
        </p:nvPicPr>
        <p:blipFill>
          <a:blip r:embed="rId11"/>
          <a:stretch/>
        </p:blipFill>
        <p:spPr>
          <a:xfrm>
            <a:off x="0" y="3200400"/>
            <a:ext cx="452592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2" descr="光.png"/>
          <p:cNvPicPr/>
          <p:nvPr/>
        </p:nvPicPr>
        <p:blipFill>
          <a:blip r:embed="rId12"/>
          <a:stretch/>
        </p:blipFill>
        <p:spPr>
          <a:xfrm>
            <a:off x="3992400" y="304812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3" descr="光.png"/>
          <p:cNvPicPr/>
          <p:nvPr/>
        </p:nvPicPr>
        <p:blipFill>
          <a:blip r:embed="rId13"/>
          <a:stretch/>
        </p:blipFill>
        <p:spPr>
          <a:xfrm>
            <a:off x="3886200" y="3048120"/>
            <a:ext cx="130824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4" descr="地球2.png"/>
          <p:cNvPicPr/>
          <p:nvPr/>
        </p:nvPicPr>
        <p:blipFill>
          <a:blip r:embed="rId14"/>
          <a:stretch/>
        </p:blipFill>
        <p:spPr>
          <a:xfrm>
            <a:off x="4267080" y="33526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5" descr="地球2.png"/>
          <p:cNvPicPr/>
          <p:nvPr/>
        </p:nvPicPr>
        <p:blipFill>
          <a:blip r:embed="rId15"/>
          <a:stretch/>
        </p:blipFill>
        <p:spPr>
          <a:xfrm>
            <a:off x="380880" y="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9" descr="未标题-1.png"/>
          <p:cNvPicPr/>
          <p:nvPr/>
        </p:nvPicPr>
        <p:blipFill>
          <a:blip r:embed="rId1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900"/>
                            </p:stCondLst>
                            <p:childTnLst>
                              <p:par>
                                <p:cTn id="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9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5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57200" y="4648320"/>
            <a:ext cx="4110120" cy="1137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4" descr="未标题-1.png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地球2.png"/>
          <p:cNvPicPr/>
          <p:nvPr/>
        </p:nvPicPr>
        <p:blipFill>
          <a:blip r:embed="rId4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1481 L -0.98333 0.01111 E">
                                      <p:cBhvr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225360" y="5562720"/>
            <a:ext cx="9369000" cy="1294920"/>
            <a:chOff x="-225360" y="5562720"/>
            <a:chExt cx="9369000" cy="1294920"/>
          </a:xfrm>
        </p:grpSpPr>
        <p:sp>
          <p:nvSpPr>
            <p:cNvPr id="105" name="Rectangle 3"/>
            <p:cNvSpPr/>
            <p:nvPr/>
          </p:nvSpPr>
          <p:spPr>
            <a:xfrm>
              <a:off x="-225360" y="5855760"/>
              <a:ext cx="9369000" cy="1001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 flipV="1">
              <a:off x="-225360" y="5562360"/>
              <a:ext cx="9369000" cy="301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rc 13"/>
          <p:cNvSpPr/>
          <p:nvPr/>
        </p:nvSpPr>
        <p:spPr>
          <a:xfrm>
            <a:off x="-3654360" y="0"/>
            <a:ext cx="6854760" cy="68580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365200" y="1255680"/>
            <a:ext cx="560520" cy="560520"/>
            <a:chOff x="2365200" y="1255680"/>
            <a:chExt cx="560520" cy="560520"/>
          </a:xfrm>
        </p:grpSpPr>
        <p:pic>
          <p:nvPicPr>
            <p:cNvPr id="109" name="Oval 14" descr=""/>
            <p:cNvPicPr/>
            <p:nvPr/>
          </p:nvPicPr>
          <p:blipFill>
            <a:blip r:embed="rId3"/>
            <a:stretch/>
          </p:blipFill>
          <p:spPr>
            <a:xfrm>
              <a:off x="2365200" y="125568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538360" y="141588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65600" y="2523960"/>
            <a:ext cx="560160" cy="560520"/>
            <a:chOff x="2865600" y="2523960"/>
            <a:chExt cx="560160" cy="560520"/>
          </a:xfrm>
        </p:grpSpPr>
        <p:pic>
          <p:nvPicPr>
            <p:cNvPr id="112" name="Oval 15" descr=""/>
            <p:cNvPicPr/>
            <p:nvPr/>
          </p:nvPicPr>
          <p:blipFill>
            <a:blip r:embed="rId4"/>
            <a:stretch/>
          </p:blipFill>
          <p:spPr>
            <a:xfrm>
              <a:off x="2865600" y="252396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36600" y="268416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865600" y="3790800"/>
            <a:ext cx="560160" cy="561960"/>
            <a:chOff x="2865600" y="3790800"/>
            <a:chExt cx="560160" cy="561960"/>
          </a:xfrm>
        </p:grpSpPr>
        <p:pic>
          <p:nvPicPr>
            <p:cNvPr id="115" name="Oval 16" descr=""/>
            <p:cNvPicPr/>
            <p:nvPr/>
          </p:nvPicPr>
          <p:blipFill>
            <a:blip r:embed="rId5"/>
            <a:stretch/>
          </p:blipFill>
          <p:spPr>
            <a:xfrm>
              <a:off x="2865600" y="379080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38400" y="395280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78160" y="5059440"/>
            <a:ext cx="560160" cy="560160"/>
            <a:chOff x="2378160" y="5059440"/>
            <a:chExt cx="560160" cy="560160"/>
          </a:xfrm>
        </p:grpSpPr>
        <p:pic>
          <p:nvPicPr>
            <p:cNvPr id="118" name="Oval 17" descr=""/>
            <p:cNvPicPr/>
            <p:nvPr/>
          </p:nvPicPr>
          <p:blipFill>
            <a:blip r:embed="rId6"/>
            <a:stretch/>
          </p:blipFill>
          <p:spPr>
            <a:xfrm>
              <a:off x="2378160" y="5059440"/>
              <a:ext cx="5601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50960" y="5221080"/>
              <a:ext cx="2203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228600" y="1901880"/>
            <a:ext cx="1533600" cy="3060720"/>
            <a:chOff x="-228600" y="1901880"/>
            <a:chExt cx="1533600" cy="3060720"/>
          </a:xfrm>
        </p:grpSpPr>
        <p:pic>
          <p:nvPicPr>
            <p:cNvPr id="121" name="Arc 18" descr=""/>
            <p:cNvPicPr/>
            <p:nvPr/>
          </p:nvPicPr>
          <p:blipFill>
            <a:blip r:embed="rId7"/>
            <a:stretch/>
          </p:blipFill>
          <p:spPr>
            <a:xfrm>
              <a:off x="-228600" y="1901880"/>
              <a:ext cx="153360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-225360" y="1905120"/>
              <a:ext cx="152064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46320" y="306720"/>
            <a:ext cx="228960" cy="6245280"/>
            <a:chOff x="-346320" y="306720"/>
            <a:chExt cx="228960" cy="6245280"/>
          </a:xfrm>
        </p:grpSpPr>
        <p:grpSp>
          <p:nvGrpSpPr>
            <p:cNvPr id="124" name=""/>
            <p:cNvGrpSpPr/>
            <p:nvPr/>
          </p:nvGrpSpPr>
          <p:grpSpPr>
            <a:xfrm>
              <a:off x="-345960" y="3236040"/>
              <a:ext cx="228600" cy="3315960"/>
              <a:chOff x="-345960" y="3236040"/>
              <a:chExt cx="228600" cy="3315960"/>
            </a:xfrm>
          </p:grpSpPr>
          <p:pic>
            <p:nvPicPr>
              <p:cNvPr id="125" name="Rounded Rectangl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-345960" y="323604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5"/>
              <p:cNvSpPr/>
              <p:nvPr/>
            </p:nvSpPr>
            <p:spPr>
              <a:xfrm rot="10800000">
                <a:off x="-273600" y="3368520"/>
                <a:ext cx="86040" cy="30301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-346320" y="306720"/>
              <a:ext cx="228600" cy="3315960"/>
              <a:chOff x="-346320" y="306720"/>
              <a:chExt cx="228600" cy="3315960"/>
            </a:xfrm>
          </p:grpSpPr>
          <p:pic>
            <p:nvPicPr>
              <p:cNvPr id="128" name="Rounded Rectangl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-346320" y="30672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8"/>
              <p:cNvSpPr/>
              <p:nvPr/>
            </p:nvSpPr>
            <p:spPr>
              <a:xfrm rot="10800000">
                <a:off x="-272880" y="441720"/>
                <a:ext cx="86040" cy="30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 txBox="1"/>
          <p:nvPr/>
        </p:nvSpPr>
        <p:spPr>
          <a:xfrm>
            <a:off x="4191120" y="2286000"/>
            <a:ext cx="396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79880">
                                      <p:cBhvr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dc:language>en-US</dc:language>
  <cp:lastModifiedBy>arkey</cp:lastModifiedBy>
  <cp:lastPrinted>1899-12-30T00:00:00Z</cp:lastPrinted>
  <dcterms:modified xsi:type="dcterms:W3CDTF">2010-07-11T11:01:25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