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447-EAAC-4E7E-8E91-7D7254A0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3D2-7761-4992-89A5-22AC5C28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027-DF47-4EB1-8F1F-9279E60D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1E7-5162-4D2F-8D00-6D366CBF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0633-AC1D-4AEF-8C2F-E01EC42D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142C-78E7-470D-812D-44829A1C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D0B-FF40-4551-99ED-56D965A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19B-E151-4044-BD41-71A614FE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94B2-98BA-40F9-AE8E-14540DE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C342-E9BF-46FA-94E4-8BF69838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773-C560-487A-AED3-00AE076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0EA-8A79-4171-ACA9-7A704FE3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C136-C2C1-4BC7-8CFA-F50AF433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7AF-80C1-4DED-989C-AC0182E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EC9-BCA9-4979-84DD-FDCBE3B6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C91C-F051-42AE-AE74-D822CBA3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3443-619F-40B7-9D19-23943925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43FF-E1A0-466A-9249-D15F819F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5925-19F9-4B6A-AF7E-3645EF6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85C8-281D-4F73-82AE-8B2213E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4951-4C94-491C-94C1-A3BE4C2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84E1-D676-4891-9D6F-01A555E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5A3-00FD-4D94-B3D0-F164037C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F4BB-03FF-43ED-8341-88D260E3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682F-CF31-4DBC-8EEB-16F8ACBD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B6E8-8B30-49EC-8324-54BB9EF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EC87-154C-44B6-B2DF-C9CF9EC9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DBD3-1422-4749-AD99-5B9B43F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9B62-6C27-484E-A803-3964243E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0040-A6AD-4458-8552-C9D2C7B8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057-D733-4EF4-8612-6DA261D4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15E-3F45-4197-AAF7-4DF52C1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DC0-CB1C-461E-9D22-2B09397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3F3-0622-4631-926B-C667785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B14-4854-4DB3-8537-32909CF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A3A-4401-476C-BA0A-41BF2B6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096-8029-4F4C-9E3C-321AC7DB7D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B15C-17C5-4355-9AF2-2EF143BDE9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1EB-704A-4BA8-9306-9C4201B61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905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6668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42900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191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31" name="未知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63c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e9932"/>
              </a:gs>
              <a:gs pos="100000">
                <a:srgbClr val="3b2f0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a99ec"/>
              </a:gs>
              <a:gs pos="100000">
                <a:srgbClr val="0e36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64e5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430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3680" y="35053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4600" y="19051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68240" y="21826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77600" y="44956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56640" y="511956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循环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4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558720" y="129528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159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161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167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216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9464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9484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47680" y="2071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864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112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360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6440" y="3352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20602200">
            <a:off x="1423440" y="19080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9560" y="1222560"/>
            <a:ext cx="6918480" cy="4356720"/>
            <a:chOff x="529560" y="1222560"/>
            <a:chExt cx="6918480" cy="4356720"/>
          </a:xfrm>
        </p:grpSpPr>
        <p:sp>
          <p:nvSpPr>
            <p:cNvPr id="198" name=""/>
            <p:cNvSpPr/>
            <p:nvPr/>
          </p:nvSpPr>
          <p:spPr>
            <a:xfrm rot="20712600">
              <a:off x="782280" y="19940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rot="20712600">
              <a:off x="4186080" y="31921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 rot="20712600">
              <a:off x="5562000" y="33602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202" name="未知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17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 rot="20601600">
              <a:off x="4757760" y="309348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720" y="2438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5520" y="1981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720" y="27432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8120" y="4038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10600" y="4267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2040" y="3429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dcf6"/>
                </a:solidFill>
                <a:latin typeface="Times New Roman"/>
              </a:rPr>
              <a:t>市场分析图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cf2f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216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87400" y="4038480"/>
            <a:ext cx="1513080" cy="1511280"/>
            <a:chOff x="887400" y="4038480"/>
            <a:chExt cx="1513080" cy="1511280"/>
          </a:xfrm>
        </p:grpSpPr>
        <p:sp>
          <p:nvSpPr>
            <p:cNvPr id="222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adc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adcf6"/>
                </a:gs>
                <a:gs pos="100000">
                  <a:srgbClr val="c7eb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37684"/>
                </a:gs>
                <a:gs pos="50000">
                  <a:srgbClr val="9adcf6"/>
                </a:gs>
                <a:gs pos="100000">
                  <a:srgbClr val="5376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a6a77"/>
                </a:gs>
                <a:gs pos="100000">
                  <a:srgbClr val="9adc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52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66571"/>
                </a:gs>
                <a:gs pos="100000">
                  <a:srgbClr val="9adc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228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234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59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335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4720" y="46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828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24000" y="443700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7:59:14Z</dcterms:created>
  <dc:creator/>
  <dc:description/>
  <dc:language>en-US</dc:language>
  <cp:lastModifiedBy/>
  <cp:lastPrinted>1899-12-30T00:00:00Z</cp:lastPrinted>
  <dcterms:modified xsi:type="dcterms:W3CDTF">2005-01-04T06:32:3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1368012052</vt:lpwstr>
  </property>
</Properties>
</file>