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5F7F-071D-4144-9592-91F56062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8569-D301-4454-A79F-9827D9DF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A281-6E18-4D4A-B252-8173BD18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17FC-2A27-4BCF-8FE4-85243BFE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383B-B24E-427E-931F-68C3C2B3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47E0-772D-43A0-8E59-213F7F02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05E7-9B34-42A4-AC8E-5726DE0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5BA1-29B2-491C-B622-CACE5A94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9D27-6B9E-4B43-81A1-CFA380A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5CFD-CE50-4785-B498-F36C710B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F112-8777-47CB-BDC3-A113A8C5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9456-2969-4A42-B88B-348B1466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87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65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225440"/>
            <a:ext cx="9144000" cy="1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1c1c1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0DCE359-859C-4BE7-9156-0C3CC623DA6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96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030480"/>
            <a:ext cx="9144000" cy="3827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65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1c1c1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030480"/>
            <a:ext cx="9144000" cy="3827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77C-1037-402B-BBD6-5D99DAC1C9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3794-C588-405D-A30C-04CB4474A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365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7DEE-0F15-4205-ACDC-33CB7FE37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cp:lastPrinted>1899-12-30T00:00:00Z</cp:lastPrinted>
  <dcterms:modified xsi:type="dcterms:W3CDTF">2009-11-12T04:03:59Z</dcterms:modified>
  <cp:revision>3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