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A56E-A223-4D5F-8A44-EAC805E52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44EE-5C14-42A3-AF7C-CE3271E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C57C-6BD2-4DAC-9A57-34921D7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8FB6-3060-4E13-9270-E656B5315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E4B5-A7FD-40D5-8DB6-58DD1CE2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15F38-13F0-4636-B329-2B94474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54844-7853-410D-87B9-F0B81088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D6E9-7FAA-44F8-8143-C5F0519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FD4BB-5F87-461E-8185-9806C486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55D01-D9FD-492A-B4B5-D07503E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5AF7C-01AD-48E1-988A-BC7B20C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3CA3-53AD-4C9B-9316-9360995F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D315-219B-4D24-BD6D-98958B6E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5839-1E6A-4138-AEBE-E44DD86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5B05C-833D-49E1-8210-129A9E05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577BF-3C09-4E03-82BA-75931954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188E-2D2D-4640-B376-F6FB8A9F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D58E-33BA-43B5-ABB4-C2AC065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2A1B-C13F-405A-A470-B0014C4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F873-D788-49C7-A1CF-AC455B3A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A396-CDE4-4F76-8230-50CA49AB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3252-8B17-4ABA-AD6E-5115C48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F22C-9391-4E20-8C95-17E1AA34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9511-21B8-4DF2-825C-60596A8E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D153-4E86-4F86-B4A3-B284D949EB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F9E-0372-4D2D-A438-7F7B5DF240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3740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81E-71A4-4E4A-B1BC-7F5EEAC44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055" descr=""/>
          <p:cNvPicPr/>
          <p:nvPr/>
        </p:nvPicPr>
        <p:blipFill>
          <a:blip r:embed="rId1"/>
          <a:stretch/>
        </p:blipFill>
        <p:spPr>
          <a:xfrm>
            <a:off x="20520" y="0"/>
            <a:ext cx="9185400" cy="4370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112680" y="1908000"/>
            <a:ext cx="309600" cy="435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4"/>
          <p:cNvSpPr/>
          <p:nvPr/>
        </p:nvSpPr>
        <p:spPr>
          <a:xfrm>
            <a:off x="0" y="4334040"/>
            <a:ext cx="9144000" cy="25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96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7992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5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9692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86840" y="19177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2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17784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3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​​ 5"/>
          <p:cNvSpPr/>
          <p:nvPr/>
        </p:nvSpPr>
        <p:spPr>
          <a:xfrm>
            <a:off x="-17640" y="1631880"/>
            <a:ext cx="91616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177840" y="19177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4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565200" y="3564000"/>
            <a:ext cx="4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Bread</dc:creator>
  <dc:description/>
  <dc:language>en-US</dc:language>
  <cp:lastModifiedBy>Bread</cp:lastModifiedBy>
  <cp:lastPrinted>1899-12-30T00:00:00Z</cp:lastPrinted>
  <dcterms:modified xsi:type="dcterms:W3CDTF">2011-01-19T06:58:00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