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05C4-DCF1-46A2-A915-E6C1E7F2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5136-4B8A-4F88-861A-B2E09288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B38A-51E6-4CC6-B4D0-D401FB04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5B17-146E-4989-8BCA-A4F28BFF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B562-C4FF-4D6C-9552-19F3235A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1FD9-E50A-490D-ABAF-61029ECF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052E-4553-4795-9761-056A3942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D252-F101-4C8D-AE03-B9DB4D52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BC6F-D0EE-402F-9E40-EC277CB4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DD2B-68DF-4777-ABE8-C40A5C0B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B5E2-A61C-4A8C-A4EA-AFF35DAF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FA6-E410-4B87-9C08-9B5D1A85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E9C0-77E4-4CEB-A964-CA37D2D4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B887-0DEC-4E47-9675-95E1EA4D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9060-179C-4D31-AE67-DE225E0A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D665-A594-4D41-A852-7B8A2BAD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38E0-3420-4D68-A6F3-CBAA5370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D727-784C-4C01-8453-F7634713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34D-EBB9-4F08-9655-5555B709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965-7349-47F2-A6AA-61CB07E5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BA9-BE04-49EF-BB6F-77AC4A4E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7C0F-12FF-4876-A98A-4254D929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DCC-4E7A-4693-9D31-E397AE82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5E76-CFF0-47AF-8652-E97F2E33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D8E9-13EC-481F-8F3B-52A9415ED31E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DAEA-7104-4B74-914A-6B3CDD471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57200" y="1142640"/>
            <a:ext cx="667224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27080" y="1919160"/>
            <a:ext cx="51451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71440" y="1600200"/>
            <a:ext cx="66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832040"/>
            <a:ext cx="822960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6:02:59Z</dcterms:created>
  <dc:creator/>
  <dc:description/>
  <dc:language>en-US</dc:language>
  <cp:lastModifiedBy>echo</cp:lastModifiedBy>
  <cp:lastPrinted>1899-12-30T00:00:00Z</cp:lastPrinted>
  <dcterms:modified xsi:type="dcterms:W3CDTF">2010-03-19T14:55:48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