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B81-8EE4-4955-86ED-1B49DA0A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6E5-65DE-4BF7-8CDD-62951EC6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FED-874F-4936-9646-6834DCA3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3F3-6A3E-444D-ACEE-04D53963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5988-B092-4A07-830B-D7C88517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7546-267D-4284-A0A5-08B0CFFD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1270-14AA-4233-8B2F-C580950F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3FA0-BF15-464A-841A-389B5A13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755C-2D10-4D26-95CD-3C02C960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40FA-6AE1-465C-86F8-8DC5951E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E12C-1B95-4391-91D3-29BB1E4C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518-3725-4B3E-AA71-3A1000AA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B848-D7C7-4AA5-88B4-AD8D6FAA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B926-14A8-4B01-A7E9-962CD026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F2C5-E780-47E9-A22D-5BF0B144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2D48-17D7-45FD-B8C3-619E125C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6876-9FFF-4E8B-B7C0-3A8B8C28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C1243-C050-4740-81FB-1DCA70B3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9A9F7-B75F-4064-AF4D-074EF3F7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19A0E-DFB8-491F-AD14-0BE80F9C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8D392-E44D-4892-9D76-63EA2622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D847-C2DC-4343-85CD-ECD3AD97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529-C262-4E68-8B74-99F79CE8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83711-64D5-41AD-82B0-A9C01E94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9DAE-7208-4DD4-81B6-F4B8EA54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5A313-7D0D-4DBD-8766-90261A64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23331-2383-4238-A3D2-081CE634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9D21A-8345-4F13-8E28-F0051897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E19E-3ED0-4D73-A6FA-016D3DB9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8B32-E8B0-4DEE-B7B1-B2BF2C2F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571-EA3F-4CA8-8D69-93FFC813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7C7-5D5B-4BFB-82DB-1F2DD653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C69-A198-461F-B5F4-7CACE18E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58C-365A-4153-A5E8-3A92C560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5E3-6BE8-44E8-95C7-DFAFF5D8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05D-7AF0-4E64-BBA9-247FF173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鱼不愚\桌面\图片2.png"/>
          <p:cNvPicPr/>
          <p:nvPr/>
        </p:nvPicPr>
        <p:blipFill>
          <a:blip r:embed="rId2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2FF2-8BA3-4C6F-9090-6626F8A759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鱼不愚\桌面\图片2.png"/>
          <p:cNvPicPr/>
          <p:nvPr/>
        </p:nvPicPr>
        <p:blipFill>
          <a:blip r:embed="rId2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7" descr=""/>
          <p:cNvPicPr/>
          <p:nvPr/>
        </p:nvPicPr>
        <p:blipFill>
          <a:blip r:embed="rId3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鱼不愚\桌面\图片1.png"/>
          <p:cNvPicPr/>
          <p:nvPr/>
        </p:nvPicPr>
        <p:blipFill>
          <a:blip r:embed="rId4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89CB-9666-4B3E-90F3-040CFDDEC0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F18B-6F1D-472E-A0A8-386B80B40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469800" y="4151160"/>
            <a:ext cx="500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Calibri"/>
                <a:ea typeface="Calibri"/>
              </a:rPr>
              <a:t>LOGO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357120" y="3341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Thank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6:57:20Z</dcterms:created>
  <dc:creator>rachel</dc:creator>
  <dc:description/>
  <dc:language>en-US</dc:language>
  <cp:lastModifiedBy>微软中国</cp:lastModifiedBy>
  <cp:lastPrinted>1899-12-30T00:00:00Z</cp:lastPrinted>
  <dcterms:modified xsi:type="dcterms:W3CDTF">2011-03-13T02:06:50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