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91D-DA38-4D4F-A0F4-87C15F6A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159-85C8-4218-8772-855FD42F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FD2-54BF-4853-9AE7-32A18E9D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109-8D1F-4898-BA6C-FBECC3DE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8D54-6752-48E5-B970-37A14452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40BF-0959-4734-B5FB-97E1C940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D2B7-C661-416D-A374-7F36B9E7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9F08-B555-4656-ADBD-4A51B6D0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0150-8E93-4965-99FC-24CE01F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B80A-CE0C-40ED-83D6-295F570A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F0D7-374F-4F72-9A62-2625F72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650-3232-4172-970B-094FBBAF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62A0-C487-4DD6-A6F0-5CACDCD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9FE7-2900-41E3-A1EC-FA4D452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C9FC-4420-4B46-8368-BC13588F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EAD8-2076-4254-AAE8-C28ADEE7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C315-CD95-4E8E-9DFA-BDD6E69E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AA6B-87E5-46A1-B9E8-6CB184C3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EEFA-D10C-46BC-9599-ABD1F063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9CE5-9AD1-4D6D-8496-AB1DE011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6309-24A4-4F9E-9852-12559F73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79D3-F70A-4D38-A035-A61E5865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88E-E04B-46A3-B570-CABD0222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54F0-22C5-45E0-A3DC-9831EAC0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FBA8-BC62-4E6F-8B98-3444BB96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0420-04A3-42A8-86A5-58B3367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8501-4463-483B-A216-7196283A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45A2-C58D-45CE-B0EE-BE908E0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9F417-5D22-4F31-A7C4-AB524EB5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5BA5-627E-4930-B464-32E625FC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ACD-49C0-4787-A141-A1C28E52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7CB-EF1A-43EF-9098-D27B8E2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277-B876-491C-8DEA-538CEB0D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E42-EE01-4186-8E65-BC1AA48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678-2C6A-4E14-B7F9-9575BC2D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4E0-40BF-44EA-AD88-EFF37E3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F10E-CD59-49D4-91B4-DAA159039B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777-6EC4-4ABB-A5AF-BB810C8D9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3847-C5AF-4A8F-90C8-239BE1BFA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2743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-113400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dc:language>en-US</dc:language>
  <cp:lastModifiedBy>kevin</cp:lastModifiedBy>
  <cp:lastPrinted>1899-12-30T00:00:00Z</cp:lastPrinted>
  <dcterms:modified xsi:type="dcterms:W3CDTF">2009-03-12T09:03:0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