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9221-0DE5-45C3-BC19-0DB79DC58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46A6-5AD2-4CE6-90FE-4BE0C6F66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412E-6006-4F2B-8EFF-6844F4538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FEC1-4155-4F81-B1A9-59A4207B5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67D1A-A578-453C-A3A5-86BBBFDCC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680A5-FE63-46E8-8395-5392F812E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ED3F3-4C07-4CCA-8422-9FE1DF97F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A4A5F-84B8-4A91-9D61-45B41C741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FB219-7BF3-4E7E-B5F2-C4EF0EBB1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8910D-FB24-4729-B3A6-F7BA92906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A70D6-C208-4476-851F-CF715EE6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670A-A458-4E71-A52D-F8C7276A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EEA6A-A458-4A11-B2A1-6763DB64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A96FE-75A9-43DE-B5B5-581E1158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F69FB-BB4D-4587-B31A-1B67C60B1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F34E8-FFF8-41A3-89AE-50F9800F3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64809-8797-4700-B15D-9E4D35D57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02772-D33F-4DF6-B984-535AF596D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9DC28-A466-4CB8-AA0F-3F9550C90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87320-A1FB-4EF7-A92B-FD0ACFFB1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877B7-117A-4841-BA99-199878C9B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AC501-81EE-40AB-BD4E-158F4DDC1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DD5E-D5B3-4789-8C41-0449CA1C7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0C435-AED2-488F-BE1A-4CBF0BB2D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D00E1-0098-46D9-A945-1BA101F1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769CF-6F57-47E1-92D4-8EEF5B6C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E5EFC-E388-4CC7-87C2-1CC76C28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8F073-5D8C-479A-BDC2-7FFD67968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FD614-9E81-416C-A7E6-2D4827CB7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A0BBD-292C-4744-A029-6B9502D3E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04B9-5F6E-4A6D-8046-CB90DFB15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0E9D-B62A-4764-97BA-C3E5013CA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4C9D-4EF0-4D99-BDD8-F8EA32307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9B55-EB5A-4EA5-BADB-0D3C4186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44E7-6BFA-49D1-9A40-D34D3297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7BED-2FBB-4625-9089-035CC504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752B0-2A31-47E0-AF6F-C0CCE5BA939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2" descr="C:\Documents and Settings\Administrator\桌面\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0" descr="C:\Documents and Settings\Administrator\桌面\4.png"/>
          <p:cNvPicPr/>
          <p:nvPr/>
        </p:nvPicPr>
        <p:blipFill>
          <a:blip r:embed="rId3"/>
          <a:stretch/>
        </p:blipFill>
        <p:spPr>
          <a:xfrm>
            <a:off x="0" y="3029040"/>
            <a:ext cx="9144000" cy="26859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C:\Documents and Settings\Administrator\桌面\1.png"/>
          <p:cNvPicPr/>
          <p:nvPr/>
        </p:nvPicPr>
        <p:blipFill>
          <a:blip r:embed="rId4"/>
          <a:srcRect l="33567" t="0" r="0" b="0"/>
          <a:stretch/>
        </p:blipFill>
        <p:spPr>
          <a:xfrm>
            <a:off x="0" y="3879720"/>
            <a:ext cx="684360" cy="185760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609480" y="633240"/>
            <a:ext cx="8534520" cy="5102280"/>
            <a:chOff x="609480" y="633240"/>
            <a:chExt cx="8534520" cy="5102280"/>
          </a:xfrm>
        </p:grpSpPr>
        <p:pic>
          <p:nvPicPr>
            <p:cNvPr id="45" name="单圆角矩形 9" descr=""/>
            <p:cNvPicPr/>
            <p:nvPr/>
          </p:nvPicPr>
          <p:blipFill>
            <a:blip r:embed="rId5"/>
            <a:stretch/>
          </p:blipFill>
          <p:spPr>
            <a:xfrm>
              <a:off x="609480" y="636120"/>
              <a:ext cx="8534520" cy="509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787320" y="633240"/>
              <a:ext cx="8356680" cy="510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7" name="Picture 9" descr="C:\Documents and Settings\Administrator\桌面\3.png"/>
          <p:cNvPicPr/>
          <p:nvPr/>
        </p:nvPicPr>
        <p:blipFill>
          <a:blip r:embed="rId6"/>
          <a:stretch/>
        </p:blipFill>
        <p:spPr>
          <a:xfrm>
            <a:off x="5572080" y="4511520"/>
            <a:ext cx="3462480" cy="1316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C:\Documents and Settings\Administrator\桌面\5.png"/>
          <p:cNvPicPr/>
          <p:nvPr/>
        </p:nvPicPr>
        <p:blipFill>
          <a:blip r:embed="rId7"/>
          <a:stretch/>
        </p:blipFill>
        <p:spPr>
          <a:xfrm>
            <a:off x="7164360" y="2928960"/>
            <a:ext cx="2209680" cy="29145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377F2-DE19-4828-963C-85FF50B4309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0B6C8-B2B4-4519-8B9A-EB3394640D05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2" descr="C:\Documents and Settings\Administrator\桌面\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C:\Documents and Settings\Administrator\桌面\4.png"/>
          <p:cNvPicPr/>
          <p:nvPr/>
        </p:nvPicPr>
        <p:blipFill>
          <a:blip r:embed="rId2"/>
          <a:stretch/>
        </p:blipFill>
        <p:spPr>
          <a:xfrm>
            <a:off x="0" y="3029040"/>
            <a:ext cx="9144000" cy="2685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C:\Documents and Settings\Administrator\桌面\3.png"/>
          <p:cNvPicPr/>
          <p:nvPr/>
        </p:nvPicPr>
        <p:blipFill>
          <a:blip r:embed="rId3"/>
          <a:srcRect l="0" t="0" r="0" b="37198"/>
          <a:stretch/>
        </p:blipFill>
        <p:spPr>
          <a:xfrm>
            <a:off x="5676840" y="2819520"/>
            <a:ext cx="3467160" cy="8254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C:\Documents and Settings\Administrator\桌面\2.png"/>
          <p:cNvPicPr/>
          <p:nvPr/>
        </p:nvPicPr>
        <p:blipFill>
          <a:blip r:embed="rId4"/>
          <a:stretch/>
        </p:blipFill>
        <p:spPr>
          <a:xfrm>
            <a:off x="1712880" y="4657680"/>
            <a:ext cx="4514760" cy="800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C:\Documents and Settings\Administrator\桌面\3.png"/>
          <p:cNvPicPr/>
          <p:nvPr/>
        </p:nvPicPr>
        <p:blipFill>
          <a:blip r:embed="rId5"/>
          <a:stretch/>
        </p:blipFill>
        <p:spPr>
          <a:xfrm>
            <a:off x="7975440" y="0"/>
            <a:ext cx="1149480" cy="3333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C:\Documents and Settings\Administrator\桌面\5.png"/>
          <p:cNvPicPr/>
          <p:nvPr/>
        </p:nvPicPr>
        <p:blipFill>
          <a:blip r:embed="rId6"/>
          <a:stretch/>
        </p:blipFill>
        <p:spPr>
          <a:xfrm>
            <a:off x="6905520" y="2800440"/>
            <a:ext cx="2210040" cy="2914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C:\Documents and Settings\Administrator\桌面\2.png"/>
          <p:cNvPicPr/>
          <p:nvPr/>
        </p:nvPicPr>
        <p:blipFill>
          <a:blip r:embed="rId7"/>
          <a:stretch/>
        </p:blipFill>
        <p:spPr>
          <a:xfrm rot="21348600">
            <a:off x="2411280" y="193320"/>
            <a:ext cx="5789880" cy="97164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14560" y="1496520"/>
            <a:ext cx="57258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pic>
        <p:nvPicPr>
          <p:cNvPr id="139" name="Picture 7" descr="C:\Documents and Settings\Administrator\桌面\1.png"/>
          <p:cNvPicPr/>
          <p:nvPr/>
        </p:nvPicPr>
        <p:blipFill>
          <a:blip r:embed="rId8"/>
          <a:stretch/>
        </p:blipFill>
        <p:spPr>
          <a:xfrm>
            <a:off x="395280" y="554040"/>
            <a:ext cx="4267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25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75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097 0.04111 L 1.43333 -0.41583 E">
                                      <p:cBhvr>
                                        <p:cTn id="38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2" descr="C:\Documents and Settings\Administrator\桌面\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C:\Documents and Settings\Administrator\桌面\4.png"/>
          <p:cNvPicPr/>
          <p:nvPr/>
        </p:nvPicPr>
        <p:blipFill>
          <a:blip r:embed="rId2"/>
          <a:stretch/>
        </p:blipFill>
        <p:spPr>
          <a:xfrm>
            <a:off x="0" y="3029040"/>
            <a:ext cx="9144000" cy="26859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C:\Documents and Settings\Administrator\桌面\3.png"/>
          <p:cNvPicPr/>
          <p:nvPr/>
        </p:nvPicPr>
        <p:blipFill>
          <a:blip r:embed="rId3"/>
          <a:srcRect l="0" t="0" r="0" b="36239"/>
          <a:stretch/>
        </p:blipFill>
        <p:spPr>
          <a:xfrm>
            <a:off x="5676840" y="2819520"/>
            <a:ext cx="3467160" cy="8380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C:\Documents and Settings\Administrator\桌面\3.png"/>
          <p:cNvPicPr/>
          <p:nvPr/>
        </p:nvPicPr>
        <p:blipFill>
          <a:blip r:embed="rId4"/>
          <a:stretch/>
        </p:blipFill>
        <p:spPr>
          <a:xfrm>
            <a:off x="7975440" y="0"/>
            <a:ext cx="1149480" cy="33336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276720" y="1417680"/>
            <a:ext cx="551808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3398760"/>
            <a:ext cx="9144000" cy="23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/>
          <p:nvPr/>
        </p:nvSpPr>
        <p:spPr>
          <a:xfrm>
            <a:off x="396720" y="117792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99cc00"/>
                </a:solidFill>
                <a:latin typeface="Calibri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5"/>
          <p:cNvSpPr/>
          <p:nvPr/>
        </p:nvSpPr>
        <p:spPr>
          <a:xfrm>
            <a:off x="324000" y="3697200"/>
            <a:ext cx="51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f5f5f"/>
                </a:solidFill>
                <a:latin typeface="Arial Unicode MS"/>
                <a:ea typeface="Arial Unicode MS"/>
              </a:rPr>
              <a:t>Kingsoft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ff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6"/>
          <p:cNvSpPr/>
          <p:nvPr/>
        </p:nvSpPr>
        <p:spPr>
          <a:xfrm>
            <a:off x="-219600" y="441792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6T06:35:16Z</dcterms:created>
  <dc:creator>user</dc:creator>
  <dc:description/>
  <dc:language>en-US</dc:language>
  <cp:lastModifiedBy>微软用户</cp:lastModifiedBy>
  <cp:lastPrinted>1899-12-30T00:00:00Z</cp:lastPrinted>
  <dcterms:modified xsi:type="dcterms:W3CDTF">2011-02-03T13:46:15Z</dcterms:modified>
  <cp:revision>2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