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1141-529B-45CE-929E-FA32FAF3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983-1D2E-453B-8B4E-24F14847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121-28DA-4EC4-AB13-592427A9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F4E-28D6-4804-ABB1-BB02C806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97F-CA2B-42AB-AF97-CFCAFF3E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D56D-FA85-40F4-AA5D-A46A6D17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D3D-7F90-4073-9B02-4B8F938C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0E3-1A13-4A36-996D-0C3D87BD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7473-7869-4F6D-B046-27A8A7E9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621-8C29-426A-BB08-7460512A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C996-946E-41FE-8FB1-5AC68A08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F356-214A-49AE-B799-CA77089A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-23760"/>
          <a:ext cx="9144000" cy="93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3760"/>
                    <a:ext cx="914400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64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64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64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64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273B-A241-443E-8401-AE8B8F654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209680" y="1676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1b9ad9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324000" y="4437000"/>
            <a:ext cx="546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ThemeGallery.com</dc:creator>
  <dc:description/>
  <dc:language>en-US</dc:language>
  <cp:lastModifiedBy>THEME_ENG_01</cp:lastModifiedBy>
  <cp:lastPrinted>1899-12-30T00:00:00Z</cp:lastPrinted>
  <dcterms:modified xsi:type="dcterms:W3CDTF">2005-06-16T05:07:21Z</dcterms:modified>
  <cp:revision>66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