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115-86D6-47B8-B441-1C2BE7BA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B18-2FFF-4466-93F8-5517A819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E8A-D66A-48AC-8623-AC9EBD51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FFC-2A7E-46C6-B2CD-1F2D1FDD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3B0-134E-4A05-BD25-F079A0FF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A53-CADD-442E-9B17-5C70BF98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CD2-CD98-425F-ACDD-AEB79A9D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381-3066-4CDB-AF48-CDB467C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E32-A6D4-4645-AA4C-6BF8DC66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4F5-804A-4374-9149-322E0451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002-156D-44E1-9F2F-02194095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632-FA70-4A20-BFF1-487267BB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22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82680" indent="-255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7120" indent="-257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09760" indent="-255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09760" indent="-255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09760" indent="-255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 algn="ctr">
              <a:spcBef>
                <a:spcPts val="774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708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972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416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41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416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86A4-2A17-4285-9593-F2E8743C0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078440"/>
            <a:ext cx="9906120" cy="2781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1413000"/>
            <a:ext cx="624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52440" y="4437000"/>
            <a:ext cx="467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-7344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9:51:20Z</dcterms:created>
  <dc:creator>llq</dc:creator>
  <dc:description/>
  <dc:language>en-US</dc:language>
  <cp:lastModifiedBy>pc</cp:lastModifiedBy>
  <cp:lastPrinted>1899-12-30T00:00:00Z</cp:lastPrinted>
  <dcterms:modified xsi:type="dcterms:W3CDTF">2011-12-31T13:25:1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