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AD4-D838-4E8D-A269-A9B19B49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CE8-6DA9-4480-B98B-4D17EF38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C82-B64D-4242-AAA3-4C530DE8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90B-6904-4897-8BCE-3964FB21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2EC-8845-4453-B803-8D7A8D6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3027-3B2E-4ADA-924C-8C48429A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B5A-8F93-4A31-AABD-623F2E9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4DC9-A5BF-40E7-A244-D0A65938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459B-D901-4A67-A4F8-98D556F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E9BC-3597-4729-8EAC-8248B52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4EAF-EE32-4D48-A69C-7E8A80B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886-19F5-4614-B718-F0A30DD8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73D5-DBCE-48A4-91E4-2155596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5AF9-E368-48C4-9413-30DAA8D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4627-25CB-4E8F-855C-6CC280D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A4F-F630-4C30-976C-BA2C8008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F225-9903-4C3B-9F37-022F9C57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1B56-7FAF-4629-87DF-CB562C17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D4A8-2E01-430E-A6C7-F256C1AC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EEBC-0B46-4F55-80C4-9EDA644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DB7B-326D-4E58-977E-A3C30538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336A-88B2-4930-AA15-304306F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939-75BA-4077-8351-C2300C49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5A9D-6ADD-4D1E-A0B6-24DD85B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D046-D368-4179-85E7-658BE9B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A5188-02F0-45B9-9272-6344C05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3DE9-9745-4DF8-9CD2-CA1307C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F75F-199E-4FB3-9F9B-88E5E40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A4D2-4228-40E4-A31A-75EF44B3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7313-1D22-40A9-AB94-B0C2BE22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EAD9-C210-4232-B734-FFB83963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1FB8-4B88-4B81-96B4-C5D119EB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DE82-7E05-4160-8DEA-AB08573F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FF5-0EBA-4DDB-8258-4682428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943E-1725-4D93-8DF8-9D2D9BC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127F-C837-467A-918E-69C00FA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CE74-5DB9-4D46-B1A1-F2230CDE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1C7F-4C1E-41F9-A276-D0CF46F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3C8E-FB96-4324-8D63-7A13085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6517-463A-472E-9B3F-DAEE63AF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0AF2-EA49-4BC0-B0B1-E644B36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AF37-E964-4842-888B-46B0814F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F864-1EB2-4B22-87B0-50983C62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92C1-74B9-464F-915F-13F2A7B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CA3-96E6-41DB-94DE-C7495A64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5DDF-075D-4DE8-89AF-A0E44789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1742-AC31-459D-90B5-7EAF08C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4480-7426-4E3A-AE15-306ACB8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53A0-5BA9-454F-8592-BFFF20A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F842-6EAE-4AD8-A611-95F61043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EC20-5AE1-4D7D-979F-E95BB1B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E28E1-1ABC-4D99-8408-500D8BA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8351-025B-4E80-A679-E5FD0969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B1E1-C8FC-4123-8C91-FAE1F7B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955E-9C20-4F63-AC13-7D8DDE2D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1A3-7166-4052-9F56-FFF770A5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EBBE-AB1C-49CD-8E0F-D60D6C32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C72-5EFE-410D-8AA6-4EC51E16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657-0A28-488E-91E1-E1339E8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A39-B3F6-44A6-AAA1-C8128AF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876560" y="45720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876"/>
              </a:spcBef>
              <a:buClr>
                <a:srgbClr val="000000"/>
              </a:buClr>
              <a:buSzPct val="25000"/>
              <a:buFont typeface="微软雅黑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1" marL="215280" indent="-8280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2" marL="33120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3" marL="46404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4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5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  <a:p>
            <a:pPr lvl="6" marL="596520" indent="-66240" algn="ctr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EA4-A1BA-4629-8919-90CFA271CC68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75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25000"/>
              <a:buFont typeface="微软雅黑"/>
              <a:buChar char="•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6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A66-C0EE-47A5-8AAF-2EC3DC4F917B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848-302D-4B13-8638-B12DC8E138AC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ff"/>
              </a:buClr>
              <a:buSzPct val="25000"/>
              <a:buFont typeface="微软雅黑"/>
              <a:buChar char="•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cc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B13-5DD7-42B3-BFE3-30379637F305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952880" y="43430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微软雅黑"/>
              </a:rPr>
              <a:t>Click to edit the title text format</a:t>
            </a:r>
            <a:endParaRPr b="0" lang="en-US" sz="5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SzPct val="25000"/>
              <a:buFont typeface="Arial Black"/>
              <a:buChar char="•"/>
            </a:pP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A7A1-724C-4D73-80EA-39E5A7A8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876560" y="45720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SzPct val="25000"/>
              <a:buFont typeface="微软雅黑"/>
              <a:buChar char="•"/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</a:rPr>
              <a:t>Click to add subtitle</a:t>
            </a:r>
            <a:endParaRPr b="0" lang="en-US" sz="3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75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75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Click to add title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6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Click to add title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8862-5A52-4A53-B5D5-8F537C2CDA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2880" y="43430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5000" spc="-1" strike="noStrike">
                <a:solidFill>
                  <a:srgbClr val="ccffff"/>
                </a:solidFill>
                <a:latin typeface="微软雅黑"/>
                <a:ea typeface="微软雅黑"/>
              </a:rPr>
              <a:t>Thank You</a:t>
            </a:r>
            <a:endParaRPr b="0" lang="en-US" sz="5000" spc="-1" strike="noStrike">
              <a:solidFill>
                <a:srgbClr val="cc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CC6F-F0FA-490B-9868-4305E06BE8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-1023840" y="4451400"/>
            <a:ext cx="51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31:49Z</dcterms:created>
  <dc:creator>Administrator</dc:creator>
  <dc:description/>
  <dc:language>en-US</dc:language>
  <cp:lastModifiedBy/>
  <cp:lastPrinted>1899-12-30T00:00:00Z</cp:lastPrinted>
  <dcterms:modified xsi:type="dcterms:W3CDTF">2011-11-21T11:05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9517569991</vt:lpwstr>
  </property>
</Properties>
</file>