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CF5-8B60-4066-8CF7-7B4C7752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5D7-CB22-4E14-B0C6-5CD1C30A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CED8-3226-4A66-88F0-E38C59E1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00B-519E-4342-B707-B98C853D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F0D5-3D48-49AC-9D8C-00FDC425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2466-9117-455B-8149-E204B816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A7C7-05B3-4720-983D-A5307A71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1842-8D47-4709-85F7-B266C452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A08A-D83F-49C5-B5BD-7EB0567B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CC63-040F-4156-8215-10C329A6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9047-3D81-4C0B-B5F2-67CD987E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17F-FD4A-412E-A918-7B63093E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D979-0B55-477E-B69A-5240AD9B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95C1-59E7-42AD-B44B-8EC27A52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D37C-B803-47C8-B666-8E7AEE80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1F2E-038D-4548-9342-A8B9ECFC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823A-FC33-4EB0-B76E-A10E0298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573-DC35-4E30-9695-CDD70FB0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68C-71F9-4616-AE2D-BE8293BC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7B8-5829-4BE2-BD40-3227106A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831-F87A-47DB-AAF5-2EBB6AD5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8CC-44D0-43AF-91F1-49646BE2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1B1-391C-4D25-94A3-EAA0740E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C59-60ED-459E-86F2-FE64A9B9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457200" indent="45720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914400">
              <a:spcBef>
                <a:spcPts val="601"/>
              </a:spcBef>
              <a:buClr>
                <a:srgbClr val="94877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371600" indent="-457200">
              <a:spcBef>
                <a:spcPts val="601"/>
              </a:spcBef>
              <a:buClr>
                <a:srgbClr val="7eb8e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1828800" indent="-914400">
              <a:spcBef>
                <a:spcPts val="601"/>
              </a:spcBef>
              <a:buClr>
                <a:srgbClr val="e3b65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5554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D9B4-610B-4B16-B846-98E234C97F4C}" type="datetime">
              <a:rPr b="0" lang="zh-CN" sz="1200" spc="-1" strike="noStrike">
                <a:solidFill>
                  <a:srgbClr val="55554a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5554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5DB1-EFF3-4643-89D9-CA6F6BC0AE7E}" type="slidenum">
              <a:rPr b="0" lang="zh-CN" sz="1200" spc="-1" strike="noStrike">
                <a:solidFill>
                  <a:srgbClr val="55554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b74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E635-5143-4671-9DCC-30258989A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35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5479920"/>
            <a:ext cx="9144000" cy="235080"/>
          </a:xfrm>
          <a:prstGeom prst="rect">
            <a:avLst/>
          </a:prstGeom>
          <a:solidFill>
            <a:srgbClr val="b74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8191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Bodoni MT Condensed"/>
              </a:rPr>
              <a:t>Click to add title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71320" y="43434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C61-0532-4CD4-BADC-2B35450DEB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6:54:50Z</dcterms:created>
  <dc:creator>Administrator</dc:creator>
  <dc:description/>
  <dc:language>en-US</dc:language>
  <cp:lastModifiedBy/>
  <cp:lastPrinted>1899-12-30T00:00:00Z</cp:lastPrinted>
  <dcterms:modified xsi:type="dcterms:W3CDTF">2011-12-27T08:54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_TemplateID">
    <vt:lpwstr>TC022643319991</vt:lpwstr>
  </property>
</Properties>
</file>