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F33-E8AD-45C5-B2D3-48D2887E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4A6-D831-4D68-96F2-4FD2D604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D93-E162-4A12-9DDA-E6A03186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933-E974-4C07-96EF-160A8C6B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29B-004F-412B-94CB-6C77DEC6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A590-0085-45B7-AE51-0214374D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47B0-7914-441F-8469-AE0CCEA2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C570-3E2C-4E75-B8CB-E44E3D7A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3F63-E109-4A5E-A170-268AAC02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7569-82BA-48FF-B6BE-8C4E6329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FE0-141C-4553-B235-ECFC9594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DBCF-548B-40CD-926E-1E9C9998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DDFE-AAE3-41A4-A988-EE01CD9D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0E8D-CBBC-45D7-BB03-F27B5F7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4268-F63E-4047-8E35-E22449C4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9A38-8B51-4FBF-A9BB-F5CA1741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7CC6-A72F-4D61-A958-815B95CE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E3B8-563E-4EBA-BCB8-FC22D3D0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583-D75F-4C93-9A6D-929DCBA5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009-47B3-4084-AE54-5F0D74C1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085-39A7-424A-A10F-EF933E49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1B7-A0A3-45CF-B086-ACA10D22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D25-17FE-419F-A53C-7B3F8214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39E-0CCB-434A-AC4F-AFC268CA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516360" y="-360"/>
            <a:ext cx="2514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Gulim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C6D2-EE10-4876-9587-24E94FB50717}" type="slidenum">
              <a:rPr b="1" lang="ko-KR" sz="14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7" name="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51" name="未知"/>
            <p:cNvSpPr/>
            <p:nvPr/>
          </p:nvSpPr>
          <p:spPr>
            <a:xfrm flipV="1">
              <a:off x="0" y="4288320"/>
              <a:ext cx="9097920" cy="577800"/>
            </a:xfrm>
            <a:custGeom>
              <a:avLst/>
              <a:gdLst/>
              <a:ahLst/>
              <a:rect l="l" t="t" r="r" b="b"/>
              <a:pathLst>
                <a:path w="5731" h="808">
                  <a:moveTo>
                    <a:pt x="0" y="0"/>
                  </a:moveTo>
                  <a:lnTo>
                    <a:pt x="19" y="279"/>
                  </a:lnTo>
                  <a:cubicBezTo>
                    <a:pt x="321" y="399"/>
                    <a:pt x="1170" y="671"/>
                    <a:pt x="1824" y="739"/>
                  </a:cubicBezTo>
                  <a:cubicBezTo>
                    <a:pt x="2478" y="808"/>
                    <a:pt x="3295" y="769"/>
                    <a:pt x="3946" y="695"/>
                  </a:cubicBezTo>
                  <a:cubicBezTo>
                    <a:pt x="4597" y="621"/>
                    <a:pt x="5435" y="387"/>
                    <a:pt x="5731" y="297"/>
                  </a:cubicBezTo>
                  <a:lnTo>
                    <a:pt x="572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 flipV="1">
              <a:off x="0" y="4363560"/>
              <a:ext cx="9097920" cy="60192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4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429840" y="260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0263-3119-4C02-B7A5-3303AF1A1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resentation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03280" y="5127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90640" y="2308320"/>
            <a:ext cx="5805360" cy="538200"/>
            <a:chOff x="1790640" y="2308320"/>
            <a:chExt cx="5805360" cy="538200"/>
          </a:xfrm>
        </p:grpSpPr>
        <p:sp>
          <p:nvSpPr>
            <p:cNvPr id="143" name=""/>
            <p:cNvSpPr/>
            <p:nvPr/>
          </p:nvSpPr>
          <p:spPr>
            <a:xfrm>
              <a:off x="1790640" y="2308320"/>
              <a:ext cx="5805360" cy="53820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50000">
                  <a:srgbClr val="9999ff">
                    <a:alpha val="50196"/>
                  </a:srgbClr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63800" y="2392560"/>
              <a:ext cx="5473440" cy="3603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790640" y="3030480"/>
            <a:ext cx="5805360" cy="538200"/>
            <a:chOff x="1790640" y="3030480"/>
            <a:chExt cx="5805360" cy="538200"/>
          </a:xfrm>
        </p:grpSpPr>
        <p:sp>
          <p:nvSpPr>
            <p:cNvPr id="146" name=""/>
            <p:cNvSpPr/>
            <p:nvPr/>
          </p:nvSpPr>
          <p:spPr>
            <a:xfrm>
              <a:off x="1790640" y="3030480"/>
              <a:ext cx="5805360" cy="538200"/>
            </a:xfrm>
            <a:prstGeom prst="rect">
              <a:avLst/>
            </a:prstGeom>
            <a:gradFill rotWithShape="0">
              <a:gsLst>
                <a:gs pos="0">
                  <a:srgbClr val="144b5c"/>
                </a:gs>
                <a:gs pos="50000">
                  <a:srgbClr val="2ca3c8">
                    <a:alpha val="50196"/>
                  </a:srgbClr>
                </a:gs>
                <a:gs pos="100000">
                  <a:srgbClr val="144b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77840" y="3105000"/>
              <a:ext cx="5473800" cy="360360"/>
            </a:xfrm>
            <a:prstGeom prst="roundRect">
              <a:avLst>
                <a:gd name="adj" fmla="val 16667"/>
              </a:avLst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790640" y="3789360"/>
            <a:ext cx="5805360" cy="538200"/>
            <a:chOff x="1790640" y="3789360"/>
            <a:chExt cx="5805360" cy="538200"/>
          </a:xfrm>
        </p:grpSpPr>
        <p:sp>
          <p:nvSpPr>
            <p:cNvPr id="149" name=""/>
            <p:cNvSpPr/>
            <p:nvPr/>
          </p:nvSpPr>
          <p:spPr>
            <a:xfrm>
              <a:off x="1790640" y="3789360"/>
              <a:ext cx="5805360" cy="538200"/>
            </a:xfrm>
            <a:prstGeom prst="rect">
              <a:avLst/>
            </a:prstGeom>
            <a:gradFill rotWithShape="0">
              <a:gsLst>
                <a:gs pos="0">
                  <a:srgbClr val="002e2e"/>
                </a:gs>
                <a:gs pos="50000">
                  <a:srgbClr val="009999">
                    <a:alpha val="50196"/>
                  </a:srgbClr>
                </a:gs>
                <a:gs pos="100000">
                  <a:srgbClr val="00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63800" y="3884760"/>
              <a:ext cx="5473440" cy="3603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790640" y="4546440"/>
            <a:ext cx="5805360" cy="538200"/>
            <a:chOff x="1790640" y="4546440"/>
            <a:chExt cx="5805360" cy="538200"/>
          </a:xfrm>
        </p:grpSpPr>
        <p:sp>
          <p:nvSpPr>
            <p:cNvPr id="152" name=""/>
            <p:cNvSpPr/>
            <p:nvPr/>
          </p:nvSpPr>
          <p:spPr>
            <a:xfrm>
              <a:off x="1790640" y="4546440"/>
              <a:ext cx="5805360" cy="538200"/>
            </a:xfrm>
            <a:prstGeom prst="rect">
              <a:avLst/>
            </a:prstGeom>
            <a:gradFill rotWithShape="0">
              <a:gsLst>
                <a:gs pos="0">
                  <a:srgbClr val="002e4c"/>
                </a:gs>
                <a:gs pos="50000">
                  <a:srgbClr val="0099ff">
                    <a:alpha val="50196"/>
                  </a:srgbClr>
                </a:gs>
                <a:gs pos="100000">
                  <a:srgbClr val="002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63800" y="4617720"/>
              <a:ext cx="5473440" cy="360360"/>
            </a:xfrm>
            <a:prstGeom prst="roundRect">
              <a:avLst>
                <a:gd name="adj" fmla="val 16667"/>
              </a:avLst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38480" y="3033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2640" y="23623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6920" y="384012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6920" y="45594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813800" y="44280"/>
            <a:ext cx="118584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6360" y="1341360"/>
            <a:ext cx="79916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a3c8"/>
                </a:solidFill>
                <a:latin typeface="Verdana"/>
                <a:ea typeface="Gulim"/>
              </a:rPr>
              <a:t>Competitors 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Verdana"/>
                <a:ea typeface="Gulim"/>
              </a:rPr>
              <a:t>Strengths</a:t>
            </a:r>
            <a:r>
              <a:rPr b="1" lang="en-US" sz="2400" spc="-1" strike="noStrike">
                <a:solidFill>
                  <a:srgbClr val="2ca3c8"/>
                </a:solidFill>
                <a:latin typeface="Verdana"/>
                <a:ea typeface="Gulim"/>
              </a:rPr>
              <a:t> 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a3c8"/>
                </a:solidFill>
                <a:latin typeface="Verdana"/>
                <a:ea typeface="Gulim"/>
              </a:rPr>
              <a:t>Weaknesses</a:t>
            </a: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a3c8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109080" cy="1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8640" y="1558800"/>
            <a:ext cx="7426440" cy="448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524720" y="44280"/>
            <a:ext cx="1584360" cy="2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003640" y="2349360"/>
            <a:ext cx="3745080" cy="3816000"/>
            <a:chOff x="5003640" y="2349360"/>
            <a:chExt cx="3745080" cy="3816000"/>
          </a:xfrm>
        </p:grpSpPr>
        <p:sp>
          <p:nvSpPr>
            <p:cNvPr id="167" name=""/>
            <p:cNvSpPr/>
            <p:nvPr/>
          </p:nvSpPr>
          <p:spPr>
            <a:xfrm>
              <a:off x="5003640" y="2354760"/>
              <a:ext cx="3745080" cy="3764160"/>
            </a:xfrm>
            <a:prstGeom prst="donut">
              <a:avLst>
                <a:gd name="adj" fmla="val 1481"/>
              </a:avLst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5563440" y="5423400"/>
              <a:ext cx="446760" cy="34200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6202080" y="3521880"/>
              <a:ext cx="577800" cy="264348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6701400" y="3476880"/>
              <a:ext cx="589680" cy="25750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041240" y="3276360"/>
              <a:ext cx="825480" cy="266328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911000" y="3559680"/>
              <a:ext cx="464760" cy="2095200"/>
            </a:xfrm>
            <a:custGeom>
              <a:avLst/>
              <a:gdLst/>
              <a:ahLst/>
              <a:rect l="l" t="t" r="r" b="b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5553720" y="4203360"/>
              <a:ext cx="788400" cy="180900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6903720" y="2514600"/>
              <a:ext cx="901080" cy="26928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7112520" y="2890440"/>
              <a:ext cx="693360" cy="11484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6728760" y="2349360"/>
              <a:ext cx="280440" cy="34632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6468840" y="2384280"/>
              <a:ext cx="92160" cy="40248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5732640" y="3535920"/>
              <a:ext cx="2320920" cy="85104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153400" y="3729240"/>
              <a:ext cx="3543840" cy="1541160"/>
            </a:xfrm>
            <a:custGeom>
              <a:avLst/>
              <a:gdLst/>
              <a:ahLst/>
              <a:rect l="l" t="t" r="r" b="b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5944680" y="4892040"/>
              <a:ext cx="2698200" cy="990000"/>
            </a:xfrm>
            <a:custGeom>
              <a:avLst/>
              <a:gdLst/>
              <a:ahLst/>
              <a:rect l="l" t="t" r="r" b="b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6941880" y="2628360"/>
              <a:ext cx="1751400" cy="1425960"/>
            </a:xfrm>
            <a:custGeom>
              <a:avLst/>
              <a:gdLst/>
              <a:ahLst/>
              <a:rect l="l" t="t" r="r" b="b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7230960" y="2639520"/>
              <a:ext cx="287640" cy="26352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6728760" y="2566800"/>
              <a:ext cx="620280" cy="48780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6832080" y="2447640"/>
              <a:ext cx="239040" cy="21852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5003640" y="2457360"/>
              <a:ext cx="2008440" cy="25102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6321600" y="5680080"/>
              <a:ext cx="550080" cy="413640"/>
            </a:xfrm>
            <a:custGeom>
              <a:avLst/>
              <a:gdLst/>
              <a:ahLst/>
              <a:rect l="l" t="t" r="r" b="b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6192360" y="5563800"/>
              <a:ext cx="543240" cy="183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5216760" y="4997520"/>
              <a:ext cx="183960" cy="24912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395680" y="4883400"/>
              <a:ext cx="109800" cy="36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5560560" y="4593240"/>
              <a:ext cx="354960" cy="31392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6065280" y="2685600"/>
              <a:ext cx="1117080" cy="855360"/>
            </a:xfrm>
            <a:prstGeom prst="donut">
              <a:avLst>
                <a:gd name="adj" fmla="val 6907"/>
              </a:avLst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332000" y="2852640"/>
            <a:ext cx="684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1d528d"/>
                </a:solidFill>
                <a:uFillTx/>
                <a:latin typeface="Verdana"/>
              </a:rPr>
              <a:t>Thank </a:t>
            </a:r>
            <a:r>
              <a:rPr b="1" lang="en-US" sz="6000" spc="-1" strike="noStrike" u="sng">
                <a:solidFill>
                  <a:srgbClr val="2ca3c8"/>
                </a:solidFill>
                <a:uFillTx/>
                <a:latin typeface="Verdana"/>
              </a:rPr>
              <a:t>You !</a:t>
            </a:r>
            <a:endParaRPr b="0" lang="en-US" sz="6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813800" y="46080"/>
            <a:ext cx="1224000" cy="1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c3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324000" y="443700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2:02:31Z</dcterms:created>
  <dc:creator>free</dc:creator>
  <dc:description/>
  <dc:language>en-US</dc:language>
  <cp:lastModifiedBy>free</cp:lastModifiedBy>
  <cp:lastPrinted>1899-12-30T00:00:00Z</cp:lastPrinted>
  <dcterms:modified xsi:type="dcterms:W3CDTF">2003-10-01T02:21:23Z</dcterms:modified>
  <cp:revision>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