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B6F-69C3-4EE1-B6E8-A2607048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627-8FA7-45A2-BC53-BE3DD701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CEE-45DF-41A4-9106-BF4B28AC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603-5D90-469F-BAA0-16256FF6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24B-72F9-4137-A7F9-B231E471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908B-062D-48B9-B2DD-8059F582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3605-630D-4EB3-ACED-C46FA3F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DB78-90D2-4E45-BA40-12187D40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3C79-24B4-4A16-ADD0-33E94706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3C3D-4C1C-4223-9186-56FDD3C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E29-9853-48E8-A2E7-F09C5099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7FD-289C-42AE-972B-1180E5C2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D42D-530D-496D-8A53-47F4031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DCD3-4E8A-48C1-A557-D3E0D22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3CF-0CEF-4356-B056-7F1ED6D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0B30-42F7-4513-8F86-7969CA1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8F02-D95E-459D-A939-9B6EB0D6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52DC-A065-4464-A375-7E9F908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849-A605-4108-87DE-56CBD20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13F-E938-44FD-B148-C910C9B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1C5-79DA-416E-A378-7BF744A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4BB-5CB5-4327-8B82-A96FEFA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DD8-2C59-4FE9-9CF2-9369444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FE7-0EB6-4AF6-8870-933B573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0280"/>
            <a:ext cx="7596360" cy="576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7596360" cy="41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340000" y="1441440"/>
          <a:ext cx="6804000" cy="54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41440"/>
                    <a:ext cx="680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68360" y="6526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9144000" cy="7308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Gulim"/>
              </a:rPr>
              <a:t>wps.cn/mo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67280" y="260280"/>
            <a:ext cx="1312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03C7-CA43-45CC-BDF7-B75473F5A4B1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26160" y="60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8fe3"/>
                </a:solidFill>
                <a:latin typeface="Arial"/>
                <a:ea typeface="Gulim"/>
              </a:rPr>
              <a:t>Company</a:t>
            </a:r>
            <a:r>
              <a:rPr b="1" lang="en-US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1c3a8e"/>
                </a:solidFill>
                <a:latin typeface="Arial"/>
                <a:ea typeface="Gulim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C973-2C97-41C9-9A90-7AD4EC7FB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Gulim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54878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720" y="6454800"/>
            <a:ext cx="115092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687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fe3"/>
                </a:solidFill>
                <a:latin typeface="Verdana"/>
                <a:ea typeface="Gulim"/>
              </a:rPr>
              <a:t>Competitors </a:t>
            </a: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a8e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438fe3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fe3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38fe3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720" y="6454800"/>
            <a:ext cx="1152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5473800" cy="461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6454800"/>
            <a:ext cx="12236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51280" y="2225520"/>
            <a:ext cx="1368360" cy="127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306864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c3a8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1c3a8e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5440" y="6454800"/>
            <a:ext cx="12240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99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24000" y="443700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1:08Z</dcterms:created>
  <dc:creator>황정남</dc:creator>
  <dc:description/>
  <dc:language>en-US</dc:language>
  <cp:lastModifiedBy>황정남</cp:lastModifiedBy>
  <cp:lastPrinted>1899-12-30T00:00:00Z</cp:lastPrinted>
  <dcterms:modified xsi:type="dcterms:W3CDTF">2003-10-30T06:35:51Z</dcterms:modified>
  <cp:revision>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