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88F-F878-4670-B62A-80B56AA9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976-43BE-4917-A03E-951D35C1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F27-867D-446D-ABFD-6EEFFBFC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902-AE4F-4D15-BB75-FF256125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F10-5806-402E-88CC-78F9301E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69C2-4713-4408-8288-31D1088D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E6CD-0BEB-419F-85DF-EE8FD414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B97-CCCB-4589-85AB-8267CD1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6260-5AC4-487D-9360-DF6E191F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4D46-7F3F-4F38-A334-5DBA1F23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6548-B93F-45F1-9302-33FDE7D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683-2473-4BB6-818D-451E3EAC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BD4D-B9E9-45B3-B0B0-57519368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7AF-ADDE-44C7-9BD1-2C4657D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BDEB-8717-4E7D-9A45-A9836417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3081-729A-4774-B356-EAD151B9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8DFA-0727-45FF-AB58-D5B03B18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D71-1441-4C63-B115-54F9BD0B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50E-6674-4310-BAB4-F4B7B077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18D-6BB0-460C-AC25-B33C4718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263-EACE-4299-B2E6-F36C3E4E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0D3-78B4-4F41-AE77-0E97509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CC6-742E-4DF9-A43C-90AA274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41A-8D3D-4FB9-AF4F-225378D8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7BF04-D72D-446E-825B-50188B5B5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320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688320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840" y="6883200"/>
            <a:ext cx="23508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763AD2-4B71-499D-ABF1-06D78891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360" y="544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ert Presentation Title Here</a:t>
            </a:r>
            <a:br>
              <a:rPr sz="4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504720" y="81720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495680"/>
            <a:ext cx="10080720" cy="306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8120" y="1557360"/>
            <a:ext cx="63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58920" y="4890960"/>
            <a:ext cx="51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-39960" y="58453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5"/>
          <p:cNvCxnSpPr>
            <a:stCxn id="98" idx="0"/>
            <a:endCxn id="96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"/>
          <p:cNvCxnSpPr>
            <a:stCxn id="96" idx="5"/>
            <a:endCxn id="97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1"/>
          <p:cNvSpPr/>
          <p:nvPr/>
        </p:nvSpPr>
        <p:spPr>
          <a:xfrm>
            <a:off x="1179360" y="3357720"/>
            <a:ext cx="1686240" cy="1685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"/>
          <p:cNvSpPr/>
          <p:nvPr/>
        </p:nvSpPr>
        <p:spPr>
          <a:xfrm>
            <a:off x="3827520" y="3622680"/>
            <a:ext cx="1168200" cy="11685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575160" y="518328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3575160" y="205596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180040" y="205740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6"/>
          <p:cNvCxnSpPr>
            <a:stCxn id="109" idx="7"/>
            <a:endCxn id="112" idx="2"/>
          </p:cNvCxnSpPr>
          <p:nvPr/>
        </p:nvCxnSpPr>
        <p:spPr>
          <a:xfrm flipV="1">
            <a:off x="2616120" y="263916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7"/>
          <p:cNvCxnSpPr>
            <a:stCxn id="109" idx="5"/>
            <a:endCxn id="111" idx="2"/>
          </p:cNvCxnSpPr>
          <p:nvPr/>
        </p:nvCxnSpPr>
        <p:spPr>
          <a:xfrm>
            <a:off x="2616120" y="479412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8"/>
          <p:cNvCxnSpPr>
            <a:stCxn id="109" idx="6"/>
            <a:endCxn id="110" idx="2"/>
          </p:cNvCxnSpPr>
          <p:nvPr/>
        </p:nvCxnSpPr>
        <p:spPr>
          <a:xfrm>
            <a:off x="2863440" y="419904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AutoShape 9"/>
          <p:cNvSpPr/>
          <p:nvPr/>
        </p:nvSpPr>
        <p:spPr>
          <a:xfrm>
            <a:off x="5180040" y="36212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5180040" y="5153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984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9"/>
          <p:cNvCxnSpPr>
            <a:stCxn id="126" idx="0"/>
            <a:endCxn id="127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97979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4d357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"/>
          <p:cNvSpPr/>
          <p:nvPr/>
        </p:nvSpPr>
        <p:spPr>
          <a:xfrm flipV="1">
            <a:off x="1030320" y="529524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1" descr=""/>
          <p:cNvPicPr/>
          <p:nvPr/>
        </p:nvPicPr>
        <p:blipFill>
          <a:blip r:embed="rId2"/>
          <a:stretch/>
        </p:blipFill>
        <p:spPr>
          <a:xfrm>
            <a:off x="684360" y="2173320"/>
            <a:ext cx="8103960" cy="4678200"/>
          </a:xfrm>
          <a:prstGeom prst="rect">
            <a:avLst/>
          </a:prstGeom>
          <a:ln w="0">
            <a:noFill/>
          </a:ln>
        </p:spPr>
      </p:pic>
      <p:cxnSp>
        <p:nvCxnSpPr>
          <p:cNvPr id="152" name="AutoShape 2"/>
          <p:cNvCxnSpPr>
            <a:endCxn id="153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4d3574"/>
            </a:solidFill>
            <a:miter/>
            <a:tailEnd len="med" type="triangle" w="med"/>
          </a:ln>
        </p:spPr>
      </p:cxnSp>
      <p:sp>
        <p:nvSpPr>
          <p:cNvPr id="153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5"/>
          <p:cNvCxnSpPr>
            <a:stCxn id="154" idx="0"/>
            <a:endCxn id="154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AutoShape 6"/>
          <p:cNvCxnSpPr>
            <a:endCxn id="154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57" name="Text Box 7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9:39Z</dcterms:created>
  <dc:creator>User</dc:creator>
  <dc:description>A glass ball lying on a &lt;a href="http://templates.redoffice.com/template/cateShow.php?class=mb&amp;categoryid=117&amp;sid=5809"&gt;finacial&lt;/a&gt; report. Nice template for presentations on finance, global finance, investment, commercial, etc.&lt;a href="http://templates.redoffice.com/template/cateShow.php?class=mb&amp;categoryid=117&amp;sid=5809"&gt;more about Finance Impress Templates&lt;/a&gt;.</dc:description>
  <cp:keywords>presentation background Presentation RedOfficeTemplates Purple Earth Report Finance Redoffice Templates Redoffice.com</cp:keywords>
  <dc:language>en-US</dc:language>
  <cp:lastModifiedBy>微软用户</cp:lastModifiedBy>
  <dcterms:modified xsi:type="dcterms:W3CDTF">2010-09-27T12:17:46Z</dcterms:modified>
  <cp:revision>3</cp:revision>
  <dc:subject>&lt;a href="http://templates.redoffice.com/template/cateShow.php?class=mb&amp;categoryid=117&amp;sid=5809"&gt;Finance&lt;/a&gt;</dc:subject>
  <dc:title>Glob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License">
    <vt:lpwstr>&lt;a href="http://templates.services.openoffice.org/bsd-license"&gt;BSD&lt;/a&gt;</vt:lpwstr>
  </property>
</Properties>
</file>