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399-58F0-460F-A3A6-C70FA350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A00-68FD-4A61-87BE-04DC28C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FE7-7F22-4FC2-9188-C4534D5E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98C-EAEA-40FE-8631-575031C7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D4D-8334-4AF3-A33B-A103C5F2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3B4-1D14-41B1-AEA6-BFEEB1D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332-D761-43EA-B988-E65D33E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BA7-1C0F-45FB-B6C6-29F37B8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CFC-B791-43AB-893A-FE61FD2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590C-91AF-4917-8EA3-4E7F4725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5DB-ECDE-434B-B1D7-A48D2AA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30D-A078-49FA-8957-62A4A07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EAF-492A-4B8C-A8C9-5B050C1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FCBB-3F8D-46FA-9446-BF3876B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1DB-2093-40A3-95F9-6D6A3E2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ECFA-88CF-4D62-A712-CAC507FB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2B8-2FC5-4CFF-BDEA-81EDEC12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633D-3B1D-4F8C-9330-E6206A76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999F-4ECC-45CE-971E-655752F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9AAD-5ED6-45A3-A8C1-ED51D0E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FBC8-E4AF-44C3-A442-862A51BA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325D-70EF-4A4F-B3FD-967ACCA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1D0-C356-452B-9A85-B7B32A8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F7D6-DFCD-46AA-BB30-53D89BF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F84C-F07E-4F66-88DE-0D09B36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98AC-D1FF-4623-A2B0-31405306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255B-648C-4878-9E3E-625EE1EC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0DA0-B485-4711-990C-4D0FE130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A67A-F744-42CF-88AB-7B2A6F09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9CF3-F147-48A7-B05E-1D73757F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258-40C6-4E5D-99FF-5F3D883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545-13EC-438D-9085-1AB58434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AC2-34BF-4B7B-B398-C65B39C7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70C-88AE-4726-AEB6-F71312C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363-3CA8-4949-B67B-90C1FD1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035-32F7-4425-9EA2-318F6F84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33200"/>
            <a:ext cx="896616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0C6-6418-42A8-B9F3-01753C8DEE84}" type="slidenum"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15840" y="4324320"/>
            <a:ext cx="6873840" cy="126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4333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CE1-4D28-4D4D-B8AD-2059AC672283}" type="slidenum"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-윤고딕140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-윤고딕120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lvl="3" marL="1371600" algn="ctr">
              <a:spcBef>
                <a:spcPts val="374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1500" spc="-1" strike="noStrike">
              <a:solidFill>
                <a:srgbClr val="ffffff"/>
              </a:solidFill>
              <a:latin typeface="-윤고딕120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9064-36F0-4D8E-AEFA-F24364BC3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65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-윤고딕140"/>
                <a:ea typeface="华文隶书"/>
              </a:rPr>
              <a:t>Click to add title</a:t>
            </a:r>
            <a:endParaRPr b="0" lang="en-US" sz="4400" spc="-1" strike="noStrike">
              <a:solidFill>
                <a:srgbClr val="ffff99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5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66"/>
                </a:solidFill>
                <a:latin typeface="Gulim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鞝曥湦欤</dc:creator>
  <dc:description/>
  <dc:language>en-US</dc:language>
  <cp:lastModifiedBy> </cp:lastModifiedBy>
  <cp:lastPrinted>1899-12-30T00:00:00Z</cp:lastPrinted>
  <dcterms:modified xsi:type="dcterms:W3CDTF">2010-09-23T09:16:21Z</dcterms:modified>
  <cp:revision>138</cp:revision>
  <dc:subject/>
  <dc:title>PowerPoint 頂勲爤鞝犿厡鞚挫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