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5EA2-78DD-422C-9C5F-7CABABE05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29DA-EFDB-4051-91C8-119C883A3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A700-43E0-4B9A-8FB8-AC54B22C7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8A11-FAF5-4753-8F46-97374F3BD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37CE5-01FD-4D0D-94C6-5854602B4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1E632-C9E4-4ED5-90FA-836C98986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3C9C3-03FE-462D-8067-4A9BF987D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20565-BD2F-4FD9-AD5D-B3ED497E1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6B192-75E8-4A1D-8F18-0CF47FA31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1AD7B-7A79-4ADC-9952-92A1CE6BC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C47C5-BD14-4DF4-8B2B-4C4B6C5A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9D8F-864A-4D9E-AB93-91B14932D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39316-5FF2-4DEB-A0D6-1B1ABD65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5608E-2078-4AEF-9D20-EDBAFD3E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201E1-22D7-4B8C-A551-6140B2B9D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329FC-54FA-4F9E-B6E6-841BCB5BB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C4D47-30EB-45B2-9BC5-5A65358A2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FDA53-AD80-4AFE-B13B-5F9215580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BA318-08EF-4763-9516-07AC80E30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EFD7A-F70C-4722-B16A-4079C6FD4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B23C6-C21C-47B6-9626-3B5A6FDC3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6381E-16BB-47F0-B600-67BC85E6D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C713-BF60-4A08-B4E1-303D2A938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7A32B-5CC9-45C1-B1E2-096AAAAB3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5C754-1A84-467C-B51E-B6DE1533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F103E-DC28-434D-861C-96EF8E6F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F6825-0BC0-407D-B186-ED81D096D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CEB81-2DED-433B-9BB2-E74FFE000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5244D-948F-449E-8B81-F0C6E2C4A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D0A03-4D8D-42C5-BBE6-163E6EF04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E79B-A7BE-486F-9F77-86E8A7354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B39F-14AB-4B40-A7CB-01062FC47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FA15-660C-476B-8135-CF609EE08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5829-F49D-4134-A2FD-55446544C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DA7F-DCF2-42EE-9880-624E3C7D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2111-DAD7-4E62-BEF6-B2961DA86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360" y="182160"/>
            <a:ext cx="87501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8aabc4"/>
                </a:solidFill>
                <a:latin typeface="华文楷体"/>
              </a:rPr>
              <a:t>Click to edit the title text format</a:t>
            </a:r>
            <a:endParaRPr b="1" i="1" lang="en-US" sz="4400" spc="-1" strike="noStrike">
              <a:solidFill>
                <a:srgbClr val="8aabc4"/>
              </a:solidFill>
              <a:latin typeface="华文楷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523520"/>
            <a:ext cx="87501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1919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19191"/>
                </a:solidFill>
                <a:latin typeface="方正姚体"/>
              </a:rPr>
              <a:t>Click to edit the outline text format</a:t>
            </a: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  <a:p>
            <a:pPr lvl="1" marL="743040" indent="-285840">
              <a:spcBef>
                <a:spcPts val="799"/>
              </a:spcBef>
              <a:buClr>
                <a:srgbClr val="91919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19191"/>
                </a:solidFill>
                <a:latin typeface="方正姚体"/>
              </a:rPr>
              <a:t>Second Outline Level</a:t>
            </a: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  <a:p>
            <a:pPr lvl="2" marL="1143000" indent="-228600">
              <a:spcBef>
                <a:spcPts val="799"/>
              </a:spcBef>
              <a:buClr>
                <a:srgbClr val="919191"/>
              </a:buClr>
              <a:buFont typeface="方正姚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19191"/>
                </a:solidFill>
                <a:latin typeface="方正姚体"/>
              </a:rPr>
              <a:t>Third Outline Level</a:t>
            </a: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  <a:p>
            <a:pPr lvl="3" marL="1600200" indent="-228600">
              <a:spcBef>
                <a:spcPts val="799"/>
              </a:spcBef>
              <a:buClr>
                <a:srgbClr val="919191"/>
              </a:buClr>
              <a:buFont typeface="方正姚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19191"/>
                </a:solidFill>
                <a:latin typeface="方正姚体"/>
              </a:rPr>
              <a:t>Fourth Outline Level</a:t>
            </a: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  <a:p>
            <a:pPr lvl="4" marL="2057400" indent="-228600">
              <a:spcBef>
                <a:spcPts val="799"/>
              </a:spcBef>
              <a:buClr>
                <a:srgbClr val="919191"/>
              </a:buClr>
              <a:buFont typeface="方正姚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19191"/>
                </a:solidFill>
                <a:latin typeface="方正姚体"/>
              </a:rPr>
              <a:t>Fifth Outline Level</a:t>
            </a: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  <a:p>
            <a:pPr lvl="5" marL="2057400" indent="-228600">
              <a:spcBef>
                <a:spcPts val="799"/>
              </a:spcBef>
              <a:buClr>
                <a:srgbClr val="919191"/>
              </a:buClr>
              <a:buFont typeface="方正姚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19191"/>
                </a:solidFill>
                <a:latin typeface="方正姚体"/>
              </a:rPr>
              <a:t>Sixth Outline Level</a:t>
            </a: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  <a:p>
            <a:pPr lvl="6" marL="2057400" indent="-228600">
              <a:spcBef>
                <a:spcPts val="799"/>
              </a:spcBef>
              <a:buClr>
                <a:srgbClr val="919191"/>
              </a:buClr>
              <a:buFont typeface="方正姚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19191"/>
                </a:solidFill>
                <a:latin typeface="方正姚体"/>
              </a:rPr>
              <a:t>Seventh Outline Level</a:t>
            </a: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8520"/>
            <a:ext cx="140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63880" y="6248520"/>
            <a:ext cx="5613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42240" y="6248520"/>
            <a:ext cx="140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CE817-3B2D-41F2-9D3F-A2764AC62B95}" type="slidenum">
              <a:rPr b="1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360" y="182160"/>
            <a:ext cx="87501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8aabc4"/>
                </a:solidFill>
                <a:latin typeface="华文楷体"/>
              </a:rPr>
              <a:t>Click to edit the title text format</a:t>
            </a:r>
            <a:endParaRPr b="1" i="1" lang="en-US" sz="4400" spc="-1" strike="noStrike">
              <a:solidFill>
                <a:srgbClr val="8aabc4"/>
              </a:solidFill>
              <a:latin typeface="华文楷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5360" y="1523520"/>
            <a:ext cx="87501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1919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19191"/>
                </a:solidFill>
                <a:latin typeface="方正姚体"/>
              </a:rPr>
              <a:t>Click to edit the outline text format</a:t>
            </a: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  <a:p>
            <a:pPr lvl="1" marL="743040" indent="-285840">
              <a:spcBef>
                <a:spcPts val="799"/>
              </a:spcBef>
              <a:buClr>
                <a:srgbClr val="91919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19191"/>
                </a:solidFill>
                <a:latin typeface="方正姚体"/>
              </a:rPr>
              <a:t>Second Outline Level</a:t>
            </a: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  <a:p>
            <a:pPr lvl="2" marL="1143000" indent="-228600">
              <a:spcBef>
                <a:spcPts val="799"/>
              </a:spcBef>
              <a:buClr>
                <a:srgbClr val="919191"/>
              </a:buClr>
              <a:buFont typeface="方正姚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19191"/>
                </a:solidFill>
                <a:latin typeface="方正姚体"/>
              </a:rPr>
              <a:t>Third Outline Level</a:t>
            </a: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  <a:p>
            <a:pPr lvl="3" marL="1600200" indent="-228600">
              <a:spcBef>
                <a:spcPts val="799"/>
              </a:spcBef>
              <a:buClr>
                <a:srgbClr val="919191"/>
              </a:buClr>
              <a:buFont typeface="方正姚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19191"/>
                </a:solidFill>
                <a:latin typeface="方正姚体"/>
              </a:rPr>
              <a:t>Fourth Outline Level</a:t>
            </a: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  <a:p>
            <a:pPr lvl="4" marL="2057400" indent="-228600">
              <a:spcBef>
                <a:spcPts val="799"/>
              </a:spcBef>
              <a:buClr>
                <a:srgbClr val="919191"/>
              </a:buClr>
              <a:buFont typeface="方正姚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19191"/>
                </a:solidFill>
                <a:latin typeface="方正姚体"/>
              </a:rPr>
              <a:t>Fifth Outline Level</a:t>
            </a: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  <a:p>
            <a:pPr lvl="5" marL="2057400" indent="-228600">
              <a:spcBef>
                <a:spcPts val="799"/>
              </a:spcBef>
              <a:buClr>
                <a:srgbClr val="919191"/>
              </a:buClr>
              <a:buFont typeface="方正姚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19191"/>
                </a:solidFill>
                <a:latin typeface="方正姚体"/>
              </a:rPr>
              <a:t>Sixth Outline Level</a:t>
            </a: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  <a:p>
            <a:pPr lvl="6" marL="2057400" indent="-228600">
              <a:spcBef>
                <a:spcPts val="799"/>
              </a:spcBef>
              <a:buClr>
                <a:srgbClr val="919191"/>
              </a:buClr>
              <a:buFont typeface="方正姚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19191"/>
                </a:solidFill>
                <a:latin typeface="方正姚体"/>
              </a:rPr>
              <a:t>Seventh Outline Level</a:t>
            </a: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47320" y="6477120"/>
            <a:ext cx="2063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558520" y="6477120"/>
            <a:ext cx="47055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594200" y="6477120"/>
            <a:ext cx="2063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0F7D2-7B6F-46BB-BBD6-333072A91718}" type="slidenum">
              <a:rPr b="1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4AB50-A5EA-461C-8E1C-3D4F2CE3E0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47320" y="243000"/>
            <a:ext cx="932796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8aabc4"/>
              </a:solidFill>
              <a:latin typeface="华文楷体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638680" y="2285640"/>
            <a:ext cx="4019760" cy="15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95360" y="182160"/>
            <a:ext cx="87501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8aabc4"/>
              </a:solidFill>
              <a:latin typeface="华文楷体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95360" y="1523520"/>
            <a:ext cx="87501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1919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4078440"/>
            <a:ext cx="9906120" cy="2781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30200" y="1413000"/>
            <a:ext cx="6242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5f5f5f"/>
                </a:solidFill>
                <a:latin typeface="Arial"/>
                <a:ea typeface="微软雅黑"/>
              </a:rPr>
              <a:t>Thank You</a:t>
            </a:r>
            <a:endParaRPr b="0" lang="en-US" sz="60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351000" y="4437000"/>
            <a:ext cx="566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Kingsoft Office</a:t>
            </a: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-73440" y="5302080"/>
            <a:ext cx="39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stral"/>
              </a:rPr>
              <a:t>Make Presentation much more fun</a:t>
            </a:r>
            <a:endParaRPr b="0" lang="en-US" sz="1800" spc="-1" strike="noStrike">
              <a:solidFill>
                <a:srgbClr val="91919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7T03:39:00Z</dcterms:created>
  <dc:creator/>
  <dc:description/>
  <dc:language>en-US</dc:language>
  <cp:lastModifiedBy>秋叶</cp:lastModifiedBy>
  <cp:lastPrinted>1899-12-30T00:00:00Z</cp:lastPrinted>
  <dcterms:modified xsi:type="dcterms:W3CDTF">2010-04-19T02:11:54Z</dcterms:modified>
  <cp:revision>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  <property fmtid="{D5CDD505-2E9C-101B-9397-08002B2CF9AE}" pid="3" name="_TemplateID">
    <vt:lpwstr>TC010721562052</vt:lpwstr>
  </property>
</Properties>
</file>