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5295-C145-460A-AC17-F6DACE20C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22E0-E700-42E0-BA55-155D6DE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6EF0-C020-4877-B2A5-C7B22A4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A54A-DF8D-49C4-8A2A-21B0A0458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7D7D-92DA-45EB-854C-FFBE6186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4867F-D1D5-439C-A779-59D58F6B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09540-C41D-4214-B0F8-729B553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259AE-55AA-48EC-A758-AFDD201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9C30-9904-4FCE-8CB6-56BEBE11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BBCB-F255-4F1F-8F59-96995AFC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F2A0D-2C4B-409E-80BE-0885961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E7A9-B59A-4329-926A-F413659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07676-648A-4C0F-A4E0-C0A1F3AC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84CA7-5EDE-4729-8A86-B9ABC25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C77D-95CC-4F1E-A2CF-DAC2BD33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9BC5E-4F2E-472E-99D5-5AFEE6EA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EC569-06AC-462D-B331-4B0B3672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7B36D-6D01-4A88-ADFF-984AA10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0C749-818A-459F-9D1F-D597AA07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9B809-C445-45DE-9B51-695BB29E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A41B6-6696-4F81-A645-52405A9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15EA2-F27D-4C30-BE3F-ABF2E6A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77ED-CBDB-4D2F-884D-E4D5B7FF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A5DF3-A37B-4ADF-A1BA-0B261FF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905C7-825D-4056-80A8-BAAD563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715F2-B33A-4103-8ACB-F283D448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854D3-C135-4763-8D8E-A8659C6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7620E-F4E2-4336-8B39-31AF1F51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1AB22-C505-42D5-A33E-AF985960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1376E-40C0-4ED7-8DBF-A2F0AF31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90DE-F4E7-4074-830A-B16F262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1C45-7A15-4515-B9FF-91AFF0EE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657E-A70E-4774-A334-C3277857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4A91-6448-4081-8D8A-2EF0F97B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2B95-8651-4999-B153-CB76B9D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FCE2-6297-4D33-A5C8-5251B4C8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352680" y="2341440"/>
          <a:ext cx="5791320" cy="45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341440"/>
                    <a:ext cx="579132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0" y="0"/>
            <a:ext cx="9150480" cy="1294920"/>
            <a:chOff x="0" y="0"/>
            <a:chExt cx="9150480" cy="12949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9144000" cy="1018080"/>
            </a:xfrm>
            <a:prstGeom prst="rect">
              <a:avLst/>
            </a:prstGeom>
            <a:gradFill rotWithShape="0">
              <a:gsLst>
                <a:gs pos="0">
                  <a:srgbClr val="375671"/>
                </a:gs>
                <a:gs pos="100000">
                  <a:srgbClr val="466c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1933560" y="239400"/>
              <a:ext cx="7216920" cy="772920"/>
            </a:xfrm>
            <a:custGeom>
              <a:avLst/>
              <a:gdLst/>
              <a:ahLst/>
              <a:rect l="l" t="t" r="r" b="b"/>
              <a:pathLst>
                <a:path w="4546" h="552">
                  <a:moveTo>
                    <a:pt x="0" y="552"/>
                  </a:moveTo>
                  <a:lnTo>
                    <a:pt x="4546" y="552"/>
                  </a:lnTo>
                  <a:lnTo>
                    <a:pt x="4546" y="0"/>
                  </a:lnTo>
                  <a:lnTo>
                    <a:pt x="478" y="0"/>
                  </a:lnTo>
                  <a:lnTo>
                    <a:pt x="0" y="552"/>
                  </a:lnTo>
                  <a:close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0" y="1010880"/>
              <a:ext cx="1930320" cy="284040"/>
            </a:xfrm>
            <a:custGeom>
              <a:avLst/>
              <a:gdLst/>
              <a:ahLst/>
              <a:rect l="l" t="t" r="r" b="b"/>
              <a:pathLst>
                <a:path w="1216" h="203">
                  <a:moveTo>
                    <a:pt x="0" y="0"/>
                  </a:moveTo>
                  <a:lnTo>
                    <a:pt x="1216" y="0"/>
                  </a:lnTo>
                  <a:lnTo>
                    <a:pt x="1029" y="203"/>
                  </a:lnTo>
                  <a:lnTo>
                    <a:pt x="0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a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343400" y="647676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4B3D-2160-46F3-A7AD-0C23B6393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380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0" t="19355" r="6253" b="24050"/>
          <a:stretch/>
        </p:blipFill>
        <p:spPr>
          <a:xfrm>
            <a:off x="-606600" y="1523880"/>
            <a:ext cx="975060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2506680"/>
          </a:xfrm>
          <a:prstGeom prst="rect">
            <a:avLst/>
          </a:prstGeom>
          <a:gradFill rotWithShape="0">
            <a:gsLst>
              <a:gs pos="0">
                <a:srgbClr val="203141"/>
              </a:gs>
              <a:gs pos="50000">
                <a:srgbClr val="466c8e"/>
              </a:gs>
              <a:gs pos="100000">
                <a:srgbClr val="20314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未知"/>
          <p:cNvSpPr/>
          <p:nvPr/>
        </p:nvSpPr>
        <p:spPr>
          <a:xfrm>
            <a:off x="2133720" y="1467000"/>
            <a:ext cx="7011720" cy="1042920"/>
          </a:xfrm>
          <a:custGeom>
            <a:avLst/>
            <a:gdLst/>
            <a:ahLst/>
            <a:rect l="l" t="t" r="r" b="b"/>
            <a:pathLst>
              <a:path w="4037" h="680">
                <a:moveTo>
                  <a:pt x="0" y="680"/>
                </a:moveTo>
                <a:lnTo>
                  <a:pt x="4037" y="680"/>
                </a:lnTo>
                <a:lnTo>
                  <a:pt x="4037" y="0"/>
                </a:lnTo>
                <a:lnTo>
                  <a:pt x="544" y="0"/>
                </a:lnTo>
                <a:lnTo>
                  <a:pt x="0" y="68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未知"/>
          <p:cNvSpPr/>
          <p:nvPr/>
        </p:nvSpPr>
        <p:spPr>
          <a:xfrm>
            <a:off x="-3240" y="2498760"/>
            <a:ext cx="2136960" cy="453960"/>
          </a:xfrm>
          <a:custGeom>
            <a:avLst/>
            <a:gdLst/>
            <a:ahLst/>
            <a:rect l="l" t="t" r="r" b="b"/>
            <a:pathLst>
              <a:path w="1613" h="335">
                <a:moveTo>
                  <a:pt x="0" y="0"/>
                </a:moveTo>
                <a:lnTo>
                  <a:pt x="1613" y="0"/>
                </a:lnTo>
                <a:lnTo>
                  <a:pt x="1278" y="335"/>
                </a:lnTo>
                <a:lnTo>
                  <a:pt x="0" y="335"/>
                </a:lnTo>
                <a:lnTo>
                  <a:pt x="0" y="0"/>
                </a:lnTo>
                <a:close/>
              </a:path>
            </a:pathLst>
          </a:custGeom>
          <a:solidFill>
            <a:srgbClr val="9ea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1371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685440" y="63054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228600" y="6302160"/>
            <a:ext cx="4572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3F5-822D-40C9-8728-DAEF15AD4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181480" y="6248520"/>
            <a:ext cx="37339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D6BE-F084-46E7-97D2-C1B715EEC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133360" y="1371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3809880"/>
            <a:ext cx="5867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c0c0c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100000">
                    <a:srgbClr val="c0c0c0"/>
                  </a:gs>
                </a:gsLst>
                <a:lin ang="108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6476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1f3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324000" y="4437000"/>
            <a:ext cx="501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52480" y="2057400"/>
            <a:ext cx="762120" cy="665280"/>
            <a:chOff x="1752480" y="2057400"/>
            <a:chExt cx="762120" cy="665280"/>
          </a:xfrm>
        </p:grpSpPr>
        <p:sp>
          <p:nvSpPr>
            <p:cNvPr id="137" name=""/>
            <p:cNvSpPr/>
            <p:nvPr/>
          </p:nvSpPr>
          <p:spPr>
            <a:xfrm>
              <a:off x="175860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2480" y="20574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6760" y="20966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66c8e"/>
                </a:gs>
                <a:gs pos="100000">
                  <a:srgbClr val="203141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362320" y="266688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5920" y="2133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5156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52480" y="2971800"/>
            <a:ext cx="762120" cy="665280"/>
            <a:chOff x="1752480" y="2971800"/>
            <a:chExt cx="762120" cy="665280"/>
          </a:xfrm>
        </p:grpSpPr>
        <p:sp>
          <p:nvSpPr>
            <p:cNvPr id="144" name=""/>
            <p:cNvSpPr/>
            <p:nvPr/>
          </p:nvSpPr>
          <p:spPr>
            <a:xfrm>
              <a:off x="1758600" y="29829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971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6760" y="30110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362320" y="358128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5920" y="304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5156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52480" y="3863880"/>
            <a:ext cx="762120" cy="665280"/>
            <a:chOff x="1752480" y="3863880"/>
            <a:chExt cx="762120" cy="665280"/>
          </a:xfrm>
        </p:grpSpPr>
        <p:sp>
          <p:nvSpPr>
            <p:cNvPr id="151" name=""/>
            <p:cNvSpPr/>
            <p:nvPr/>
          </p:nvSpPr>
          <p:spPr>
            <a:xfrm>
              <a:off x="175860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2480" y="3863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6760" y="39031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66c8e"/>
                </a:gs>
                <a:gs pos="100000">
                  <a:srgbClr val="203141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62320" y="447372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5920" y="3940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5156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52480" y="4778280"/>
            <a:ext cx="762120" cy="665280"/>
            <a:chOff x="1752480" y="4778280"/>
            <a:chExt cx="762120" cy="665280"/>
          </a:xfrm>
        </p:grpSpPr>
        <p:sp>
          <p:nvSpPr>
            <p:cNvPr id="158" name=""/>
            <p:cNvSpPr/>
            <p:nvPr/>
          </p:nvSpPr>
          <p:spPr>
            <a:xfrm>
              <a:off x="1758600" y="478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4778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6760" y="48175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35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62320" y="5388120"/>
            <a:ext cx="480060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5920" y="485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156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3040" y="1527120"/>
            <a:ext cx="73328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hange images to the one you like, then it will apply to all the other slides. </a:t>
            </a:r>
            <a:br>
              <a:rPr sz="2400"/>
            </a:b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029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Image :CD_ </a:t>
            </a:r>
            <a:r>
              <a:rPr b="0" lang="en-US" sz="1000" spc="-1" strike="noStrike">
                <a:solidFill>
                  <a:srgbClr val="333300"/>
                </a:solidFill>
                <a:latin typeface="Verdana"/>
              </a:rPr>
              <a:t>Banking and Finance (PhotoDisc)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182680" y="4410000"/>
            <a:ext cx="5486400" cy="1228680"/>
            <a:chOff x="2182680" y="4410000"/>
            <a:chExt cx="5486400" cy="1228680"/>
          </a:xfrm>
        </p:grpSpPr>
        <p:sp>
          <p:nvSpPr>
            <p:cNvPr id="169" name=""/>
            <p:cNvSpPr/>
            <p:nvPr/>
          </p:nvSpPr>
          <p:spPr>
            <a:xfrm>
              <a:off x="2182680" y="4410000"/>
              <a:ext cx="548640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3280" y="4522680"/>
              <a:ext cx="1057320" cy="1004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38160">
              <a:solidFill>
                <a:srgbClr val="fe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368440" y="4586040"/>
              <a:ext cx="528480" cy="503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c0c0c0">
                    <a:alpha val="0"/>
                  </a:srgbClr>
                </a:gs>
                <a:gs pos="100000">
                  <a:srgbClr val="dbdb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82680" y="3035160"/>
            <a:ext cx="5486400" cy="1228680"/>
            <a:chOff x="2182680" y="3035160"/>
            <a:chExt cx="5486400" cy="1228680"/>
          </a:xfrm>
        </p:grpSpPr>
        <p:sp>
          <p:nvSpPr>
            <p:cNvPr id="173" name=""/>
            <p:cNvSpPr/>
            <p:nvPr/>
          </p:nvSpPr>
          <p:spPr>
            <a:xfrm>
              <a:off x="2182680" y="3035160"/>
              <a:ext cx="548640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03280" y="3147840"/>
              <a:ext cx="1057320" cy="1004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ac18"/>
                </a:gs>
                <a:gs pos="100000">
                  <a:srgbClr val="6d7710"/>
                </a:gs>
              </a:gsLst>
              <a:lin ang="5400000"/>
            </a:gradFill>
            <a:ln w="38160">
              <a:solidFill>
                <a:srgbClr val="fe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2368440" y="3219480"/>
              <a:ext cx="528480" cy="5029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080"/>
                </a:gs>
                <a:gs pos="50000">
                  <a:srgbClr val="9eac18">
                    <a:alpha val="0"/>
                  </a:srgbClr>
                </a:gs>
                <a:gs pos="100000">
                  <a:srgbClr val="c9d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82680" y="1676520"/>
            <a:ext cx="5486400" cy="1228680"/>
            <a:chOff x="2182680" y="1676520"/>
            <a:chExt cx="5486400" cy="1228680"/>
          </a:xfrm>
        </p:grpSpPr>
        <p:sp>
          <p:nvSpPr>
            <p:cNvPr id="178" name=""/>
            <p:cNvSpPr/>
            <p:nvPr/>
          </p:nvSpPr>
          <p:spPr>
            <a:xfrm>
              <a:off x="2182680" y="1676520"/>
              <a:ext cx="548640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3280" y="1791000"/>
              <a:ext cx="1057320" cy="1004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b16a23"/>
                </a:gs>
              </a:gsLst>
              <a:lin ang="5400000"/>
            </a:gradFill>
            <a:ln w="38160">
              <a:solidFill>
                <a:srgbClr val="fe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2368440" y="1854360"/>
              <a:ext cx="528480" cy="503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ec68f"/>
                </a:gs>
                <a:gs pos="50000">
                  <a:srgbClr val="ff9933">
                    <a:alpha val="0"/>
                  </a:srgbClr>
                </a:gs>
                <a:gs pos="100000">
                  <a:srgbClr val="fec6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394360" y="20638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18669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4360" y="3424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201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94360" y="4797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45766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66240" y="1234080"/>
            <a:ext cx="6879600" cy="4804560"/>
            <a:chOff x="966240" y="1234080"/>
            <a:chExt cx="6879600" cy="4804560"/>
          </a:xfrm>
        </p:grpSpPr>
        <p:sp>
          <p:nvSpPr>
            <p:cNvPr id="189" name=""/>
            <p:cNvSpPr/>
            <p:nvPr/>
          </p:nvSpPr>
          <p:spPr>
            <a:xfrm>
              <a:off x="2163960" y="4449960"/>
              <a:ext cx="5562360" cy="1325520"/>
            </a:xfrm>
            <a:prstGeom prst="ellipse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601600">
              <a:off x="1308240" y="22604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601600">
              <a:off x="1365120" y="20984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9797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601600">
              <a:off x="1279440" y="20844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9ea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20602200">
              <a:off x="1257480" y="21153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601600">
              <a:off x="1289160" y="20955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20602200">
              <a:off x="1271520" y="21031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6382a1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601600">
              <a:off x="2826000" y="28130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41280" y="3035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400" y="212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22560" y="2578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6148440" y="31114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466c8e"/>
                </a:gs>
                <a:gs pos="100000">
                  <a:srgbClr val="aabb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539200">
              <a:off x="1283760" y="21139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466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4448160" y="35928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466c8e"/>
                </a:gs>
                <a:gs pos="100000">
                  <a:srgbClr val="aabbc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22560" y="3568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70080" y="43308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64960" y="4178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601600">
              <a:off x="2927520" y="30657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624560" y="39880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33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210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ac45d"/>
                </a:gs>
                <a:gs pos="100000">
                  <a:srgbClr val="9eac18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d97af"/>
                </a:gs>
                <a:gs pos="100000">
                  <a:srgbClr val="466c8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770"/>
                </a:gs>
                <a:gs pos="100000">
                  <a:srgbClr val="ff993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b770"/>
                </a:gs>
                <a:gs pos="100000">
                  <a:srgbClr val="ff993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97af"/>
                </a:gs>
                <a:gs pos="100000">
                  <a:srgbClr val="466c8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ac45d"/>
                </a:gs>
                <a:gs pos="100000">
                  <a:srgbClr val="9eac1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62120" y="1523880"/>
            <a:ext cx="7383960" cy="4421160"/>
            <a:chOff x="762120" y="1523880"/>
            <a:chExt cx="7383960" cy="4421160"/>
          </a:xfrm>
        </p:grpSpPr>
        <p:grpSp>
          <p:nvGrpSpPr>
            <p:cNvPr id="218" name=""/>
            <p:cNvGrpSpPr/>
            <p:nvPr/>
          </p:nvGrpSpPr>
          <p:grpSpPr>
            <a:xfrm>
              <a:off x="2286000" y="1523880"/>
              <a:ext cx="4419360" cy="4376520"/>
              <a:chOff x="2286000" y="1523880"/>
              <a:chExt cx="4419360" cy="4376520"/>
            </a:xfrm>
          </p:grpSpPr>
          <p:sp>
            <p:nvSpPr>
              <p:cNvPr id="219" name="Puzzle3"/>
              <p:cNvSpPr/>
              <p:nvPr/>
            </p:nvSpPr>
            <p:spPr>
              <a:xfrm>
                <a:off x="4437720" y="152388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a16020"/>
                  </a:gs>
                  <a:gs pos="100000">
                    <a:srgbClr val="ff9933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20" name="Puzzle2"/>
              <p:cNvSpPr/>
              <p:nvPr/>
            </p:nvSpPr>
            <p:spPr>
              <a:xfrm>
                <a:off x="3933000" y="321840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d2d895"/>
                  </a:gs>
                  <a:gs pos="100000">
                    <a:srgbClr val="9eac18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21" name="Puzzle4"/>
              <p:cNvSpPr/>
              <p:nvPr/>
            </p:nvSpPr>
            <p:spPr>
              <a:xfrm>
                <a:off x="2859840" y="319212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fb2c4"/>
                  </a:gs>
                  <a:gs pos="100000">
                    <a:srgbClr val="466c8e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22" name="Puzzle1"/>
              <p:cNvSpPr/>
              <p:nvPr/>
            </p:nvSpPr>
            <p:spPr>
              <a:xfrm>
                <a:off x="2286000" y="222732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401880" y="390024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2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14600" y="160020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11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5800" y="1752480"/>
            <a:ext cx="8001000" cy="4084560"/>
            <a:chOff x="685800" y="1752480"/>
            <a:chExt cx="8001000" cy="4084560"/>
          </a:xfrm>
        </p:grpSpPr>
        <p:grpSp>
          <p:nvGrpSpPr>
            <p:cNvPr id="229" name=""/>
            <p:cNvGrpSpPr/>
            <p:nvPr/>
          </p:nvGrpSpPr>
          <p:grpSpPr>
            <a:xfrm>
              <a:off x="4143240" y="2143080"/>
              <a:ext cx="771840" cy="687240"/>
              <a:chOff x="4143240" y="2143080"/>
              <a:chExt cx="771840" cy="687240"/>
            </a:xfrm>
          </p:grpSpPr>
          <p:sp>
            <p:nvSpPr>
              <p:cNvPr id="230" name=""/>
              <p:cNvSpPr/>
              <p:nvPr/>
            </p:nvSpPr>
            <p:spPr>
              <a:xfrm>
                <a:off x="414324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324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324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549680" y="1758960"/>
              <a:ext cx="2385720" cy="2094840"/>
              <a:chOff x="4549680" y="1758960"/>
              <a:chExt cx="2385720" cy="209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454968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5076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588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185920" y="1752480"/>
              <a:ext cx="2385720" cy="2082600"/>
              <a:chOff x="2185920" y="1752480"/>
              <a:chExt cx="2385720" cy="2082600"/>
            </a:xfrm>
          </p:grpSpPr>
          <p:sp>
            <p:nvSpPr>
              <p:cNvPr id="238" name=""/>
              <p:cNvSpPr/>
              <p:nvPr/>
            </p:nvSpPr>
            <p:spPr>
              <a:xfrm>
                <a:off x="218592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8700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0212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82204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43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564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198108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6764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6400" y="198108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34640" y="1990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767560" y="3452760"/>
              <a:ext cx="771480" cy="689040"/>
              <a:chOff x="5767560" y="3452760"/>
              <a:chExt cx="771480" cy="689040"/>
            </a:xfrm>
          </p:grpSpPr>
          <p:sp>
            <p:nvSpPr>
              <p:cNvPr id="249" name=""/>
              <p:cNvSpPr/>
              <p:nvPr/>
            </p:nvSpPr>
            <p:spPr>
              <a:xfrm>
                <a:off x="576756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6756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6756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49680" y="3747960"/>
              <a:ext cx="2385720" cy="2089080"/>
              <a:chOff x="4549680" y="3747960"/>
              <a:chExt cx="2385720" cy="2089080"/>
            </a:xfrm>
          </p:grpSpPr>
          <p:sp>
            <p:nvSpPr>
              <p:cNvPr id="253" name=""/>
              <p:cNvSpPr/>
              <p:nvPr/>
            </p:nvSpPr>
            <p:spPr>
              <a:xfrm>
                <a:off x="454968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5076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6588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36480" y="44956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73800" y="396216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28160" y="39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610000" y="3500280"/>
              <a:ext cx="771480" cy="687240"/>
              <a:chOff x="2610000" y="3500280"/>
              <a:chExt cx="771480" cy="687240"/>
            </a:xfrm>
          </p:grpSpPr>
          <p:sp>
            <p:nvSpPr>
              <p:cNvPr id="260" name=""/>
              <p:cNvSpPr/>
              <p:nvPr/>
            </p:nvSpPr>
            <p:spPr>
              <a:xfrm>
                <a:off x="261000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1000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1000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184480" y="3744720"/>
              <a:ext cx="2385720" cy="2080800"/>
              <a:chOff x="2184480" y="3744720"/>
              <a:chExt cx="2385720" cy="2080800"/>
            </a:xfrm>
          </p:grpSpPr>
          <p:sp>
            <p:nvSpPr>
              <p:cNvPr id="264" name=""/>
              <p:cNvSpPr/>
              <p:nvPr/>
            </p:nvSpPr>
            <p:spPr>
              <a:xfrm>
                <a:off x="218448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8556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0068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774520" y="44956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96216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70880" y="3976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143240" y="4852800"/>
              <a:ext cx="771840" cy="689040"/>
              <a:chOff x="4143240" y="4852800"/>
              <a:chExt cx="771840" cy="689040"/>
            </a:xfrm>
          </p:grpSpPr>
          <p:sp>
            <p:nvSpPr>
              <p:cNvPr id="271" name=""/>
              <p:cNvSpPr/>
              <p:nvPr/>
            </p:nvSpPr>
            <p:spPr>
              <a:xfrm>
                <a:off x="414324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324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4324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58800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5964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516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936360" y="380664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7c8c8">
                  <a:alpha val="98039"/>
                </a:srgbClr>
              </a:gs>
              <a:gs pos="50000">
                <a:srgbClr val="feffff"/>
              </a:gs>
              <a:gs pos="100000">
                <a:srgbClr val="c7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1023840" y="372888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eac1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89520" y="381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12680" y="440676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473280" y="380664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7c8c8">
                  <a:alpha val="98039"/>
                </a:srgbClr>
              </a:gs>
              <a:gs pos="50000">
                <a:srgbClr val="feffff"/>
              </a:gs>
              <a:gs pos="100000">
                <a:srgbClr val="c7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3565440" y="372744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6440" y="381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49600" y="4406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5927400" y="380700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7c8c8">
                  <a:alpha val="98039"/>
                </a:srgbClr>
              </a:gs>
              <a:gs pos="50000">
                <a:srgbClr val="feffff"/>
              </a:gs>
              <a:gs pos="100000">
                <a:srgbClr val="c7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未知"/>
          <p:cNvSpPr/>
          <p:nvPr/>
        </p:nvSpPr>
        <p:spPr>
          <a:xfrm>
            <a:off x="6013440" y="372744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466c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80560" y="38163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04080" y="4406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367080" y="1752480"/>
            <a:ext cx="2382840" cy="538200"/>
            <a:chOff x="3367080" y="1752480"/>
            <a:chExt cx="2382840" cy="538200"/>
          </a:xfrm>
        </p:grpSpPr>
        <p:sp>
          <p:nvSpPr>
            <p:cNvPr id="292" name=""/>
            <p:cNvSpPr/>
            <p:nvPr/>
          </p:nvSpPr>
          <p:spPr>
            <a:xfrm>
              <a:off x="3367080" y="1752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95520" y="178272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33">
                    <a:alpha val="90196"/>
                  </a:srgbClr>
                </a:gs>
                <a:gs pos="50000">
                  <a:srgbClr val="fedbb9"/>
                </a:gs>
                <a:gs pos="100000">
                  <a:srgbClr val="ff9933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837600" y="1822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43520" y="1752480"/>
            <a:ext cx="2384280" cy="538200"/>
            <a:chOff x="5843520" y="1752480"/>
            <a:chExt cx="2384280" cy="538200"/>
          </a:xfrm>
        </p:grpSpPr>
        <p:sp>
          <p:nvSpPr>
            <p:cNvPr id="296" name=""/>
            <p:cNvSpPr/>
            <p:nvPr/>
          </p:nvSpPr>
          <p:spPr>
            <a:xfrm>
              <a:off x="5843520" y="1752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73760" y="17827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6c8e">
                    <a:alpha val="90196"/>
                  </a:srgbClr>
                </a:gs>
                <a:gs pos="50000">
                  <a:srgbClr val="bfccd8"/>
                </a:gs>
                <a:gs pos="100000">
                  <a:srgbClr val="466c8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316560" y="1822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80920" y="1752480"/>
            <a:ext cx="2384280" cy="538200"/>
            <a:chOff x="880920" y="1752480"/>
            <a:chExt cx="2384280" cy="538200"/>
          </a:xfrm>
        </p:grpSpPr>
        <p:sp>
          <p:nvSpPr>
            <p:cNvPr id="300" name=""/>
            <p:cNvSpPr/>
            <p:nvPr/>
          </p:nvSpPr>
          <p:spPr>
            <a:xfrm>
              <a:off x="880920" y="1752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3d08"/>
                </a:gs>
                <a:gs pos="50000">
                  <a:srgbClr val="9eac18"/>
                </a:gs>
                <a:gs pos="100000">
                  <a:srgbClr val="383d08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1160" y="17827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eac18">
                    <a:alpha val="90196"/>
                  </a:srgbClr>
                </a:gs>
                <a:gs pos="50000">
                  <a:srgbClr val="dde2b0"/>
                </a:gs>
                <a:gs pos="100000">
                  <a:srgbClr val="9eac18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353960" y="1822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066680" y="232740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ac1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527280" y="232740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19920" y="232740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6c8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35:36Z</dcterms:created>
  <dc:creator>www.themegallery.com</dc:creator>
  <dc:description/>
  <dc:language>en-US</dc:language>
  <cp:lastModifiedBy>Test PC</cp:lastModifiedBy>
  <cp:lastPrinted>1899-12-30T00:00:00Z</cp:lastPrinted>
  <dcterms:modified xsi:type="dcterms:W3CDTF">2006-11-01T01:07:38Z</dcterms:modified>
  <cp:revision>16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