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612-B943-4CD9-86D2-50E78EAD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E1C-2050-4663-95C6-39BF5C8F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73B-561F-4A99-B70B-042A2E88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74E-EA86-4BFE-9AC8-7DB797AC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1DD8-1BE4-4796-A00D-0DEF68CD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1FE3-DD06-4F56-8F91-013CC11B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B0C6-9F28-48E4-B871-E40FC6ED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0D64-21A3-4503-A729-4F6946C8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82AA-3B4A-4D1C-A32D-5E83B4F6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9941-F116-42D2-B65A-C522AB26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6C60-6E2C-42C2-B41A-66FD979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77A-EC92-487E-A31C-F754FB2D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61A5-1BBD-450E-B83A-8AF756A3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840C-8879-4957-A6F7-45EA4972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6D1C-60F1-4EDD-9531-AC72D299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64E6-8694-42F6-A9EB-9A7605AC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688D-96DB-475B-8598-394069E5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1C6-BC43-493E-AAA1-5D26377E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BCE-F564-4A81-B038-3E4A62EB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494-6DF1-428F-8038-C5869C40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8E8-1B17-46F6-822E-41AB387D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21B-95DF-4FED-9DE0-A1038D6B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A91-3CAB-40CA-8795-5D21D946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196-9877-4624-AB3F-BB1D2C99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65800"/>
            <a:ext cx="190512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65800"/>
            <a:ext cx="289584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65800"/>
            <a:ext cx="190512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3C1A-B1C8-4281-848D-44C5A263BCC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CAF4-4E81-470E-91DA-7CFBFA13F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2e1c08"/>
              </a:gs>
              <a:gs pos="100000">
                <a:srgbClr val="000000">
                  <a:alpha val="9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24000" y="443700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-842760" y="530208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8:18:25Z</dcterms:created>
  <dc:creator/>
  <dc:description/>
  <dc:language>en-US</dc:language>
  <cp:lastModifiedBy>echo</cp:lastModifiedBy>
  <cp:lastPrinted>1899-12-30T00:00:00Z</cp:lastPrinted>
  <dcterms:modified xsi:type="dcterms:W3CDTF">2009-10-19T13:34:4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