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5C5-D725-4DFE-9C5F-86473638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0A4-D5FE-4FB5-BB40-16C8C6E6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453-3D23-41C0-A99F-597EC23A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277-61D2-41EE-A9F6-C56EBA4F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EBCD-7CFB-43D2-B982-B590744E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F188-2DDC-4691-9990-5DB60C41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A937-3A6F-44E2-8EB0-25C78225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14C0-D7A5-47EB-A2CA-33AE72B2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05EC-CB19-4563-9FA6-EF4282EB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B2FF-8E87-4659-AE86-2535F597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CD2F-DFD0-4656-909D-8CBDB211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8FF-1376-4583-BD53-71912666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9B6C-E51E-4A2D-8DF7-EB7DA433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7CE9-8D6A-4569-B19B-7175B08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098D-4D4A-4EA6-82D0-5DC8CFCD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4FD9-1DC0-4EF4-A2B7-EF78DACF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9EA2-2A8E-48FC-B249-ED1C234A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6E2-919A-42E7-8B46-197DF960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118-BAF8-46C5-8179-67692DAB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F8B-DF3D-4E1F-9E4A-F7CD2C3C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8589-E70D-4A36-8745-C561F6B2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D93-2175-455E-976B-1D68C940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690-6F56-43AF-987E-05C409D7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9CF-2AD9-43B8-9C08-4580DDC9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6B7A-6103-44C7-8B92-13AD36925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A92E-C1C3-4F55-975B-A58CBF861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920" y="2600280"/>
            <a:ext cx="557208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85800" y="3463560"/>
            <a:ext cx="3652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24000" y="4437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32:20Z</dcterms:created>
  <dc:creator>Admin</dc:creator>
  <dc:description/>
  <dc:language>en-US</dc:language>
  <cp:lastModifiedBy>Admin</cp:lastModifiedBy>
  <cp:lastPrinted>1899-12-30T00:00:00Z</cp:lastPrinted>
  <dcterms:modified xsi:type="dcterms:W3CDTF">2009-06-29T20:36:01Z</dcterms:modified>
  <cp:revision>1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