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FEB8-40A1-4557-B27A-CB4C6B86C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C632-2882-4E3F-BE14-C5BA95D1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FF74-AEB3-462F-A397-242169A1E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62ED-9474-42B5-9566-58666434F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A891-791D-4581-90C4-35138DBF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A843-9921-4357-A145-74C878DF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4478-8899-4581-B359-8B461073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9643-C16D-4681-9AD3-158C1387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6028-9A7A-4F4A-AA36-72019A18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0EBB-4BD7-4F85-9633-61CAE5CA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CE73-3174-4431-8D1C-9CEC9759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EDE3-A4E3-4D9A-9942-B5465AF3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99CC-B4C8-498C-B406-9CC94C5D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C8BC-9F66-49C5-89B2-E936F4E5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B520-8FFD-48C8-BEE4-99810DB8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907A-C6CD-45B6-942E-8F48D2F35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5694-D90A-4CC6-B6D9-B1A8A4796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966C-AA07-40D4-BA39-9F3DACF4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D01F-7611-4685-8EDD-A5E43F6E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C3F2-BF92-4DC2-9498-98A6176E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FCC7-082C-4186-8DB7-F1C299F2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5DAB-8D22-412B-A451-A40E18D0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DC8F-6DB2-40A6-8EDA-BAE9249D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5C52-95B0-4E2E-AA0C-857B9404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BE9D-FB72-410A-803B-6F4CADED61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DAF5-0D5A-45DD-9A17-EA4B84BE2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3772-28CB-4E1F-9BD0-7F714801FCF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B99F-0441-4CCA-AA67-2D234B702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ktangel 26"/>
          <p:cNvSpPr/>
          <p:nvPr/>
        </p:nvSpPr>
        <p:spPr>
          <a:xfrm flipV="1" rot="10800000">
            <a:off x="0" y="-1080"/>
            <a:ext cx="9144000" cy="516564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bfbfbf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80808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269120" y="2133720"/>
            <a:ext cx="824040" cy="3657600"/>
            <a:chOff x="7269120" y="2133720"/>
            <a:chExt cx="824040" cy="3657600"/>
          </a:xfrm>
        </p:grpSpPr>
        <p:sp>
          <p:nvSpPr>
            <p:cNvPr id="84" name="Freeform 7"/>
            <p:cNvSpPr/>
            <p:nvPr/>
          </p:nvSpPr>
          <p:spPr>
            <a:xfrm>
              <a:off x="7269120" y="2286000"/>
              <a:ext cx="824040" cy="3505320"/>
            </a:xfrm>
            <a:prstGeom prst="pie">
              <a:avLst/>
            </a:prstGeom>
            <a:gradFill rotWithShape="0">
              <a:gsLst>
                <a:gs pos="0">
                  <a:srgbClr val="165ec3"/>
                </a:gs>
                <a:gs pos="100000">
                  <a:srgbClr val="217df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7269120" y="2133720"/>
              <a:ext cx="824040" cy="274320"/>
            </a:xfrm>
            <a:prstGeom prst="pie">
              <a:avLst/>
            </a:prstGeom>
            <a:gradFill rotWithShape="0">
              <a:gsLst>
                <a:gs pos="0">
                  <a:srgbClr val="217df6"/>
                </a:gs>
                <a:gs pos="50000">
                  <a:srgbClr val="95eefc"/>
                </a:gs>
                <a:gs pos="100000">
                  <a:srgbClr val="217df6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315120" y="2895480"/>
            <a:ext cx="817560" cy="2878200"/>
            <a:chOff x="6315120" y="2895480"/>
            <a:chExt cx="817560" cy="2878200"/>
          </a:xfrm>
        </p:grpSpPr>
        <p:sp>
          <p:nvSpPr>
            <p:cNvPr id="87" name="Freeform 8"/>
            <p:cNvSpPr/>
            <p:nvPr/>
          </p:nvSpPr>
          <p:spPr>
            <a:xfrm>
              <a:off x="6315120" y="3047760"/>
              <a:ext cx="817560" cy="2725920"/>
            </a:xfrm>
            <a:prstGeom prst="pie">
              <a:avLst/>
            </a:prstGeom>
            <a:gradFill rotWithShape="0">
              <a:gsLst>
                <a:gs pos="0">
                  <a:srgbClr val="165ec3"/>
                </a:gs>
                <a:gs pos="100000">
                  <a:srgbClr val="217df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5"/>
            <p:cNvSpPr/>
            <p:nvPr/>
          </p:nvSpPr>
          <p:spPr>
            <a:xfrm>
              <a:off x="6315120" y="2895480"/>
              <a:ext cx="817560" cy="261720"/>
            </a:xfrm>
            <a:prstGeom prst="pie">
              <a:avLst/>
            </a:prstGeom>
            <a:gradFill rotWithShape="0">
              <a:gsLst>
                <a:gs pos="0">
                  <a:srgbClr val="217df6"/>
                </a:gs>
                <a:gs pos="50000">
                  <a:srgbClr val="95eefc"/>
                </a:gs>
                <a:gs pos="100000">
                  <a:srgbClr val="217df6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5389560" y="3505320"/>
            <a:ext cx="822240" cy="2286000"/>
            <a:chOff x="5389560" y="3505320"/>
            <a:chExt cx="822240" cy="2286000"/>
          </a:xfrm>
        </p:grpSpPr>
        <p:sp>
          <p:nvSpPr>
            <p:cNvPr id="90" name="Freeform 9"/>
            <p:cNvSpPr/>
            <p:nvPr/>
          </p:nvSpPr>
          <p:spPr>
            <a:xfrm>
              <a:off x="5389560" y="3657600"/>
              <a:ext cx="822240" cy="2133720"/>
            </a:xfrm>
            <a:prstGeom prst="pie">
              <a:avLst/>
            </a:prstGeom>
            <a:gradFill rotWithShape="0">
              <a:gsLst>
                <a:gs pos="0">
                  <a:srgbClr val="165ec3"/>
                </a:gs>
                <a:gs pos="100000">
                  <a:srgbClr val="217df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6"/>
            <p:cNvSpPr/>
            <p:nvPr/>
          </p:nvSpPr>
          <p:spPr>
            <a:xfrm>
              <a:off x="5389560" y="3505320"/>
              <a:ext cx="822240" cy="252360"/>
            </a:xfrm>
            <a:prstGeom prst="pie">
              <a:avLst/>
            </a:prstGeom>
            <a:gradFill rotWithShape="0">
              <a:gsLst>
                <a:gs pos="0">
                  <a:srgbClr val="217df6"/>
                </a:gs>
                <a:gs pos="50000">
                  <a:srgbClr val="95eefc"/>
                </a:gs>
                <a:gs pos="100000">
                  <a:srgbClr val="217df6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464000" y="3949560"/>
            <a:ext cx="822240" cy="1841760"/>
            <a:chOff x="4464000" y="3949560"/>
            <a:chExt cx="822240" cy="1841760"/>
          </a:xfrm>
        </p:grpSpPr>
        <p:sp>
          <p:nvSpPr>
            <p:cNvPr id="93" name="Freeform 10"/>
            <p:cNvSpPr/>
            <p:nvPr/>
          </p:nvSpPr>
          <p:spPr>
            <a:xfrm>
              <a:off x="4464000" y="4098600"/>
              <a:ext cx="822240" cy="1692720"/>
            </a:xfrm>
            <a:prstGeom prst="pie">
              <a:avLst/>
            </a:prstGeom>
            <a:gradFill rotWithShape="0">
              <a:gsLst>
                <a:gs pos="0">
                  <a:srgbClr val="165ec3"/>
                </a:gs>
                <a:gs pos="100000">
                  <a:srgbClr val="217df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7"/>
            <p:cNvSpPr/>
            <p:nvPr/>
          </p:nvSpPr>
          <p:spPr>
            <a:xfrm>
              <a:off x="4464000" y="3949560"/>
              <a:ext cx="822240" cy="317520"/>
            </a:xfrm>
            <a:prstGeom prst="pie">
              <a:avLst/>
            </a:prstGeom>
            <a:gradFill rotWithShape="0">
              <a:gsLst>
                <a:gs pos="0">
                  <a:srgbClr val="217df6"/>
                </a:gs>
                <a:gs pos="50000">
                  <a:srgbClr val="95eefc"/>
                </a:gs>
                <a:gs pos="100000">
                  <a:srgbClr val="217df6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538440" y="4317840"/>
            <a:ext cx="822600" cy="1473480"/>
            <a:chOff x="3538440" y="4317840"/>
            <a:chExt cx="822600" cy="1473480"/>
          </a:xfrm>
        </p:grpSpPr>
        <p:sp>
          <p:nvSpPr>
            <p:cNvPr id="96" name="Freeform 11"/>
            <p:cNvSpPr/>
            <p:nvPr/>
          </p:nvSpPr>
          <p:spPr>
            <a:xfrm>
              <a:off x="3538440" y="4463640"/>
              <a:ext cx="822600" cy="1327680"/>
            </a:xfrm>
            <a:prstGeom prst="pie">
              <a:avLst/>
            </a:prstGeom>
            <a:gradFill rotWithShape="0">
              <a:gsLst>
                <a:gs pos="0">
                  <a:srgbClr val="165ec3"/>
                </a:gs>
                <a:gs pos="100000">
                  <a:srgbClr val="217df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3538440" y="4317840"/>
              <a:ext cx="822600" cy="304920"/>
            </a:xfrm>
            <a:prstGeom prst="pie">
              <a:avLst/>
            </a:prstGeom>
            <a:gradFill rotWithShape="0">
              <a:gsLst>
                <a:gs pos="0">
                  <a:srgbClr val="217df6"/>
                </a:gs>
                <a:gs pos="50000">
                  <a:srgbClr val="95eefc"/>
                </a:gs>
                <a:gs pos="100000">
                  <a:srgbClr val="217df6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612880" y="4633920"/>
            <a:ext cx="822600" cy="1157400"/>
            <a:chOff x="2612880" y="4633920"/>
            <a:chExt cx="822600" cy="1157400"/>
          </a:xfrm>
        </p:grpSpPr>
        <p:sp>
          <p:nvSpPr>
            <p:cNvPr id="99" name="Freeform 12"/>
            <p:cNvSpPr/>
            <p:nvPr/>
          </p:nvSpPr>
          <p:spPr>
            <a:xfrm>
              <a:off x="2612880" y="4775040"/>
              <a:ext cx="822600" cy="1016280"/>
            </a:xfrm>
            <a:prstGeom prst="pie">
              <a:avLst/>
            </a:prstGeom>
            <a:gradFill rotWithShape="0">
              <a:gsLst>
                <a:gs pos="0">
                  <a:srgbClr val="165ec3"/>
                </a:gs>
                <a:gs pos="100000">
                  <a:srgbClr val="217df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9"/>
            <p:cNvSpPr/>
            <p:nvPr/>
          </p:nvSpPr>
          <p:spPr>
            <a:xfrm>
              <a:off x="2612880" y="4633920"/>
              <a:ext cx="822600" cy="274680"/>
            </a:xfrm>
            <a:prstGeom prst="pie">
              <a:avLst/>
            </a:prstGeom>
            <a:gradFill rotWithShape="0">
              <a:gsLst>
                <a:gs pos="0">
                  <a:srgbClr val="217df6"/>
                </a:gs>
                <a:gs pos="50000">
                  <a:srgbClr val="95eefc"/>
                </a:gs>
                <a:gs pos="100000">
                  <a:srgbClr val="217df6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687680" y="5054760"/>
            <a:ext cx="822240" cy="736560"/>
            <a:chOff x="1687680" y="5054760"/>
            <a:chExt cx="822240" cy="736560"/>
          </a:xfrm>
        </p:grpSpPr>
        <p:sp>
          <p:nvSpPr>
            <p:cNvPr id="102" name="Freeform 13"/>
            <p:cNvSpPr/>
            <p:nvPr/>
          </p:nvSpPr>
          <p:spPr>
            <a:xfrm>
              <a:off x="1687680" y="5191200"/>
              <a:ext cx="822240" cy="600120"/>
            </a:xfrm>
            <a:prstGeom prst="pie">
              <a:avLst/>
            </a:prstGeom>
            <a:gradFill rotWithShape="0">
              <a:gsLst>
                <a:gs pos="0">
                  <a:srgbClr val="165ec3"/>
                </a:gs>
                <a:gs pos="100000">
                  <a:srgbClr val="217df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0"/>
            <p:cNvSpPr/>
            <p:nvPr/>
          </p:nvSpPr>
          <p:spPr>
            <a:xfrm>
              <a:off x="1687680" y="5054760"/>
              <a:ext cx="822240" cy="274680"/>
            </a:xfrm>
            <a:prstGeom prst="pie">
              <a:avLst/>
            </a:prstGeom>
            <a:gradFill rotWithShape="0">
              <a:gsLst>
                <a:gs pos="0">
                  <a:srgbClr val="217df6"/>
                </a:gs>
                <a:gs pos="50000">
                  <a:srgbClr val="95eefc"/>
                </a:gs>
                <a:gs pos="100000">
                  <a:srgbClr val="217df6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762120" y="5243400"/>
            <a:ext cx="817560" cy="547920"/>
            <a:chOff x="762120" y="5243400"/>
            <a:chExt cx="817560" cy="547920"/>
          </a:xfrm>
        </p:grpSpPr>
        <p:sp>
          <p:nvSpPr>
            <p:cNvPr id="105" name="Freeform 21"/>
            <p:cNvSpPr/>
            <p:nvPr/>
          </p:nvSpPr>
          <p:spPr>
            <a:xfrm>
              <a:off x="762120" y="5392440"/>
              <a:ext cx="817560" cy="398880"/>
            </a:xfrm>
            <a:prstGeom prst="pie">
              <a:avLst/>
            </a:prstGeom>
            <a:gradFill rotWithShape="0">
              <a:gsLst>
                <a:gs pos="0">
                  <a:srgbClr val="165ec3"/>
                </a:gs>
                <a:gs pos="100000">
                  <a:srgbClr val="217df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2"/>
            <p:cNvSpPr/>
            <p:nvPr/>
          </p:nvSpPr>
          <p:spPr>
            <a:xfrm>
              <a:off x="762120" y="5243400"/>
              <a:ext cx="817560" cy="274680"/>
            </a:xfrm>
            <a:prstGeom prst="pie">
              <a:avLst/>
            </a:prstGeom>
            <a:gradFill rotWithShape="0">
              <a:gsLst>
                <a:gs pos="0">
                  <a:srgbClr val="217df6"/>
                </a:gs>
                <a:gs pos="50000">
                  <a:srgbClr val="95eefc"/>
                </a:gs>
                <a:gs pos="100000">
                  <a:srgbClr val="217df6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Freeform 82"/>
          <p:cNvSpPr/>
          <p:nvPr/>
        </p:nvSpPr>
        <p:spPr>
          <a:xfrm rot="21196800">
            <a:off x="718920" y="1412640"/>
            <a:ext cx="7424640" cy="3313080"/>
          </a:xfrm>
          <a:prstGeom prst="pie">
            <a:avLst/>
          </a:prstGeom>
          <a:gradFill rotWithShape="0">
            <a:gsLst>
              <a:gs pos="0">
                <a:srgbClr val="7f7f7f"/>
              </a:gs>
              <a:gs pos="100000">
                <a:srgbClr val="404040"/>
              </a:gs>
            </a:gsLst>
            <a:lin ang="12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0"/>
          <p:cNvSpPr/>
          <p:nvPr/>
        </p:nvSpPr>
        <p:spPr>
          <a:xfrm>
            <a:off x="387360" y="228600"/>
            <a:ext cx="22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D BA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HARTS </a:t>
            </a:r>
            <a:r>
              <a:rPr b="0" lang="en-US" sz="1800" spc="-1" strike="noStrike">
                <a:solidFill>
                  <a:srgbClr val="165ec3"/>
                </a:solidFill>
                <a:latin typeface="Calibri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286000" y="1752480"/>
            <a:ext cx="1660680" cy="3081600"/>
            <a:chOff x="2286000" y="1752480"/>
            <a:chExt cx="1660680" cy="3081600"/>
          </a:xfrm>
        </p:grpSpPr>
        <p:pic>
          <p:nvPicPr>
            <p:cNvPr id="110" name="Gruppe 113" descr=""/>
            <p:cNvPicPr/>
            <p:nvPr/>
          </p:nvPicPr>
          <p:blipFill>
            <a:blip r:embed="rId1"/>
            <a:stretch/>
          </p:blipFill>
          <p:spPr>
            <a:xfrm>
              <a:off x="2286000" y="1752480"/>
              <a:ext cx="1660680" cy="308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" name=""/>
            <p:cNvGrpSpPr/>
            <p:nvPr/>
          </p:nvGrpSpPr>
          <p:grpSpPr>
            <a:xfrm>
              <a:off x="3215160" y="2111400"/>
              <a:ext cx="354960" cy="772200"/>
              <a:chOff x="3215160" y="2111400"/>
              <a:chExt cx="354960" cy="772200"/>
            </a:xfrm>
          </p:grpSpPr>
          <p:sp>
            <p:nvSpPr>
              <p:cNvPr id="112" name="Freeform 24"/>
              <p:cNvSpPr/>
              <p:nvPr/>
            </p:nvSpPr>
            <p:spPr>
              <a:xfrm flipH="1">
                <a:off x="3215160" y="2111400"/>
                <a:ext cx="318960" cy="405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25"/>
              <p:cNvSpPr/>
              <p:nvPr/>
            </p:nvSpPr>
            <p:spPr>
              <a:xfrm flipH="1">
                <a:off x="3265560" y="2233440"/>
                <a:ext cx="304200" cy="650160"/>
              </a:xfrm>
              <a:prstGeom prst="pie">
                <a:avLst/>
              </a:prstGeom>
              <a:solidFill>
                <a:srgbClr val="217d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324000" y="44370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0:37:12Z</dcterms:created>
  <dc:creator/>
  <dc:description/>
  <dc:language>en-US</dc:language>
  <cp:lastModifiedBy>echo</cp:lastModifiedBy>
  <cp:lastPrinted>1899-12-30T00:00:00Z</cp:lastPrinted>
  <dcterms:modified xsi:type="dcterms:W3CDTF">2010-03-19T14:53:48Z</dcterms:modified>
  <cp:revision>4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