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3B9-03AC-4C4A-A234-5CEFB91D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7EB-1475-46D9-BC37-D6484F1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FD6-552D-438B-BC8F-80C7F295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C46-0124-403A-9D9F-2A0C326F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8EA-1316-428C-AD08-055E4BF3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F70-05F4-48DC-AF78-2478BCA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6FB3-8C7D-47C4-A5F4-CE1A14B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730C-1735-43EE-8C92-DA99ADA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C38B-5D35-45C8-910E-F229E10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A7AE-1B19-4981-A3E8-129C2EBD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E35-25EF-4C8A-9458-9301CC7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498-E8F8-4172-80FD-26B342F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8AAF-4415-4425-85E7-178EF91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ABB-087E-49A8-99F1-D0D4EEF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5AE3-B778-4A95-8F57-EEB2E69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756-2BF8-4658-8F5B-3C4C417D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CFD3-1030-4E44-B79B-2322992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B80B-428F-4F1B-9853-830FC83A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0A91-14F2-4E06-AC12-26742247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2123-9D62-4229-BBA1-8EE8E0A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50E2-952F-41D7-AE40-927B267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EC08-DE90-44B4-9CE1-29FA191C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C0A-0236-493B-9F17-90A17A8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06F3-52FA-4B92-9AF3-4BC3E43C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E8DC-A619-4197-A489-36222990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70E8-91A0-41E0-AA08-5F0BF55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71F5-853D-4653-8646-C62DB4C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BC76-E1D8-401A-A3AE-A8E736D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0E08-5908-4D46-8AE2-19112FA7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58BB-9F0B-4F84-AA9E-FA566751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259-7744-48FD-A9E8-8B804425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10C-D457-430B-8742-AEEE3039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A7A-2ADC-481E-8495-C9826CF8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C6F-41A8-478A-8402-3715397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355-54A5-4A00-96F9-D47C15DA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EDE-ABEB-4AA4-AA0F-8A8595B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3A9-E30E-4DD4-8047-625E0F79FB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DBC2-4DE9-4C89-AFAF-6CD118C8A4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BC2-EDE7-40CE-AAEE-B9C0F508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6500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0c0"/>
              </a:solidFill>
              <a:latin typeface="汉仪粗宋简"/>
              <a:ea typeface="汉仪粗宋简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0360" y="1536840"/>
            <a:ext cx="6534000" cy="742680"/>
            <a:chOff x="360360" y="1536840"/>
            <a:chExt cx="6534000" cy="742680"/>
          </a:xfrm>
        </p:grpSpPr>
        <p:pic>
          <p:nvPicPr>
            <p:cNvPr id="128" name="副标题 2" descr=""/>
            <p:cNvPicPr/>
            <p:nvPr/>
          </p:nvPicPr>
          <p:blipFill>
            <a:blip r:embed="rId1"/>
            <a:stretch/>
          </p:blipFill>
          <p:spPr>
            <a:xfrm>
              <a:off x="360360" y="1536840"/>
              <a:ext cx="65340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28760" y="1604880"/>
              <a:ext cx="6400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1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/>
            <a:ahLst/>
            <a:rect l="l" t="t" r="r" b="b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0"/>
                </a:lnTo>
                <a:lnTo>
                  <a:pt x="6954838" y="3387807"/>
                </a:lnTo>
                <a:cubicBezTo>
                  <a:pt x="6954838" y="3659555"/>
                  <a:pt x="6734543" y="3879850"/>
                  <a:pt x="6462795" y="3879850"/>
                </a:cubicBezTo>
                <a:lnTo>
                  <a:pt x="0" y="3879850"/>
                </a:ln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0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45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506520" y="858960"/>
            <a:ext cx="6491160" cy="1207800"/>
            <a:chOff x="506520" y="858960"/>
            <a:chExt cx="6491160" cy="1207800"/>
          </a:xfrm>
        </p:grpSpPr>
        <p:pic>
          <p:nvPicPr>
            <p:cNvPr id="150" name="副标题 2" descr=""/>
            <p:cNvPicPr/>
            <p:nvPr/>
          </p:nvPicPr>
          <p:blipFill>
            <a:blip r:embed="rId1"/>
            <a:stretch/>
          </p:blipFill>
          <p:spPr>
            <a:xfrm>
              <a:off x="506520" y="858960"/>
              <a:ext cx="649116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71680" y="928440"/>
              <a:ext cx="63579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52Z</dcterms:created>
  <dc:creator>rachel</dc:creator>
  <dc:description/>
  <dc:language>en-US</dc:language>
  <cp:lastModifiedBy>微软中国</cp:lastModifiedBy>
  <cp:lastPrinted>1899-12-30T00:00:00Z</cp:lastPrinted>
  <dcterms:modified xsi:type="dcterms:W3CDTF">2011-06-07T04:36:43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