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3B8-444C-45AB-B521-4740F1F5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3A6-7873-4322-AF26-3B77787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F5C-5DAA-4D36-9439-33CF1B86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2DE-74F6-4C91-A178-292FEF68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53F-9668-4BAD-92A0-EE4BC0EC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DCAB-9ADC-4721-A117-B3C8175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CA4-72CC-400B-BE0D-8054FCD0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DAA6-E55A-479C-B4D3-047D8905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695-6B8B-44A1-93AB-B5366FD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82B7-AE56-4B54-A976-ED441829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D2B8-CD31-4E67-9442-B4908E7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7E7-3A3F-4F03-9690-C63803D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444-1C7D-44DE-A69F-9900C72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7E3D-FF6B-4798-ADFD-988C576E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D206-C20F-40AC-ACA7-A5B647C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2232-B50B-4F93-A51F-8CFAA9FD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0A7F-FCBB-479C-B2A1-64D6BE86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7A3-F3FD-429B-B61E-27094072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224-A3CF-4C39-8C06-09447BE8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143-5B98-4CD7-93C1-DC848845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210-9D53-479F-A4F8-70C7DDC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B2E-A08F-49BB-91F5-D6DD960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3F1-B72B-497A-8D67-A141D0B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1BA-8E2B-4933-8446-5E203BC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2268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4BB4-794A-423D-9766-A454A2B20A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7B19-8E41-4982-B789-59449DFA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77840" y="46483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6"/>
          <p:cNvSpPr/>
          <p:nvPr/>
        </p:nvSpPr>
        <p:spPr>
          <a:xfrm>
            <a:off x="1219320" y="19692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08040" y="1143000"/>
            <a:ext cx="7056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cp:lastPrinted>1899-12-30T00:00:00Z</cp:lastPrinted>
  <dcterms:modified xsi:type="dcterms:W3CDTF">2009-03-12T09:00:00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