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561-C40C-4D6E-A1B5-80514CF0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441-488D-47BA-9EFE-C26C1F0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1D0-62D1-41C9-A739-EB1F6EEB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0C6-6C28-42A8-B88C-139E729D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1D26-5EB4-401B-8C29-1309B397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9FFD-C102-45E8-9E0B-00425CE3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810-2BF7-47A4-A4FF-24964AB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348E-68A7-41D8-983C-9A8C1722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CC72-5AD6-4BAD-9348-5C902FD5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891-7982-442C-A030-ECE9738A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3CA-918B-44A7-86AD-48113D1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BAA-B454-477F-B2A2-4EECBDC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90E4-5E4C-4E42-B8E2-D55BE9F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56D2-6A7A-435F-B6E9-E6589D5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10F-BFC3-4A49-B766-A04C7026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65BA-03AD-4562-B5D5-30EC41E9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4B7E-D541-4336-A253-66C04242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6246-D040-4E7D-AE9D-C4903663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5060-F70B-425D-8AC6-84397175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6B37-C50F-48FA-8DDB-794B320A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2221-6EC7-4ABE-B802-5CCDB9A9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35CD-8E32-4DFC-AA5A-B1B43FB9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B2A-0991-4828-A2DD-02F9C55D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0276-EBF2-4D79-8F04-06EB2462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9A72-DCD0-4B29-9762-7A7D1D0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9E72-A31A-4F2C-8DF0-59E01FA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BBDC-E635-4E03-9552-9363C8A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4CD1-A50D-4046-B80A-2FE4C44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8EA1-B8EC-48F5-9AB5-74AC8D79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7701-E80D-48D4-A8F3-A023234C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E52-2AC3-4221-9DEA-EE3672F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302-3942-414B-8296-511E4CBE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D48-1ABA-4821-AFA9-ED6FACC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44C-9819-4069-B3F1-D889C57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E07-5E3E-45A6-8252-F556D76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D2B-D38C-4C55-A7D2-7886B5C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343C-2F78-4C21-9ABE-BBF749BC5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833-6206-46E9-9F98-8E8A89EFA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1602-0265-4FDC-B44E-551F7F66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ero"/>
                <a:ea typeface="宋体"/>
              </a:rPr>
              <a:t>EXECUTIVE B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Sub-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ero"/>
                <a:ea typeface="宋体"/>
              </a:rPr>
              <a:t>Your Topic Goes 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e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Sub-topics Go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ero"/>
                <a:ea typeface="宋体"/>
              </a:rPr>
              <a:t>Printable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e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Add Your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833760" y="57146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ero"/>
                <a:ea typeface="宋体"/>
              </a:rPr>
              <a:t>TRANSI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0:28:57Z</dcterms:created>
  <dc:creator>eclipse</dc:creator>
  <dc:description/>
  <dc:language>en-US</dc:language>
  <cp:lastModifiedBy>echo</cp:lastModifiedBy>
  <cp:lastPrinted>1899-12-30T00:00:00Z</cp:lastPrinted>
  <dcterms:modified xsi:type="dcterms:W3CDTF">2009-12-08T03:45:24Z</dcterms:modified>
  <cp:revision>2</cp:revision>
  <dc:subject/>
  <dc:title>EXECUTIVE B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