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09CF-193D-4607-8A0B-CBD2DE94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C250-FA32-45FB-8575-E55602C6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BC97-ED35-4A41-9D81-765CDF77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D752-FC60-4806-AE2D-EA15691C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F3EB-15EF-457E-AE8A-9472A4E8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709A-C9CC-4F3C-BDDC-767D47D3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CA54-2EC3-4814-B5C4-CB360FB2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A28D-ECAB-4724-BAAE-809EAE4D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D079-F7AB-4B17-9612-C7ED7356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9A45-5A73-4973-A0D7-B16B1A30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9361-4F7E-436E-915C-96E0BA9E9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4E6B-2AB7-4234-97B7-C9ECAF56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4680" y="1989000"/>
            <a:ext cx="9158040" cy="4873680"/>
          </a:xfrm>
          <a:prstGeom prst="rect">
            <a:avLst/>
          </a:prstGeom>
          <a:ln w="0">
            <a:noFill/>
          </a:ln>
        </p:spPr>
      </p:pic>
      <p:sp>
        <p:nvSpPr>
          <p:cNvPr id="1" name="未知"/>
          <p:cNvSpPr/>
          <p:nvPr/>
        </p:nvSpPr>
        <p:spPr>
          <a:xfrm>
            <a:off x="-4680" y="0"/>
            <a:ext cx="9177120" cy="6891480"/>
          </a:xfrm>
          <a:custGeom>
            <a:avLst/>
            <a:gdLst/>
            <a:ahLst/>
            <a:rect l="l" t="t" r="r" b="b"/>
            <a:pathLst>
              <a:path w="5784" h="4341">
                <a:moveTo>
                  <a:pt x="6" y="0"/>
                </a:moveTo>
                <a:lnTo>
                  <a:pt x="0" y="2941"/>
                </a:lnTo>
                <a:cubicBezTo>
                  <a:pt x="1122" y="3547"/>
                  <a:pt x="4681" y="4341"/>
                  <a:pt x="5784" y="4171"/>
                </a:cubicBezTo>
                <a:lnTo>
                  <a:pt x="5761" y="2"/>
                </a:lnTo>
                <a:lnTo>
                  <a:pt x="6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5950080"/>
            <a:ext cx="3924360" cy="676080"/>
          </a:xfrm>
          <a:custGeom>
            <a:avLst/>
            <a:gdLst/>
            <a:ahLst/>
            <a:rect l="l" t="t" r="r" b="b"/>
            <a:pathLst>
              <a:path w="2180" h="420">
                <a:moveTo>
                  <a:pt x="2178" y="240"/>
                </a:moveTo>
                <a:cubicBezTo>
                  <a:pt x="2180" y="264"/>
                  <a:pt x="1614" y="420"/>
                  <a:pt x="1314" y="420"/>
                </a:cubicBezTo>
                <a:cubicBezTo>
                  <a:pt x="1002" y="414"/>
                  <a:pt x="1004" y="408"/>
                  <a:pt x="714" y="378"/>
                </a:cubicBezTo>
                <a:cubicBezTo>
                  <a:pt x="424" y="349"/>
                  <a:pt x="15" y="305"/>
                  <a:pt x="6" y="313"/>
                </a:cubicBezTo>
                <a:lnTo>
                  <a:pt x="0" y="41"/>
                </a:lnTo>
                <a:cubicBezTo>
                  <a:pt x="86" y="0"/>
                  <a:pt x="378" y="42"/>
                  <a:pt x="522" y="66"/>
                </a:cubicBezTo>
                <a:cubicBezTo>
                  <a:pt x="803" y="111"/>
                  <a:pt x="1116" y="250"/>
                  <a:pt x="1374" y="276"/>
                </a:cubicBezTo>
                <a:cubicBezTo>
                  <a:pt x="1692" y="300"/>
                  <a:pt x="1968" y="294"/>
                  <a:pt x="2178" y="240"/>
                </a:cubicBezTo>
                <a:close/>
              </a:path>
            </a:pathLst>
          </a:custGeom>
          <a:solidFill>
            <a:srgbClr val="ff0066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未知"/>
          <p:cNvSpPr/>
          <p:nvPr/>
        </p:nvSpPr>
        <p:spPr>
          <a:xfrm>
            <a:off x="611280" y="5516640"/>
            <a:ext cx="8550360" cy="898560"/>
          </a:xfrm>
          <a:custGeom>
            <a:avLst/>
            <a:gdLst/>
            <a:ahLst/>
            <a:rect l="l" t="t" r="r" b="b"/>
            <a:pathLst>
              <a:path w="5703" h="874">
                <a:moveTo>
                  <a:pt x="10" y="462"/>
                </a:moveTo>
                <a:cubicBezTo>
                  <a:pt x="0" y="417"/>
                  <a:pt x="666" y="208"/>
                  <a:pt x="1336" y="193"/>
                </a:cubicBezTo>
                <a:cubicBezTo>
                  <a:pt x="2139" y="157"/>
                  <a:pt x="2901" y="380"/>
                  <a:pt x="3628" y="348"/>
                </a:cubicBezTo>
                <a:cubicBezTo>
                  <a:pt x="4355" y="316"/>
                  <a:pt x="5674" y="18"/>
                  <a:pt x="5698" y="0"/>
                </a:cubicBezTo>
                <a:lnTo>
                  <a:pt x="5703" y="644"/>
                </a:lnTo>
                <a:cubicBezTo>
                  <a:pt x="5306" y="784"/>
                  <a:pt x="4051" y="874"/>
                  <a:pt x="3315" y="839"/>
                </a:cubicBezTo>
                <a:cubicBezTo>
                  <a:pt x="2107" y="712"/>
                  <a:pt x="2132" y="520"/>
                  <a:pt x="1285" y="436"/>
                </a:cubicBezTo>
                <a:cubicBezTo>
                  <a:pt x="557" y="362"/>
                  <a:pt x="117" y="451"/>
                  <a:pt x="10" y="462"/>
                </a:cubicBezTo>
                <a:close/>
              </a:path>
            </a:pathLst>
          </a:custGeom>
          <a:solidFill>
            <a:srgbClr val="bd8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未知"/>
          <p:cNvSpPr/>
          <p:nvPr/>
        </p:nvSpPr>
        <p:spPr>
          <a:xfrm>
            <a:off x="2843280" y="5950080"/>
            <a:ext cx="6327720" cy="620640"/>
          </a:xfrm>
          <a:custGeom>
            <a:avLst/>
            <a:gdLst/>
            <a:ahLst/>
            <a:rect l="l" t="t" r="r" b="b"/>
            <a:pathLst>
              <a:path w="4533" h="761">
                <a:moveTo>
                  <a:pt x="5" y="247"/>
                </a:moveTo>
                <a:cubicBezTo>
                  <a:pt x="0" y="214"/>
                  <a:pt x="581" y="0"/>
                  <a:pt x="1089" y="38"/>
                </a:cubicBezTo>
                <a:cubicBezTo>
                  <a:pt x="1700" y="71"/>
                  <a:pt x="2138" y="141"/>
                  <a:pt x="2731" y="184"/>
                </a:cubicBezTo>
                <a:cubicBezTo>
                  <a:pt x="3324" y="226"/>
                  <a:pt x="4514" y="79"/>
                  <a:pt x="4533" y="68"/>
                </a:cubicBezTo>
                <a:lnTo>
                  <a:pt x="4516" y="669"/>
                </a:lnTo>
                <a:cubicBezTo>
                  <a:pt x="4172" y="761"/>
                  <a:pt x="3088" y="728"/>
                  <a:pt x="2469" y="623"/>
                </a:cubicBezTo>
                <a:cubicBezTo>
                  <a:pt x="1562" y="443"/>
                  <a:pt x="1597" y="387"/>
                  <a:pt x="1075" y="241"/>
                </a:cubicBezTo>
                <a:cubicBezTo>
                  <a:pt x="534" y="97"/>
                  <a:pt x="73" y="241"/>
                  <a:pt x="5" y="247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"/>
          <p:cNvSpPr/>
          <p:nvPr/>
        </p:nvSpPr>
        <p:spPr>
          <a:xfrm>
            <a:off x="-4680" y="6553080"/>
            <a:ext cx="913932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"/>
          <p:cNvSpPr/>
          <p:nvPr/>
        </p:nvSpPr>
        <p:spPr>
          <a:xfrm>
            <a:off x="6134040" y="492120"/>
            <a:ext cx="30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"/>
          <p:cNvSpPr/>
          <p:nvPr/>
        </p:nvSpPr>
        <p:spPr>
          <a:xfrm>
            <a:off x="-4680" y="797040"/>
            <a:ext cx="9148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601"/>
              </a:spcBef>
              <a:buClr>
                <a:srgbClr val="7067af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51"/>
              </a:spcBef>
              <a:buClr>
                <a:srgbClr val="7067af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51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-4680" y="1989000"/>
            <a:ext cx="9158040" cy="4873680"/>
          </a:xfrm>
          <a:prstGeom prst="rect">
            <a:avLst/>
          </a:prstGeom>
          <a:ln w="0">
            <a:noFill/>
          </a:ln>
        </p:spPr>
      </p:pic>
      <p:sp>
        <p:nvSpPr>
          <p:cNvPr id="47" name="未知"/>
          <p:cNvSpPr/>
          <p:nvPr/>
        </p:nvSpPr>
        <p:spPr>
          <a:xfrm>
            <a:off x="-4680" y="0"/>
            <a:ext cx="9158040" cy="4033800"/>
          </a:xfrm>
          <a:custGeom>
            <a:avLst/>
            <a:gdLst/>
            <a:ahLst/>
            <a:rect l="l" t="t" r="r" b="b"/>
            <a:pathLst>
              <a:path w="5772" h="2541">
                <a:moveTo>
                  <a:pt x="0" y="0"/>
                </a:moveTo>
                <a:lnTo>
                  <a:pt x="6" y="1272"/>
                </a:lnTo>
                <a:cubicBezTo>
                  <a:pt x="517" y="1666"/>
                  <a:pt x="2103" y="2282"/>
                  <a:pt x="3064" y="2364"/>
                </a:cubicBezTo>
                <a:cubicBezTo>
                  <a:pt x="4702" y="2541"/>
                  <a:pt x="5251" y="2003"/>
                  <a:pt x="5772" y="1762"/>
                </a:cubicBezTo>
                <a:lnTo>
                  <a:pt x="5755" y="1"/>
                </a:lnTo>
                <a:lnTo>
                  <a:pt x="0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未知"/>
          <p:cNvSpPr/>
          <p:nvPr/>
        </p:nvSpPr>
        <p:spPr>
          <a:xfrm>
            <a:off x="-31680" y="3429000"/>
            <a:ext cx="3456000" cy="666720"/>
          </a:xfrm>
          <a:custGeom>
            <a:avLst/>
            <a:gdLst/>
            <a:ahLst/>
            <a:rect l="l" t="t" r="r" b="b"/>
            <a:pathLst>
              <a:path w="2180" h="420">
                <a:moveTo>
                  <a:pt x="2178" y="240"/>
                </a:moveTo>
                <a:cubicBezTo>
                  <a:pt x="2180" y="264"/>
                  <a:pt x="1614" y="420"/>
                  <a:pt x="1314" y="420"/>
                </a:cubicBezTo>
                <a:cubicBezTo>
                  <a:pt x="1002" y="414"/>
                  <a:pt x="1004" y="408"/>
                  <a:pt x="714" y="378"/>
                </a:cubicBezTo>
                <a:cubicBezTo>
                  <a:pt x="424" y="349"/>
                  <a:pt x="15" y="305"/>
                  <a:pt x="6" y="313"/>
                </a:cubicBezTo>
                <a:lnTo>
                  <a:pt x="0" y="41"/>
                </a:lnTo>
                <a:cubicBezTo>
                  <a:pt x="86" y="0"/>
                  <a:pt x="378" y="42"/>
                  <a:pt x="522" y="66"/>
                </a:cubicBezTo>
                <a:cubicBezTo>
                  <a:pt x="803" y="111"/>
                  <a:pt x="1116" y="250"/>
                  <a:pt x="1374" y="276"/>
                </a:cubicBezTo>
                <a:cubicBezTo>
                  <a:pt x="1692" y="300"/>
                  <a:pt x="1968" y="294"/>
                  <a:pt x="2178" y="240"/>
                </a:cubicBezTo>
                <a:close/>
              </a:path>
            </a:pathLst>
          </a:custGeom>
          <a:solidFill>
            <a:srgbClr val="ff0066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未知"/>
          <p:cNvSpPr/>
          <p:nvPr/>
        </p:nvSpPr>
        <p:spPr>
          <a:xfrm>
            <a:off x="108000" y="2790720"/>
            <a:ext cx="9053640" cy="1224000"/>
          </a:xfrm>
          <a:custGeom>
            <a:avLst/>
            <a:gdLst/>
            <a:ahLst/>
            <a:rect l="l" t="t" r="r" b="b"/>
            <a:pathLst>
              <a:path w="5703" h="874">
                <a:moveTo>
                  <a:pt x="10" y="462"/>
                </a:moveTo>
                <a:cubicBezTo>
                  <a:pt x="0" y="417"/>
                  <a:pt x="666" y="208"/>
                  <a:pt x="1336" y="193"/>
                </a:cubicBezTo>
                <a:cubicBezTo>
                  <a:pt x="2139" y="157"/>
                  <a:pt x="2901" y="380"/>
                  <a:pt x="3628" y="348"/>
                </a:cubicBezTo>
                <a:cubicBezTo>
                  <a:pt x="4355" y="316"/>
                  <a:pt x="5674" y="18"/>
                  <a:pt x="5698" y="0"/>
                </a:cubicBezTo>
                <a:lnTo>
                  <a:pt x="5703" y="644"/>
                </a:lnTo>
                <a:cubicBezTo>
                  <a:pt x="5306" y="784"/>
                  <a:pt x="4051" y="874"/>
                  <a:pt x="3315" y="839"/>
                </a:cubicBezTo>
                <a:cubicBezTo>
                  <a:pt x="2107" y="712"/>
                  <a:pt x="2132" y="520"/>
                  <a:pt x="1285" y="436"/>
                </a:cubicBezTo>
                <a:cubicBezTo>
                  <a:pt x="557" y="362"/>
                  <a:pt x="117" y="451"/>
                  <a:pt x="10" y="462"/>
                </a:cubicBezTo>
                <a:close/>
              </a:path>
            </a:pathLst>
          </a:custGeom>
          <a:solidFill>
            <a:srgbClr val="bd8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未知"/>
          <p:cNvSpPr/>
          <p:nvPr/>
        </p:nvSpPr>
        <p:spPr>
          <a:xfrm>
            <a:off x="1974960" y="3392640"/>
            <a:ext cx="7196040" cy="1207800"/>
          </a:xfrm>
          <a:custGeom>
            <a:avLst/>
            <a:gdLst/>
            <a:ahLst/>
            <a:rect l="l" t="t" r="r" b="b"/>
            <a:pathLst>
              <a:path w="4533" h="761">
                <a:moveTo>
                  <a:pt x="5" y="247"/>
                </a:moveTo>
                <a:cubicBezTo>
                  <a:pt x="0" y="214"/>
                  <a:pt x="581" y="0"/>
                  <a:pt x="1089" y="38"/>
                </a:cubicBezTo>
                <a:cubicBezTo>
                  <a:pt x="1700" y="71"/>
                  <a:pt x="2138" y="141"/>
                  <a:pt x="2731" y="184"/>
                </a:cubicBezTo>
                <a:cubicBezTo>
                  <a:pt x="3324" y="226"/>
                  <a:pt x="4514" y="79"/>
                  <a:pt x="4533" y="68"/>
                </a:cubicBezTo>
                <a:lnTo>
                  <a:pt x="4516" y="669"/>
                </a:lnTo>
                <a:cubicBezTo>
                  <a:pt x="4172" y="761"/>
                  <a:pt x="3088" y="728"/>
                  <a:pt x="2469" y="623"/>
                </a:cubicBezTo>
                <a:cubicBezTo>
                  <a:pt x="1562" y="443"/>
                  <a:pt x="1597" y="387"/>
                  <a:pt x="1075" y="241"/>
                </a:cubicBezTo>
                <a:cubicBezTo>
                  <a:pt x="534" y="97"/>
                  <a:pt x="73" y="241"/>
                  <a:pt x="5" y="247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未知"/>
          <p:cNvSpPr/>
          <p:nvPr/>
        </p:nvSpPr>
        <p:spPr>
          <a:xfrm>
            <a:off x="3781440" y="3300480"/>
            <a:ext cx="5389560" cy="776160"/>
          </a:xfrm>
          <a:custGeom>
            <a:avLst/>
            <a:gdLst/>
            <a:ahLst/>
            <a:rect l="l" t="t" r="r" b="b"/>
            <a:pathLst>
              <a:path w="3395" h="489">
                <a:moveTo>
                  <a:pt x="3" y="256"/>
                </a:moveTo>
                <a:cubicBezTo>
                  <a:pt x="0" y="287"/>
                  <a:pt x="882" y="489"/>
                  <a:pt x="1350" y="489"/>
                </a:cubicBezTo>
                <a:cubicBezTo>
                  <a:pt x="1837" y="481"/>
                  <a:pt x="1834" y="473"/>
                  <a:pt x="2286" y="435"/>
                </a:cubicBezTo>
                <a:cubicBezTo>
                  <a:pt x="2738" y="397"/>
                  <a:pt x="3376" y="340"/>
                  <a:pt x="3390" y="350"/>
                </a:cubicBezTo>
                <a:lnTo>
                  <a:pt x="3395" y="8"/>
                </a:lnTo>
                <a:cubicBezTo>
                  <a:pt x="3040" y="0"/>
                  <a:pt x="1822" y="261"/>
                  <a:pt x="1257" y="302"/>
                </a:cubicBezTo>
                <a:cubicBezTo>
                  <a:pt x="761" y="334"/>
                  <a:pt x="331" y="326"/>
                  <a:pt x="3" y="256"/>
                </a:cubicBezTo>
                <a:close/>
              </a:path>
            </a:pathLst>
          </a:cu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BE48-D7D5-4E66-923C-392C12E0B78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rt-com.co.kr/online/ppt_gallery_1.ht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-4680" y="1989000"/>
            <a:ext cx="9158040" cy="4873680"/>
          </a:xfrm>
          <a:prstGeom prst="rect">
            <a:avLst/>
          </a:prstGeom>
          <a:ln w="0">
            <a:noFill/>
          </a:ln>
        </p:spPr>
      </p:pic>
      <p:sp>
        <p:nvSpPr>
          <p:cNvPr id="130" name="未知"/>
          <p:cNvSpPr/>
          <p:nvPr/>
        </p:nvSpPr>
        <p:spPr>
          <a:xfrm>
            <a:off x="-4680" y="0"/>
            <a:ext cx="9158040" cy="4033800"/>
          </a:xfrm>
          <a:custGeom>
            <a:avLst/>
            <a:gdLst/>
            <a:ahLst/>
            <a:rect l="l" t="t" r="r" b="b"/>
            <a:pathLst>
              <a:path w="5772" h="2541">
                <a:moveTo>
                  <a:pt x="0" y="0"/>
                </a:moveTo>
                <a:lnTo>
                  <a:pt x="6" y="1272"/>
                </a:lnTo>
                <a:cubicBezTo>
                  <a:pt x="517" y="1666"/>
                  <a:pt x="2103" y="2282"/>
                  <a:pt x="3064" y="2364"/>
                </a:cubicBezTo>
                <a:cubicBezTo>
                  <a:pt x="4702" y="2541"/>
                  <a:pt x="5251" y="2003"/>
                  <a:pt x="5772" y="1762"/>
                </a:cubicBezTo>
                <a:lnTo>
                  <a:pt x="5755" y="1"/>
                </a:lnTo>
                <a:lnTo>
                  <a:pt x="0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1" name="未知"/>
          <p:cNvSpPr/>
          <p:nvPr/>
        </p:nvSpPr>
        <p:spPr>
          <a:xfrm>
            <a:off x="-31680" y="3429000"/>
            <a:ext cx="3456000" cy="666720"/>
          </a:xfrm>
          <a:custGeom>
            <a:avLst/>
            <a:gdLst/>
            <a:ahLst/>
            <a:rect l="l" t="t" r="r" b="b"/>
            <a:pathLst>
              <a:path w="2180" h="420">
                <a:moveTo>
                  <a:pt x="2178" y="240"/>
                </a:moveTo>
                <a:cubicBezTo>
                  <a:pt x="2180" y="264"/>
                  <a:pt x="1614" y="420"/>
                  <a:pt x="1314" y="420"/>
                </a:cubicBezTo>
                <a:cubicBezTo>
                  <a:pt x="1002" y="414"/>
                  <a:pt x="1004" y="408"/>
                  <a:pt x="714" y="378"/>
                </a:cubicBezTo>
                <a:cubicBezTo>
                  <a:pt x="424" y="349"/>
                  <a:pt x="15" y="305"/>
                  <a:pt x="6" y="313"/>
                </a:cubicBezTo>
                <a:lnTo>
                  <a:pt x="0" y="41"/>
                </a:lnTo>
                <a:cubicBezTo>
                  <a:pt x="86" y="0"/>
                  <a:pt x="378" y="42"/>
                  <a:pt x="522" y="66"/>
                </a:cubicBezTo>
                <a:cubicBezTo>
                  <a:pt x="803" y="111"/>
                  <a:pt x="1116" y="250"/>
                  <a:pt x="1374" y="276"/>
                </a:cubicBezTo>
                <a:cubicBezTo>
                  <a:pt x="1692" y="300"/>
                  <a:pt x="1968" y="294"/>
                  <a:pt x="2178" y="240"/>
                </a:cubicBezTo>
                <a:close/>
              </a:path>
            </a:pathLst>
          </a:custGeom>
          <a:solidFill>
            <a:srgbClr val="ff0066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2" name="未知"/>
          <p:cNvSpPr/>
          <p:nvPr/>
        </p:nvSpPr>
        <p:spPr>
          <a:xfrm>
            <a:off x="108000" y="2790720"/>
            <a:ext cx="9053640" cy="1224000"/>
          </a:xfrm>
          <a:custGeom>
            <a:avLst/>
            <a:gdLst/>
            <a:ahLst/>
            <a:rect l="l" t="t" r="r" b="b"/>
            <a:pathLst>
              <a:path w="5703" h="874">
                <a:moveTo>
                  <a:pt x="10" y="462"/>
                </a:moveTo>
                <a:cubicBezTo>
                  <a:pt x="0" y="417"/>
                  <a:pt x="666" y="208"/>
                  <a:pt x="1336" y="193"/>
                </a:cubicBezTo>
                <a:cubicBezTo>
                  <a:pt x="2139" y="157"/>
                  <a:pt x="2901" y="380"/>
                  <a:pt x="3628" y="348"/>
                </a:cubicBezTo>
                <a:cubicBezTo>
                  <a:pt x="4355" y="316"/>
                  <a:pt x="5674" y="18"/>
                  <a:pt x="5698" y="0"/>
                </a:cubicBezTo>
                <a:lnTo>
                  <a:pt x="5703" y="644"/>
                </a:lnTo>
                <a:cubicBezTo>
                  <a:pt x="5306" y="784"/>
                  <a:pt x="4051" y="874"/>
                  <a:pt x="3315" y="839"/>
                </a:cubicBezTo>
                <a:cubicBezTo>
                  <a:pt x="2107" y="712"/>
                  <a:pt x="2132" y="520"/>
                  <a:pt x="1285" y="436"/>
                </a:cubicBezTo>
                <a:cubicBezTo>
                  <a:pt x="557" y="362"/>
                  <a:pt x="117" y="451"/>
                  <a:pt x="10" y="462"/>
                </a:cubicBezTo>
                <a:close/>
              </a:path>
            </a:pathLst>
          </a:custGeom>
          <a:solidFill>
            <a:srgbClr val="bd8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3" name="未知"/>
          <p:cNvSpPr/>
          <p:nvPr/>
        </p:nvSpPr>
        <p:spPr>
          <a:xfrm>
            <a:off x="1974960" y="3392640"/>
            <a:ext cx="7196040" cy="1207800"/>
          </a:xfrm>
          <a:custGeom>
            <a:avLst/>
            <a:gdLst/>
            <a:ahLst/>
            <a:rect l="l" t="t" r="r" b="b"/>
            <a:pathLst>
              <a:path w="4533" h="761">
                <a:moveTo>
                  <a:pt x="5" y="247"/>
                </a:moveTo>
                <a:cubicBezTo>
                  <a:pt x="0" y="214"/>
                  <a:pt x="581" y="0"/>
                  <a:pt x="1089" y="38"/>
                </a:cubicBezTo>
                <a:cubicBezTo>
                  <a:pt x="1700" y="71"/>
                  <a:pt x="2138" y="141"/>
                  <a:pt x="2731" y="184"/>
                </a:cubicBezTo>
                <a:cubicBezTo>
                  <a:pt x="3324" y="226"/>
                  <a:pt x="4514" y="79"/>
                  <a:pt x="4533" y="68"/>
                </a:cubicBezTo>
                <a:lnTo>
                  <a:pt x="4516" y="669"/>
                </a:lnTo>
                <a:cubicBezTo>
                  <a:pt x="4172" y="761"/>
                  <a:pt x="3088" y="728"/>
                  <a:pt x="2469" y="623"/>
                </a:cubicBezTo>
                <a:cubicBezTo>
                  <a:pt x="1562" y="443"/>
                  <a:pt x="1597" y="387"/>
                  <a:pt x="1075" y="241"/>
                </a:cubicBezTo>
                <a:cubicBezTo>
                  <a:pt x="534" y="97"/>
                  <a:pt x="73" y="241"/>
                  <a:pt x="5" y="247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4" name="未知"/>
          <p:cNvSpPr/>
          <p:nvPr/>
        </p:nvSpPr>
        <p:spPr>
          <a:xfrm>
            <a:off x="3781440" y="3300480"/>
            <a:ext cx="5389560" cy="776160"/>
          </a:xfrm>
          <a:custGeom>
            <a:avLst/>
            <a:gdLst/>
            <a:ahLst/>
            <a:rect l="l" t="t" r="r" b="b"/>
            <a:pathLst>
              <a:path w="3395" h="489">
                <a:moveTo>
                  <a:pt x="3" y="256"/>
                </a:moveTo>
                <a:cubicBezTo>
                  <a:pt x="0" y="287"/>
                  <a:pt x="882" y="489"/>
                  <a:pt x="1350" y="489"/>
                </a:cubicBezTo>
                <a:cubicBezTo>
                  <a:pt x="1837" y="481"/>
                  <a:pt x="1834" y="473"/>
                  <a:pt x="2286" y="435"/>
                </a:cubicBezTo>
                <a:cubicBezTo>
                  <a:pt x="2738" y="397"/>
                  <a:pt x="3376" y="340"/>
                  <a:pt x="3390" y="350"/>
                </a:cubicBezTo>
                <a:lnTo>
                  <a:pt x="3395" y="8"/>
                </a:lnTo>
                <a:cubicBezTo>
                  <a:pt x="3040" y="0"/>
                  <a:pt x="1822" y="261"/>
                  <a:pt x="1257" y="302"/>
                </a:cubicBezTo>
                <a:cubicBezTo>
                  <a:pt x="761" y="334"/>
                  <a:pt x="331" y="326"/>
                  <a:pt x="3" y="256"/>
                </a:cubicBezTo>
                <a:close/>
              </a:path>
            </a:pathLst>
          </a:cu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" name=""/>
          <p:cNvSpPr/>
          <p:nvPr/>
        </p:nvSpPr>
        <p:spPr>
          <a:xfrm>
            <a:off x="3635280" y="6310440"/>
            <a:ext cx="1851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80808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6" name="">
            <a:hlinkClick r:id="rId2"/>
          </p:cNvPr>
          <p:cNvSpPr/>
          <p:nvPr/>
        </p:nvSpPr>
        <p:spPr>
          <a:xfrm>
            <a:off x="3511440" y="6543720"/>
            <a:ext cx="2152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c0c0c0"/>
                </a:solidFill>
                <a:latin typeface="Gulim"/>
              </a:rPr>
              <a:t>Copyright © by ARTCOM PT  All rights reserved.</a:t>
            </a:r>
            <a:endParaRPr b="0" lang="en-US" sz="7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4869000"/>
            <a:ext cx="53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title</a:t>
            </a: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" name=""/>
          <p:cNvSpPr/>
          <p:nvPr/>
        </p:nvSpPr>
        <p:spPr>
          <a:xfrm>
            <a:off x="1979640" y="5661000"/>
            <a:ext cx="53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subtitl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90560" y="1971720"/>
            <a:ext cx="73915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  <a:ea typeface="HY헤드라인M"/>
              </a:rPr>
              <a:t>Click here to add header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HY견명조"/>
              </a:rPr>
              <a:t>Click to add text to your presentation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" name=""/>
          <p:cNvSpPr/>
          <p:nvPr/>
        </p:nvSpPr>
        <p:spPr>
          <a:xfrm>
            <a:off x="-4680" y="797040"/>
            <a:ext cx="9148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b64488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324000" y="4437000"/>
            <a:ext cx="52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  <a:ea typeface="宋体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110B-9A69-498F-8730-3ACA0B1FC1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12:37:18Z</dcterms:created>
  <dc:creator>ARTCOM PT</dc:creator>
  <dc:description>氤?霐旍瀽鞚胳潃 ARTCOM PT鞐瓣惮靻岇棎 鞝€鞛戧秾鞚?鞛堨姷雼堧嫟. </dc:description>
  <dc:language>en-US</dc:language>
  <cp:lastModifiedBy>king</cp:lastModifiedBy>
  <cp:lastPrinted>1899-12-30T00:00:00Z</cp:lastPrinted>
  <dcterms:modified xsi:type="dcterms:W3CDTF">2011-12-21T02:15:17Z</dcterms:modified>
  <cp:revision>14</cp:revision>
  <dc:subject/>
  <dc:title>鞀澕鞚措摐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