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40FA5F-A790-44F3-AE2F-3A4C81277D8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C9A975-9E1E-44BF-BECC-7AF372528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FE8872-9AFD-40BE-96F2-E6A4F9050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FAA025-545B-4E60-ADE3-55EFC864238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1B1485-6EE9-4D7B-B11B-FDDF90168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5C0BE8-73EB-4B1E-9465-FD08EFBCA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B965E1-8A72-4939-AC3F-3C712B247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1709F5-5376-4ABB-ACDD-E72711CF9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DD83DD-26D2-414A-B9E7-78E093A1F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9F75AA-2A77-4304-99F2-DA6C4B238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789D60-BF56-4067-BE7B-6DC4B55E4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D0BA86-A7EB-42C5-8479-FFABBCDD2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FBEA1F-AB1C-49E3-99B7-E9E877A21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25601F-8903-40A9-9286-98A7B9690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AFB86D-5851-4BFF-B8B2-A824E5542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F26B67-0BC1-4796-A84B-D1A0A0639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0644E0-5A26-4DAC-9F83-8E88D83AB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645A91-69E2-47A1-936C-698CACCA6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C9A848-D6C8-420A-A029-EC5DAD815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303A25-7F16-4909-B7B3-ACADCBDB7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165475-8C60-440D-9FCD-628882B1F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EB2DBD-2997-4036-95A5-B24B85425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52EA0F-1DFC-4C41-90BF-8A998FA67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11F148-64AA-4726-8956-352B477FE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3F0FD4-DE6A-4175-976B-7F9DC3750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8EFF10-368C-4AA4-B402-810EF1CED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052C39-E59C-44EB-90C2-CDE0E64A2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F5F6E5-0239-4432-9D70-E8907135C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F0C7D6-2887-471E-9C40-47CFFD283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66C2ED-B92C-4E4B-A886-36873B218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609900-B8DF-43CD-B490-60DF2B318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71D26C-A91B-4ED1-A032-C8C9D90AB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1E99CD-74E6-423B-A7C4-CFBA0C127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CC83CC-E83A-4D1D-BD22-E0BAF93FE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B5F37F-38E5-45E0-915C-CC90B353F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62EEBB-EA60-4152-B4E0-E16F3E437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5559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3428640" y="65559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63938-DED9-4E39-96F1-C4D1B5ABCF93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-360" y="1143000"/>
            <a:ext cx="7086600" cy="22320"/>
            <a:chOff x="-360" y="1143000"/>
            <a:chExt cx="7086600" cy="22320"/>
          </a:xfrm>
        </p:grpSpPr>
        <p:sp>
          <p:nvSpPr>
            <p:cNvPr id="3" name=""/>
            <p:cNvSpPr/>
            <p:nvPr/>
          </p:nvSpPr>
          <p:spPr>
            <a:xfrm flipH="1">
              <a:off x="-360" y="1143000"/>
              <a:ext cx="7086600" cy="0"/>
            </a:xfrm>
            <a:prstGeom prst="line">
              <a:avLst/>
            </a:prstGeom>
            <a:ln w="190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1165320"/>
              <a:ext cx="3124080" cy="0"/>
            </a:xfrm>
            <a:prstGeom prst="line">
              <a:avLst/>
            </a:prstGeom>
            <a:ln w="763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984c9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3984c9"/>
              </a:solidFill>
              <a:latin typeface="Verdan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e815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3984c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dt" idx="3"/>
          </p:nvPr>
        </p:nvSpPr>
        <p:spPr>
          <a:xfrm>
            <a:off x="13712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黑体"/>
                <a:ea typeface="黑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4"/>
          </p:nvPr>
        </p:nvSpPr>
        <p:spPr>
          <a:xfrm>
            <a:off x="1371240" y="6476760"/>
            <a:ext cx="28954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黑体"/>
                <a:ea typeface="黑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5"/>
          </p:nvPr>
        </p:nvSpPr>
        <p:spPr>
          <a:xfrm>
            <a:off x="13712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86749-A5D2-4712-9645-748E366805F7}" type="slidenum">
              <a:rPr b="0" lang="en-US" sz="1200" spc="-1" strike="noStrike">
                <a:solidFill>
                  <a:srgbClr val="ffffff"/>
                </a:solidFill>
                <a:latin typeface="黑体"/>
                <a:ea typeface="黑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title"/>
          </p:nvPr>
        </p:nvSpPr>
        <p:spPr>
          <a:xfrm>
            <a:off x="2590920" y="2514240"/>
            <a:ext cx="63244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984c9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3984c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336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3366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60007-4E41-49FC-8649-3064ACCB05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819160" y="3365640"/>
            <a:ext cx="601956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2895120" y="4038480"/>
            <a:ext cx="5715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984c9"/>
                </a:solidFill>
                <a:latin typeface="Verdana"/>
              </a:rPr>
              <a:t>Click to add title</a:t>
            </a:r>
            <a:endParaRPr b="1" lang="en-US" sz="2800" spc="-1" strike="noStrike">
              <a:solidFill>
                <a:srgbClr val="3984c9"/>
              </a:solidFill>
              <a:latin typeface="Verdana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1452600" y="1444680"/>
            <a:ext cx="5769000" cy="4574880"/>
            <a:chOff x="1452600" y="1444680"/>
            <a:chExt cx="5769000" cy="4574880"/>
          </a:xfrm>
        </p:grpSpPr>
        <p:sp>
          <p:nvSpPr>
            <p:cNvPr id="323" name=""/>
            <p:cNvSpPr/>
            <p:nvPr/>
          </p:nvSpPr>
          <p:spPr>
            <a:xfrm rot="13770000">
              <a:off x="4914720" y="3882960"/>
              <a:ext cx="960480" cy="191880"/>
            </a:xfrm>
            <a:prstGeom prst="rect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323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 rot="20856000">
              <a:off x="2928600" y="3433680"/>
              <a:ext cx="1009800" cy="173160"/>
            </a:xfrm>
            <a:prstGeom prst="rect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614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325" name=""/>
            <p:cNvGrpSpPr/>
            <p:nvPr/>
          </p:nvGrpSpPr>
          <p:grpSpPr>
            <a:xfrm>
              <a:off x="3867120" y="2127240"/>
              <a:ext cx="1702800" cy="1836360"/>
              <a:chOff x="3867120" y="2127240"/>
              <a:chExt cx="1702800" cy="1836360"/>
            </a:xfrm>
          </p:grpSpPr>
          <p:sp>
            <p:nvSpPr>
              <p:cNvPr id="326" name=""/>
              <p:cNvSpPr/>
              <p:nvPr/>
            </p:nvSpPr>
            <p:spPr>
              <a:xfrm rot="18394200">
                <a:off x="5041440" y="2339640"/>
                <a:ext cx="595800" cy="131760"/>
              </a:xfrm>
              <a:prstGeom prst="rect">
                <a:avLst/>
              </a:prstGeom>
              <a:gradFill rotWithShape="0">
                <a:gsLst>
                  <a:gs pos="0">
                    <a:srgbClr val="454545"/>
                  </a:gs>
                  <a:gs pos="50000">
                    <a:srgbClr val="969696"/>
                  </a:gs>
                  <a:gs pos="100000">
                    <a:srgbClr val="454545"/>
                  </a:gs>
                </a:gsLst>
                <a:lin ang="8604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grpSp>
            <p:nvGrpSpPr>
              <p:cNvPr id="327" name=""/>
              <p:cNvGrpSpPr/>
              <p:nvPr/>
            </p:nvGrpSpPr>
            <p:grpSpPr>
              <a:xfrm>
                <a:off x="3867120" y="2375640"/>
                <a:ext cx="1609560" cy="1587960"/>
                <a:chOff x="3867120" y="2375640"/>
                <a:chExt cx="1609560" cy="1587960"/>
              </a:xfrm>
            </p:grpSpPr>
            <p:sp>
              <p:nvSpPr>
                <p:cNvPr id="328" name=""/>
                <p:cNvSpPr/>
                <p:nvPr/>
              </p:nvSpPr>
              <p:spPr>
                <a:xfrm>
                  <a:off x="3867120" y="2375640"/>
                  <a:ext cx="1609560" cy="1587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0a8b0"/>
                    </a:gs>
                    <a:gs pos="100000">
                      <a:srgbClr val="22282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29" name="未知"/>
                <p:cNvSpPr/>
                <p:nvPr/>
              </p:nvSpPr>
              <p:spPr>
                <a:xfrm>
                  <a:off x="4051080" y="2401920"/>
                  <a:ext cx="1241640" cy="5990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0a8b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0" name=""/>
              <p:cNvSpPr/>
              <p:nvPr/>
            </p:nvSpPr>
            <p:spPr>
              <a:xfrm>
                <a:off x="3953880" y="3066840"/>
                <a:ext cx="1398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331" name=""/>
            <p:cNvGrpSpPr/>
            <p:nvPr/>
          </p:nvGrpSpPr>
          <p:grpSpPr>
            <a:xfrm>
              <a:off x="5276880" y="1444680"/>
              <a:ext cx="891720" cy="861840"/>
              <a:chOff x="5276880" y="1444680"/>
              <a:chExt cx="891720" cy="861840"/>
            </a:xfrm>
          </p:grpSpPr>
          <p:grpSp>
            <p:nvGrpSpPr>
              <p:cNvPr id="332" name=""/>
              <p:cNvGrpSpPr/>
              <p:nvPr/>
            </p:nvGrpSpPr>
            <p:grpSpPr>
              <a:xfrm>
                <a:off x="5276880" y="1444680"/>
                <a:ext cx="871560" cy="861840"/>
                <a:chOff x="5276880" y="1444680"/>
                <a:chExt cx="871560" cy="861840"/>
              </a:xfrm>
            </p:grpSpPr>
            <p:sp>
              <p:nvSpPr>
                <p:cNvPr id="333" name=""/>
                <p:cNvSpPr/>
                <p:nvPr/>
              </p:nvSpPr>
              <p:spPr>
                <a:xfrm>
                  <a:off x="5276880" y="1444680"/>
                  <a:ext cx="871560" cy="86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984c9"/>
                    </a:gs>
                    <a:gs pos="100000">
                      <a:srgbClr val="193b5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34" name="未知"/>
                <p:cNvSpPr/>
                <p:nvPr/>
              </p:nvSpPr>
              <p:spPr>
                <a:xfrm>
                  <a:off x="5376240" y="1458720"/>
                  <a:ext cx="672480" cy="3250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3984c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5" name=""/>
              <p:cNvSpPr/>
              <p:nvPr/>
            </p:nvSpPr>
            <p:spPr>
              <a:xfrm>
                <a:off x="5297400" y="1776600"/>
                <a:ext cx="871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Verdana"/>
                  </a:rPr>
                  <a:t>Concept</a:t>
                </a:r>
                <a:endParaRPr b="0" lang="en-US" sz="1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1452600" y="2770200"/>
              <a:ext cx="1744560" cy="1790640"/>
              <a:chOff x="1452600" y="2770200"/>
              <a:chExt cx="1744560" cy="1790640"/>
            </a:xfrm>
          </p:grpSpPr>
          <p:grpSp>
            <p:nvGrpSpPr>
              <p:cNvPr id="337" name=""/>
              <p:cNvGrpSpPr/>
              <p:nvPr/>
            </p:nvGrpSpPr>
            <p:grpSpPr>
              <a:xfrm>
                <a:off x="1452600" y="2770200"/>
                <a:ext cx="1744560" cy="1790640"/>
                <a:chOff x="1452600" y="2770200"/>
                <a:chExt cx="1744560" cy="1790640"/>
              </a:xfrm>
            </p:grpSpPr>
            <p:sp>
              <p:nvSpPr>
                <p:cNvPr id="338" name=""/>
                <p:cNvSpPr/>
                <p:nvPr/>
              </p:nvSpPr>
              <p:spPr>
                <a:xfrm>
                  <a:off x="1452600" y="2770200"/>
                  <a:ext cx="1744560" cy="1790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7ae26"/>
                    </a:gs>
                    <a:gs pos="100000">
                      <a:srgbClr val="557d1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39" name="未知"/>
                <p:cNvSpPr/>
                <p:nvPr/>
              </p:nvSpPr>
              <p:spPr>
                <a:xfrm>
                  <a:off x="1652040" y="2799720"/>
                  <a:ext cx="1345680" cy="6757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77ae2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0" name=""/>
              <p:cNvSpPr/>
              <p:nvPr/>
            </p:nvSpPr>
            <p:spPr>
              <a:xfrm>
                <a:off x="1546920" y="3565440"/>
                <a:ext cx="1543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341" name=""/>
            <p:cNvGrpSpPr/>
            <p:nvPr/>
          </p:nvGrpSpPr>
          <p:grpSpPr>
            <a:xfrm>
              <a:off x="5208480" y="4030560"/>
              <a:ext cx="2013120" cy="1989000"/>
              <a:chOff x="5208480" y="4030560"/>
              <a:chExt cx="2013120" cy="1989000"/>
            </a:xfrm>
          </p:grpSpPr>
          <p:grpSp>
            <p:nvGrpSpPr>
              <p:cNvPr id="342" name=""/>
              <p:cNvGrpSpPr/>
              <p:nvPr/>
            </p:nvGrpSpPr>
            <p:grpSpPr>
              <a:xfrm>
                <a:off x="5208480" y="4030560"/>
                <a:ext cx="2013120" cy="1989000"/>
                <a:chOff x="5208480" y="4030560"/>
                <a:chExt cx="2013120" cy="1989000"/>
              </a:xfrm>
            </p:grpSpPr>
            <p:sp>
              <p:nvSpPr>
                <p:cNvPr id="343" name=""/>
                <p:cNvSpPr/>
                <p:nvPr/>
              </p:nvSpPr>
              <p:spPr>
                <a:xfrm>
                  <a:off x="5208480" y="4030560"/>
                  <a:ext cx="2013120" cy="1989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e815b"/>
                    </a:gs>
                    <a:gs pos="100000">
                      <a:srgbClr val="3b463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44" name="未知"/>
                <p:cNvSpPr/>
                <p:nvPr/>
              </p:nvSpPr>
              <p:spPr>
                <a:xfrm>
                  <a:off x="5438520" y="4063320"/>
                  <a:ext cx="1553040" cy="7506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fefe"/>
                    </a:gs>
                    <a:gs pos="100000">
                      <a:srgbClr val="6e815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5" name=""/>
              <p:cNvSpPr/>
              <p:nvPr/>
            </p:nvSpPr>
            <p:spPr>
              <a:xfrm>
                <a:off x="5496840" y="4892400"/>
                <a:ext cx="1600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984c9"/>
                </a:solidFill>
                <a:latin typeface="Verdana"/>
              </a:rPr>
              <a:t>Click to add title</a:t>
            </a:r>
            <a:endParaRPr b="1" lang="en-US" sz="2800" spc="-1" strike="noStrike">
              <a:solidFill>
                <a:srgbClr val="3984c9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 rot="17973000">
            <a:off x="4615560" y="267552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3984c9"/>
              </a:gs>
              <a:gs pos="100000">
                <a:srgbClr val="3275b2">
                  <a:alpha val="0"/>
                </a:srgbClr>
              </a:gs>
            </a:gsLst>
            <a:lin ang="144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rot="3465600">
            <a:off x="4614840" y="483948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3984c9"/>
              </a:gs>
              <a:gs pos="100000">
                <a:srgbClr val="3275b2">
                  <a:alpha val="0"/>
                </a:srgbClr>
              </a:gs>
            </a:gsLst>
            <a:lin ang="73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rot="14368800">
            <a:off x="3396240" y="275148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3984c9"/>
              </a:gs>
              <a:gs pos="100000">
                <a:srgbClr val="3275b2">
                  <a:alpha val="0"/>
                </a:srgbClr>
              </a:gs>
            </a:gsLst>
            <a:lin ang="180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rot="7534800">
            <a:off x="3358080" y="480600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3984c9"/>
              </a:gs>
              <a:gs pos="100000">
                <a:srgbClr val="3275b2">
                  <a:alpha val="0"/>
                </a:srgbClr>
              </a:gs>
            </a:gsLst>
            <a:lin ang="32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194440" y="380376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3984c9"/>
              </a:gs>
              <a:gs pos="100000">
                <a:srgbClr val="3275b2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 rot="10800000">
            <a:off x="2784240" y="3796920"/>
            <a:ext cx="863640" cy="289080"/>
          </a:xfrm>
          <a:prstGeom prst="rightArrow">
            <a:avLst>
              <a:gd name="adj1" fmla="val 35167"/>
              <a:gd name="adj2" fmla="val 120982"/>
            </a:avLst>
          </a:prstGeom>
          <a:gradFill rotWithShape="0">
            <a:gsLst>
              <a:gs pos="0">
                <a:srgbClr val="3984c9"/>
              </a:gs>
              <a:gs pos="100000">
                <a:srgbClr val="3275b2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505240" y="2046240"/>
            <a:ext cx="3743280" cy="3745080"/>
          </a:xfrm>
          <a:prstGeom prst="ellipse">
            <a:avLst/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3267000" y="2093760"/>
            <a:ext cx="360360" cy="360360"/>
            <a:chOff x="3267000" y="2093760"/>
            <a:chExt cx="360360" cy="360360"/>
          </a:xfrm>
        </p:grpSpPr>
        <p:sp>
          <p:nvSpPr>
            <p:cNvPr id="355" name=""/>
            <p:cNvSpPr/>
            <p:nvPr/>
          </p:nvSpPr>
          <p:spPr>
            <a:xfrm>
              <a:off x="3267000" y="20937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0e2b5"/>
                </a:gs>
                <a:gs pos="100000">
                  <a:srgbClr val="77ae2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282840" y="21240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0e2b5"/>
                </a:gs>
                <a:gs pos="100000">
                  <a:srgbClr val="77ae2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2322360" y="3749760"/>
            <a:ext cx="360360" cy="360360"/>
            <a:chOff x="2322360" y="3749760"/>
            <a:chExt cx="360360" cy="360360"/>
          </a:xfrm>
        </p:grpSpPr>
        <p:sp>
          <p:nvSpPr>
            <p:cNvPr id="358" name=""/>
            <p:cNvSpPr/>
            <p:nvPr/>
          </p:nvSpPr>
          <p:spPr>
            <a:xfrm>
              <a:off x="2322360" y="37497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0e2b5"/>
                </a:gs>
                <a:gs pos="100000">
                  <a:srgbClr val="77ae2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338200" y="37800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0e2b5"/>
                </a:gs>
                <a:gs pos="100000">
                  <a:srgbClr val="77ae2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3186000" y="5292720"/>
            <a:ext cx="360360" cy="360360"/>
            <a:chOff x="3186000" y="5292720"/>
            <a:chExt cx="360360" cy="360360"/>
          </a:xfrm>
        </p:grpSpPr>
        <p:sp>
          <p:nvSpPr>
            <p:cNvPr id="361" name=""/>
            <p:cNvSpPr/>
            <p:nvPr/>
          </p:nvSpPr>
          <p:spPr>
            <a:xfrm>
              <a:off x="3186000" y="52927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0e2b5"/>
                </a:gs>
                <a:gs pos="100000">
                  <a:srgbClr val="77ae2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201840" y="53229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0e2b5"/>
                </a:gs>
                <a:gs pos="100000">
                  <a:srgbClr val="77ae2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5116680" y="2073240"/>
            <a:ext cx="360360" cy="360360"/>
            <a:chOff x="5116680" y="2073240"/>
            <a:chExt cx="360360" cy="360360"/>
          </a:xfrm>
        </p:grpSpPr>
        <p:sp>
          <p:nvSpPr>
            <p:cNvPr id="364" name=""/>
            <p:cNvSpPr/>
            <p:nvPr/>
          </p:nvSpPr>
          <p:spPr>
            <a:xfrm>
              <a:off x="5116680" y="20732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0e2b5"/>
                </a:gs>
                <a:gs pos="100000">
                  <a:srgbClr val="77ae2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132520" y="210348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0e2b5"/>
                </a:gs>
                <a:gs pos="100000">
                  <a:srgbClr val="77ae2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6066000" y="3749760"/>
            <a:ext cx="360360" cy="360360"/>
            <a:chOff x="6066000" y="3749760"/>
            <a:chExt cx="360360" cy="360360"/>
          </a:xfrm>
        </p:grpSpPr>
        <p:sp>
          <p:nvSpPr>
            <p:cNvPr id="367" name=""/>
            <p:cNvSpPr/>
            <p:nvPr/>
          </p:nvSpPr>
          <p:spPr>
            <a:xfrm>
              <a:off x="6066000" y="37497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0e2b5"/>
                </a:gs>
                <a:gs pos="100000">
                  <a:srgbClr val="77ae2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081840" y="37800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0e2b5"/>
                </a:gs>
                <a:gs pos="100000">
                  <a:srgbClr val="77ae2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5172120" y="5349960"/>
            <a:ext cx="360360" cy="360360"/>
            <a:chOff x="5172120" y="5349960"/>
            <a:chExt cx="360360" cy="360360"/>
          </a:xfrm>
        </p:grpSpPr>
        <p:sp>
          <p:nvSpPr>
            <p:cNvPr id="370" name=""/>
            <p:cNvSpPr/>
            <p:nvPr/>
          </p:nvSpPr>
          <p:spPr>
            <a:xfrm>
              <a:off x="5172120" y="53499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0e2b5"/>
                </a:gs>
                <a:gs pos="100000">
                  <a:srgbClr val="77ae2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187960" y="53802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0e2b5"/>
                </a:gs>
                <a:gs pos="100000">
                  <a:srgbClr val="77ae2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72" name=""/>
          <p:cNvSpPr/>
          <p:nvPr/>
        </p:nvSpPr>
        <p:spPr>
          <a:xfrm>
            <a:off x="3462480" y="298764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6e815b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456000" y="297180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323b29"/>
              </a:gs>
              <a:gs pos="100000">
                <a:srgbClr val="6e815b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589200" y="3114720"/>
            <a:ext cx="1690920" cy="1690560"/>
          </a:xfrm>
          <a:prstGeom prst="ellipse">
            <a:avLst/>
          </a:prstGeom>
          <a:gradFill rotWithShape="0">
            <a:gsLst>
              <a:gs pos="0">
                <a:srgbClr val="3b4531"/>
              </a:gs>
              <a:gs pos="50000">
                <a:srgbClr val="6e815b"/>
              </a:gs>
              <a:gs pos="100000">
                <a:srgbClr val="3b4531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571920" y="3087720"/>
            <a:ext cx="1690560" cy="1690560"/>
          </a:xfrm>
          <a:prstGeom prst="ellipse">
            <a:avLst/>
          </a:prstGeom>
          <a:gradFill rotWithShape="0">
            <a:gsLst>
              <a:gs pos="0">
                <a:srgbClr val="6e815b">
                  <a:alpha val="0"/>
                </a:srgbClr>
              </a:gs>
              <a:gs pos="100000">
                <a:srgbClr val="45513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673440" y="3198960"/>
            <a:ext cx="1522440" cy="15224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695760" y="3218040"/>
            <a:ext cx="1471680" cy="147312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713040" y="3227400"/>
            <a:ext cx="1438560" cy="143496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728880" y="3241800"/>
            <a:ext cx="1366920" cy="134136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809880" y="3278160"/>
            <a:ext cx="1214640" cy="10908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4002840" y="368784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556600" y="202104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667160" y="202104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471000" y="377352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56600" y="537372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752760" y="377352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590840" y="531180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984c9"/>
                </a:solidFill>
                <a:latin typeface="Verdana"/>
              </a:rPr>
              <a:t>Click to add title</a:t>
            </a:r>
            <a:endParaRPr b="1" lang="en-US" sz="2800" spc="-1" strike="noStrike">
              <a:solidFill>
                <a:srgbClr val="3984c9"/>
              </a:solidFill>
              <a:latin typeface="Verdana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1265400" y="1832040"/>
            <a:ext cx="2170080" cy="4034880"/>
            <a:chOff x="1265400" y="1832040"/>
            <a:chExt cx="2170080" cy="4034880"/>
          </a:xfrm>
        </p:grpSpPr>
        <p:sp>
          <p:nvSpPr>
            <p:cNvPr id="390" name=""/>
            <p:cNvSpPr/>
            <p:nvPr/>
          </p:nvSpPr>
          <p:spPr>
            <a:xfrm>
              <a:off x="126540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77a4"/>
                </a:gs>
                <a:gs pos="100000">
                  <a:srgbClr val="4e91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29888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31616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acdf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31616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ddef5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27188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31616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396" name=""/>
            <p:cNvGrpSpPr/>
            <p:nvPr/>
          </p:nvGrpSpPr>
          <p:grpSpPr>
            <a:xfrm>
              <a:off x="2009880" y="1832040"/>
              <a:ext cx="642960" cy="642600"/>
              <a:chOff x="2009880" y="1832040"/>
              <a:chExt cx="642960" cy="642600"/>
            </a:xfrm>
          </p:grpSpPr>
          <p:sp>
            <p:nvSpPr>
              <p:cNvPr id="397" name=""/>
              <p:cNvSpPr/>
              <p:nvPr/>
            </p:nvSpPr>
            <p:spPr>
              <a:xfrm>
                <a:off x="200988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201636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202428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2030760" y="184608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06460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402" name=""/>
            <p:cNvSpPr/>
            <p:nvPr/>
          </p:nvSpPr>
          <p:spPr>
            <a:xfrm>
              <a:off x="214992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34172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3627360" y="1832040"/>
            <a:ext cx="2166840" cy="4034880"/>
            <a:chOff x="3627360" y="1832040"/>
            <a:chExt cx="2166840" cy="4034880"/>
          </a:xfrm>
        </p:grpSpPr>
        <p:sp>
          <p:nvSpPr>
            <p:cNvPr id="405" name=""/>
            <p:cNvSpPr/>
            <p:nvPr/>
          </p:nvSpPr>
          <p:spPr>
            <a:xfrm>
              <a:off x="362736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f8b4a"/>
                </a:gs>
                <a:gs pos="100000">
                  <a:srgbClr val="34b0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66084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67812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1f0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67812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ff6d3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371840" y="18320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378320" y="1836360"/>
              <a:ext cx="622080" cy="6220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386240" y="1839600"/>
              <a:ext cx="60804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392360" y="1846080"/>
              <a:ext cx="578160" cy="56628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427640" y="1861920"/>
              <a:ext cx="512640" cy="460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51188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70368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63060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674880" y="5020920"/>
              <a:ext cx="207036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5983200" y="1832040"/>
            <a:ext cx="2170080" cy="4034880"/>
            <a:chOff x="5983200" y="1832040"/>
            <a:chExt cx="2170080" cy="4034880"/>
          </a:xfrm>
        </p:grpSpPr>
        <p:sp>
          <p:nvSpPr>
            <p:cNvPr id="419" name=""/>
            <p:cNvSpPr/>
            <p:nvPr/>
          </p:nvSpPr>
          <p:spPr>
            <a:xfrm>
              <a:off x="598968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8f8849"/>
                </a:gs>
                <a:gs pos="100000">
                  <a:srgbClr val="b59f4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02280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04044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1eca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04044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6f3ca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423" name=""/>
            <p:cNvGrpSpPr/>
            <p:nvPr/>
          </p:nvGrpSpPr>
          <p:grpSpPr>
            <a:xfrm>
              <a:off x="6734160" y="1832040"/>
              <a:ext cx="642960" cy="642600"/>
              <a:chOff x="6734160" y="1832040"/>
              <a:chExt cx="642960" cy="642600"/>
            </a:xfrm>
          </p:grpSpPr>
          <p:sp>
            <p:nvSpPr>
              <p:cNvPr id="424" name=""/>
              <p:cNvSpPr/>
              <p:nvPr/>
            </p:nvSpPr>
            <p:spPr>
              <a:xfrm>
                <a:off x="673416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674064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674856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6755040" y="184608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678888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429" name=""/>
            <p:cNvSpPr/>
            <p:nvPr/>
          </p:nvSpPr>
          <p:spPr>
            <a:xfrm>
              <a:off x="687420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0656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98320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027480" y="5020920"/>
              <a:ext cx="207036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984c9"/>
                </a:solidFill>
                <a:latin typeface="Verdana"/>
              </a:rPr>
              <a:t>Click to add title</a:t>
            </a:r>
            <a:endParaRPr b="1" lang="en-US" sz="2800" spc="-1" strike="noStrike">
              <a:solidFill>
                <a:srgbClr val="3984c9"/>
              </a:solidFill>
              <a:latin typeface="Verdana"/>
            </a:endParaRPr>
          </a:p>
        </p:txBody>
      </p:sp>
      <p:grpSp>
        <p:nvGrpSpPr>
          <p:cNvPr id="434" name=""/>
          <p:cNvGrpSpPr/>
          <p:nvPr/>
        </p:nvGrpSpPr>
        <p:grpSpPr>
          <a:xfrm>
            <a:off x="0" y="3238560"/>
            <a:ext cx="9144000" cy="122040"/>
            <a:chOff x="0" y="3238560"/>
            <a:chExt cx="9144000" cy="122040"/>
          </a:xfrm>
        </p:grpSpPr>
        <p:sp>
          <p:nvSpPr>
            <p:cNvPr id="435" name=""/>
            <p:cNvSpPr/>
            <p:nvPr/>
          </p:nvSpPr>
          <p:spPr>
            <a:xfrm>
              <a:off x="0" y="3238560"/>
              <a:ext cx="9144000" cy="475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0" y="3285360"/>
              <a:ext cx="9144000" cy="75240"/>
            </a:xfrm>
            <a:prstGeom prst="rect">
              <a:avLst/>
            </a:prstGeom>
            <a:gradFill rotWithShape="0">
              <a:gsLst>
                <a:gs pos="0">
                  <a:srgbClr val="cdcdcd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4721760" y="3529440"/>
            <a:ext cx="1523160" cy="2421720"/>
            <a:chOff x="4721760" y="3529440"/>
            <a:chExt cx="1523160" cy="2421720"/>
          </a:xfrm>
        </p:grpSpPr>
        <p:grpSp>
          <p:nvGrpSpPr>
            <p:cNvPr id="438" name=""/>
            <p:cNvGrpSpPr/>
            <p:nvPr/>
          </p:nvGrpSpPr>
          <p:grpSpPr>
            <a:xfrm>
              <a:off x="4721760" y="3686760"/>
              <a:ext cx="1418400" cy="2264400"/>
              <a:chOff x="4721760" y="3686760"/>
              <a:chExt cx="1418400" cy="2264400"/>
            </a:xfrm>
          </p:grpSpPr>
          <p:sp>
            <p:nvSpPr>
              <p:cNvPr id="439" name="未知"/>
              <p:cNvSpPr/>
              <p:nvPr/>
            </p:nvSpPr>
            <p:spPr>
              <a:xfrm rot="3876600">
                <a:off x="4294080" y="4573080"/>
                <a:ext cx="2273400" cy="4910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40" name="未知"/>
              <p:cNvSpPr/>
              <p:nvPr/>
            </p:nvSpPr>
            <p:spPr>
              <a:xfrm rot="3876600">
                <a:off x="565992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41" name=""/>
            <p:cNvGrpSpPr/>
            <p:nvPr/>
          </p:nvGrpSpPr>
          <p:grpSpPr>
            <a:xfrm>
              <a:off x="5156640" y="3529440"/>
              <a:ext cx="1088280" cy="1737360"/>
              <a:chOff x="5156640" y="3529440"/>
              <a:chExt cx="1088280" cy="1737360"/>
            </a:xfrm>
          </p:grpSpPr>
          <p:sp>
            <p:nvSpPr>
              <p:cNvPr id="442" name="未知"/>
              <p:cNvSpPr/>
              <p:nvPr/>
            </p:nvSpPr>
            <p:spPr>
              <a:xfrm flipV="1" rot="3876600">
                <a:off x="4828320" y="4209840"/>
                <a:ext cx="1744560" cy="37656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43" name="未知"/>
              <p:cNvSpPr/>
              <p:nvPr/>
            </p:nvSpPr>
            <p:spPr>
              <a:xfrm flipV="1" rot="3876600">
                <a:off x="5861160" y="4889880"/>
                <a:ext cx="273960" cy="30816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grpSp>
        <p:nvGrpSpPr>
          <p:cNvPr id="444" name=""/>
          <p:cNvGrpSpPr/>
          <p:nvPr/>
        </p:nvGrpSpPr>
        <p:grpSpPr>
          <a:xfrm>
            <a:off x="4313160" y="2685960"/>
            <a:ext cx="1270080" cy="1308240"/>
            <a:chOff x="4313160" y="2685960"/>
            <a:chExt cx="1270080" cy="1308240"/>
          </a:xfrm>
        </p:grpSpPr>
        <p:sp>
          <p:nvSpPr>
            <p:cNvPr id="445" name="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397040" y="2770920"/>
              <a:ext cx="1101600" cy="113652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397040" y="2773800"/>
              <a:ext cx="1101600" cy="113652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451760" y="2828880"/>
              <a:ext cx="992520" cy="10224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450" name=""/>
            <p:cNvGrpSpPr/>
            <p:nvPr/>
          </p:nvGrpSpPr>
          <p:grpSpPr>
            <a:xfrm>
              <a:off x="4466880" y="2844360"/>
              <a:ext cx="961920" cy="992160"/>
              <a:chOff x="4466880" y="2844360"/>
              <a:chExt cx="961920" cy="992160"/>
            </a:xfrm>
          </p:grpSpPr>
          <p:sp>
            <p:nvSpPr>
              <p:cNvPr id="451" name=""/>
              <p:cNvSpPr/>
              <p:nvPr/>
            </p:nvSpPr>
            <p:spPr>
              <a:xfrm>
                <a:off x="4466880" y="2844360"/>
                <a:ext cx="961920" cy="99216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4479120" y="2849760"/>
                <a:ext cx="938880" cy="9676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4488840" y="2859120"/>
                <a:ext cx="892800" cy="90396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4541400" y="2884680"/>
                <a:ext cx="793440" cy="7336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grpSp>
        <p:nvGrpSpPr>
          <p:cNvPr id="455" name=""/>
          <p:cNvGrpSpPr/>
          <p:nvPr/>
        </p:nvGrpSpPr>
        <p:grpSpPr>
          <a:xfrm>
            <a:off x="6688800" y="3595680"/>
            <a:ext cx="1523880" cy="2422080"/>
            <a:chOff x="6688800" y="3595680"/>
            <a:chExt cx="1523880" cy="2422080"/>
          </a:xfrm>
        </p:grpSpPr>
        <p:grpSp>
          <p:nvGrpSpPr>
            <p:cNvPr id="456" name=""/>
            <p:cNvGrpSpPr/>
            <p:nvPr/>
          </p:nvGrpSpPr>
          <p:grpSpPr>
            <a:xfrm>
              <a:off x="6688800" y="3753360"/>
              <a:ext cx="1418760" cy="2264400"/>
              <a:chOff x="6688800" y="3753360"/>
              <a:chExt cx="1418760" cy="2264400"/>
            </a:xfrm>
          </p:grpSpPr>
          <p:sp>
            <p:nvSpPr>
              <p:cNvPr id="457" name="未知"/>
              <p:cNvSpPr/>
              <p:nvPr/>
            </p:nvSpPr>
            <p:spPr>
              <a:xfrm rot="3876600">
                <a:off x="6261120" y="46396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58" name="未知"/>
              <p:cNvSpPr/>
              <p:nvPr/>
            </p:nvSpPr>
            <p:spPr>
              <a:xfrm rot="3876600">
                <a:off x="7627320" y="55180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59" name=""/>
            <p:cNvGrpSpPr/>
            <p:nvPr/>
          </p:nvGrpSpPr>
          <p:grpSpPr>
            <a:xfrm>
              <a:off x="7124040" y="3595680"/>
              <a:ext cx="1088640" cy="1737720"/>
              <a:chOff x="7124040" y="3595680"/>
              <a:chExt cx="1088640" cy="1737720"/>
            </a:xfrm>
          </p:grpSpPr>
          <p:sp>
            <p:nvSpPr>
              <p:cNvPr id="460" name="未知"/>
              <p:cNvSpPr/>
              <p:nvPr/>
            </p:nvSpPr>
            <p:spPr>
              <a:xfrm flipV="1" rot="3876600">
                <a:off x="6795720" y="42757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61" name="未知"/>
              <p:cNvSpPr/>
              <p:nvPr/>
            </p:nvSpPr>
            <p:spPr>
              <a:xfrm flipV="1" rot="3876600">
                <a:off x="7828560" y="49564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462" name="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3399ff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3399ff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191280" y="2644920"/>
            <a:ext cx="1324080" cy="1361880"/>
          </a:xfrm>
          <a:prstGeom prst="ellipse">
            <a:avLst/>
          </a:prstGeom>
          <a:gradFill rotWithShape="0">
            <a:gsLst>
              <a:gs pos="0">
                <a:srgbClr val="1b5289"/>
              </a:gs>
              <a:gs pos="50000">
                <a:srgbClr val="3399ff"/>
              </a:gs>
              <a:gs pos="100000">
                <a:srgbClr val="1b528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6192720" y="2647800"/>
            <a:ext cx="1324080" cy="1362240"/>
          </a:xfrm>
          <a:prstGeom prst="ellipse">
            <a:avLst/>
          </a:prstGeom>
          <a:gradFill rotWithShape="0">
            <a:gsLst>
              <a:gs pos="0">
                <a:srgbClr val="3399ff">
                  <a:alpha val="0"/>
                </a:srgbClr>
              </a:gs>
              <a:gs pos="100000">
                <a:srgbClr val="2060a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6256440" y="2712960"/>
            <a:ext cx="1191960" cy="12258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6275520" y="2732040"/>
            <a:ext cx="1155600" cy="1189080"/>
            <a:chOff x="6275520" y="2732040"/>
            <a:chExt cx="1155600" cy="1189080"/>
          </a:xfrm>
        </p:grpSpPr>
        <p:sp>
          <p:nvSpPr>
            <p:cNvPr id="468" name=""/>
            <p:cNvSpPr/>
            <p:nvPr/>
          </p:nvSpPr>
          <p:spPr>
            <a:xfrm>
              <a:off x="6275520" y="2732040"/>
              <a:ext cx="1155600" cy="11890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6290280" y="2738520"/>
              <a:ext cx="1127880" cy="1159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302160" y="2750040"/>
              <a:ext cx="1072440" cy="10836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364800" y="2780280"/>
              <a:ext cx="953280" cy="8791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72" name=""/>
          <p:cNvGrpSpPr/>
          <p:nvPr/>
        </p:nvGrpSpPr>
        <p:grpSpPr>
          <a:xfrm>
            <a:off x="2916720" y="3529440"/>
            <a:ext cx="1523160" cy="2421720"/>
            <a:chOff x="2916720" y="3529440"/>
            <a:chExt cx="1523160" cy="2421720"/>
          </a:xfrm>
        </p:grpSpPr>
        <p:grpSp>
          <p:nvGrpSpPr>
            <p:cNvPr id="473" name=""/>
            <p:cNvGrpSpPr/>
            <p:nvPr/>
          </p:nvGrpSpPr>
          <p:grpSpPr>
            <a:xfrm>
              <a:off x="2916720" y="3686760"/>
              <a:ext cx="1418400" cy="2264400"/>
              <a:chOff x="2916720" y="3686760"/>
              <a:chExt cx="1418400" cy="2264400"/>
            </a:xfrm>
          </p:grpSpPr>
          <p:sp>
            <p:nvSpPr>
              <p:cNvPr id="474" name="未知"/>
              <p:cNvSpPr/>
              <p:nvPr/>
            </p:nvSpPr>
            <p:spPr>
              <a:xfrm rot="3876600">
                <a:off x="2489040" y="4573080"/>
                <a:ext cx="2273400" cy="4910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75" name="未知"/>
              <p:cNvSpPr/>
              <p:nvPr/>
            </p:nvSpPr>
            <p:spPr>
              <a:xfrm rot="3876600">
                <a:off x="385488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3351600" y="3529440"/>
              <a:ext cx="1088280" cy="1737360"/>
              <a:chOff x="3351600" y="3529440"/>
              <a:chExt cx="1088280" cy="1737360"/>
            </a:xfrm>
          </p:grpSpPr>
          <p:sp>
            <p:nvSpPr>
              <p:cNvPr id="477" name="未知"/>
              <p:cNvSpPr/>
              <p:nvPr/>
            </p:nvSpPr>
            <p:spPr>
              <a:xfrm flipV="1" rot="3876600">
                <a:off x="3023280" y="4209840"/>
                <a:ext cx="1744560" cy="37656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78" name="未知"/>
              <p:cNvSpPr/>
              <p:nvPr/>
            </p:nvSpPr>
            <p:spPr>
              <a:xfrm flipV="1" rot="3876600">
                <a:off x="4056120" y="4889880"/>
                <a:ext cx="273960" cy="30816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grpSp>
        <p:nvGrpSpPr>
          <p:cNvPr id="479" name=""/>
          <p:cNvGrpSpPr/>
          <p:nvPr/>
        </p:nvGrpSpPr>
        <p:grpSpPr>
          <a:xfrm>
            <a:off x="2509920" y="2685960"/>
            <a:ext cx="1268280" cy="1308240"/>
            <a:chOff x="2509920" y="2685960"/>
            <a:chExt cx="1268280" cy="1308240"/>
          </a:xfrm>
        </p:grpSpPr>
        <p:sp>
          <p:nvSpPr>
            <p:cNvPr id="480" name="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593800" y="2770920"/>
              <a:ext cx="1100160" cy="113652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2593800" y="2773800"/>
              <a:ext cx="1100160" cy="113652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648160" y="2828880"/>
              <a:ext cx="991080" cy="10224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485" name=""/>
            <p:cNvGrpSpPr/>
            <p:nvPr/>
          </p:nvGrpSpPr>
          <p:grpSpPr>
            <a:xfrm>
              <a:off x="2663640" y="2844360"/>
              <a:ext cx="960480" cy="992160"/>
              <a:chOff x="2663640" y="2844360"/>
              <a:chExt cx="960480" cy="992160"/>
            </a:xfrm>
          </p:grpSpPr>
          <p:sp>
            <p:nvSpPr>
              <p:cNvPr id="486" name=""/>
              <p:cNvSpPr/>
              <p:nvPr/>
            </p:nvSpPr>
            <p:spPr>
              <a:xfrm>
                <a:off x="2663640" y="2844360"/>
                <a:ext cx="960480" cy="99216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2675880" y="2849760"/>
                <a:ext cx="937440" cy="9676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2685600" y="2859120"/>
                <a:ext cx="891360" cy="90396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2737800" y="2884680"/>
                <a:ext cx="792360" cy="7336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grpSp>
        <p:nvGrpSpPr>
          <p:cNvPr id="490" name=""/>
          <p:cNvGrpSpPr/>
          <p:nvPr/>
        </p:nvGrpSpPr>
        <p:grpSpPr>
          <a:xfrm>
            <a:off x="1170720" y="3529080"/>
            <a:ext cx="1523880" cy="2422080"/>
            <a:chOff x="1170720" y="3529080"/>
            <a:chExt cx="1523880" cy="2422080"/>
          </a:xfrm>
        </p:grpSpPr>
        <p:grpSp>
          <p:nvGrpSpPr>
            <p:cNvPr id="491" name=""/>
            <p:cNvGrpSpPr/>
            <p:nvPr/>
          </p:nvGrpSpPr>
          <p:grpSpPr>
            <a:xfrm>
              <a:off x="1170720" y="3686760"/>
              <a:ext cx="1418760" cy="2264400"/>
              <a:chOff x="1170720" y="3686760"/>
              <a:chExt cx="1418760" cy="2264400"/>
            </a:xfrm>
          </p:grpSpPr>
          <p:sp>
            <p:nvSpPr>
              <p:cNvPr id="492" name="未知"/>
              <p:cNvSpPr/>
              <p:nvPr/>
            </p:nvSpPr>
            <p:spPr>
              <a:xfrm rot="3876600">
                <a:off x="74304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93" name="未知"/>
              <p:cNvSpPr/>
              <p:nvPr/>
            </p:nvSpPr>
            <p:spPr>
              <a:xfrm rot="3876600">
                <a:off x="210924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94" name=""/>
            <p:cNvGrpSpPr/>
            <p:nvPr/>
          </p:nvGrpSpPr>
          <p:grpSpPr>
            <a:xfrm>
              <a:off x="1605960" y="3529080"/>
              <a:ext cx="1088640" cy="1737720"/>
              <a:chOff x="1605960" y="3529080"/>
              <a:chExt cx="1088640" cy="1737720"/>
            </a:xfrm>
          </p:grpSpPr>
          <p:sp>
            <p:nvSpPr>
              <p:cNvPr id="495" name="未知"/>
              <p:cNvSpPr/>
              <p:nvPr/>
            </p:nvSpPr>
            <p:spPr>
              <a:xfrm flipV="1" rot="3876600">
                <a:off x="127764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96" name="未知"/>
              <p:cNvSpPr/>
              <p:nvPr/>
            </p:nvSpPr>
            <p:spPr>
              <a:xfrm flipV="1" rot="3876600">
                <a:off x="231048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grpSp>
        <p:nvGrpSpPr>
          <p:cNvPr id="497" name=""/>
          <p:cNvGrpSpPr/>
          <p:nvPr/>
        </p:nvGrpSpPr>
        <p:grpSpPr>
          <a:xfrm>
            <a:off x="762120" y="2685960"/>
            <a:ext cx="1268280" cy="1308240"/>
            <a:chOff x="762120" y="2685960"/>
            <a:chExt cx="1268280" cy="1308240"/>
          </a:xfrm>
        </p:grpSpPr>
        <p:sp>
          <p:nvSpPr>
            <p:cNvPr id="498" name="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846000" y="2770920"/>
              <a:ext cx="1100160" cy="113652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846000" y="2773800"/>
              <a:ext cx="1100160" cy="113652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900360" y="2828880"/>
              <a:ext cx="991080" cy="10224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03" name=""/>
            <p:cNvGrpSpPr/>
            <p:nvPr/>
          </p:nvGrpSpPr>
          <p:grpSpPr>
            <a:xfrm>
              <a:off x="915840" y="2844360"/>
              <a:ext cx="960480" cy="992160"/>
              <a:chOff x="915840" y="2844360"/>
              <a:chExt cx="960480" cy="992160"/>
            </a:xfrm>
          </p:grpSpPr>
          <p:sp>
            <p:nvSpPr>
              <p:cNvPr id="504" name=""/>
              <p:cNvSpPr/>
              <p:nvPr/>
            </p:nvSpPr>
            <p:spPr>
              <a:xfrm>
                <a:off x="915840" y="2844360"/>
                <a:ext cx="960480" cy="99216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928080" y="2849760"/>
                <a:ext cx="937440" cy="9676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937800" y="2859120"/>
                <a:ext cx="891360" cy="90396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990000" y="2884680"/>
                <a:ext cx="792360" cy="7336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508" name=""/>
          <p:cNvSpPr/>
          <p:nvPr/>
        </p:nvSpPr>
        <p:spPr>
          <a:xfrm rot="3925800">
            <a:off x="112680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rot="3925800">
            <a:off x="159120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rot="3925800">
            <a:off x="286812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rot="3925800">
            <a:off x="33328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 rot="3925800">
            <a:off x="468108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 rot="3925800">
            <a:off x="51454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 rot="3925800">
            <a:off x="6633720" y="46443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 rot="3925800">
            <a:off x="7096680" y="436860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516" name=""/>
          <p:cNvGrpSpPr/>
          <p:nvPr/>
        </p:nvGrpSpPr>
        <p:grpSpPr>
          <a:xfrm>
            <a:off x="1101600" y="1828800"/>
            <a:ext cx="6056640" cy="407880"/>
            <a:chOff x="1101600" y="1828800"/>
            <a:chExt cx="6056640" cy="407880"/>
          </a:xfrm>
        </p:grpSpPr>
        <p:sp>
          <p:nvSpPr>
            <p:cNvPr id="517" name=""/>
            <p:cNvSpPr/>
            <p:nvPr/>
          </p:nvSpPr>
          <p:spPr>
            <a:xfrm>
              <a:off x="110160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e6272"/>
                  </a:solidFill>
                  <a:latin typeface="Verdana"/>
                </a:rPr>
                <a:t>2001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85588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e6272"/>
                  </a:solidFill>
                  <a:latin typeface="Verdana"/>
                </a:rPr>
                <a:t>2002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60188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e6272"/>
                  </a:solidFill>
                  <a:latin typeface="Verdana"/>
                </a:rPr>
                <a:t>2003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392160" y="1828800"/>
              <a:ext cx="76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e6272"/>
                  </a:solidFill>
                  <a:latin typeface="Verdana"/>
                </a:rPr>
                <a:t>2004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cxnSp>
          <p:nvCxnSpPr>
            <p:cNvPr id="521" name=""/>
            <p:cNvCxnSpPr>
              <a:stCxn id="517" idx="3"/>
              <a:endCxn id="518" idx="1"/>
            </p:cNvCxnSpPr>
            <p:nvPr/>
          </p:nvCxnSpPr>
          <p:spPr>
            <a:xfrm>
              <a:off x="1837800" y="2052360"/>
              <a:ext cx="986760" cy="1080"/>
            </a:xfrm>
            <a:prstGeom prst="straightConnector1">
              <a:avLst/>
            </a:prstGeom>
            <a:ln w="9360">
              <a:solidFill>
                <a:srgbClr val="2e6272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518" idx="3"/>
              <a:endCxn id="519" idx="1"/>
            </p:cNvCxnSpPr>
            <p:nvPr/>
          </p:nvCxnSpPr>
          <p:spPr>
            <a:xfrm>
              <a:off x="3592440" y="2052360"/>
              <a:ext cx="978480" cy="1080"/>
            </a:xfrm>
            <a:prstGeom prst="straightConnector1">
              <a:avLst/>
            </a:prstGeom>
            <a:ln w="9360">
              <a:solidFill>
                <a:srgbClr val="2e6272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/>
            <p:nvPr/>
          </p:nvCxnSpPr>
          <p:spPr>
            <a:xfrm>
              <a:off x="5338800" y="2057040"/>
              <a:ext cx="978480" cy="1080"/>
            </a:xfrm>
            <a:prstGeom prst="straightConnector1">
              <a:avLst/>
            </a:prstGeom>
            <a:ln w="9360">
              <a:solidFill>
                <a:srgbClr val="2e6272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984c9"/>
                </a:solidFill>
                <a:latin typeface="Verdana"/>
              </a:rPr>
              <a:t>Click to add title</a:t>
            </a:r>
            <a:endParaRPr b="1" lang="en-US" sz="2800" spc="-1" strike="noStrike">
              <a:solidFill>
                <a:srgbClr val="3984c9"/>
              </a:solidFill>
              <a:latin typeface="Verdana"/>
            </a:endParaRPr>
          </a:p>
        </p:txBody>
      </p:sp>
      <p:grpSp>
        <p:nvGrpSpPr>
          <p:cNvPr id="525" name=""/>
          <p:cNvGrpSpPr/>
          <p:nvPr/>
        </p:nvGrpSpPr>
        <p:grpSpPr>
          <a:xfrm>
            <a:off x="1676520" y="1523880"/>
            <a:ext cx="5867280" cy="1301760"/>
            <a:chOff x="1676520" y="1523880"/>
            <a:chExt cx="5867280" cy="1301760"/>
          </a:xfrm>
        </p:grpSpPr>
        <p:sp>
          <p:nvSpPr>
            <p:cNvPr id="526" name=""/>
            <p:cNvSpPr/>
            <p:nvPr/>
          </p:nvSpPr>
          <p:spPr>
            <a:xfrm>
              <a:off x="1676520" y="152388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1f1f1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27" name=""/>
            <p:cNvGrpSpPr/>
            <p:nvPr/>
          </p:nvGrpSpPr>
          <p:grpSpPr>
            <a:xfrm>
              <a:off x="1804680" y="1643400"/>
              <a:ext cx="1130760" cy="1064520"/>
              <a:chOff x="1804680" y="1643400"/>
              <a:chExt cx="1130760" cy="1064520"/>
            </a:xfrm>
          </p:grpSpPr>
          <p:sp>
            <p:nvSpPr>
              <p:cNvPr id="528" name=""/>
              <p:cNvSpPr/>
              <p:nvPr/>
            </p:nvSpPr>
            <p:spPr>
              <a:xfrm>
                <a:off x="1804680" y="1643400"/>
                <a:ext cx="113076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3984c9"/>
                  </a:gs>
                  <a:gs pos="100000">
                    <a:srgbClr val="275b8b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29" name="未知"/>
              <p:cNvSpPr/>
              <p:nvPr/>
            </p:nvSpPr>
            <p:spPr>
              <a:xfrm>
                <a:off x="1875240" y="1711800"/>
                <a:ext cx="563760" cy="53172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2bbe0"/>
                  </a:gs>
                  <a:gs pos="50000">
                    <a:srgbClr val="3984c9">
                      <a:alpha val="0"/>
                    </a:srgbClr>
                  </a:gs>
                  <a:gs pos="100000">
                    <a:srgbClr val="92bbe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1930680" y="193284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531" name=""/>
            <p:cNvSpPr/>
            <p:nvPr/>
          </p:nvSpPr>
          <p:spPr>
            <a:xfrm>
              <a:off x="3090240" y="172512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1676520" y="3054240"/>
            <a:ext cx="5867280" cy="1301760"/>
            <a:chOff x="1676520" y="3054240"/>
            <a:chExt cx="5867280" cy="1301760"/>
          </a:xfrm>
        </p:grpSpPr>
        <p:sp>
          <p:nvSpPr>
            <p:cNvPr id="533" name=""/>
            <p:cNvSpPr/>
            <p:nvPr/>
          </p:nvSpPr>
          <p:spPr>
            <a:xfrm>
              <a:off x="1676520" y="305424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0f0f0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34" name=""/>
            <p:cNvGrpSpPr/>
            <p:nvPr/>
          </p:nvGrpSpPr>
          <p:grpSpPr>
            <a:xfrm>
              <a:off x="1804680" y="3173760"/>
              <a:ext cx="1130760" cy="1064520"/>
              <a:chOff x="1804680" y="3173760"/>
              <a:chExt cx="1130760" cy="1064520"/>
            </a:xfrm>
          </p:grpSpPr>
          <p:sp>
            <p:nvSpPr>
              <p:cNvPr id="535" name=""/>
              <p:cNvSpPr/>
              <p:nvPr/>
            </p:nvSpPr>
            <p:spPr>
              <a:xfrm>
                <a:off x="1804680" y="3173760"/>
                <a:ext cx="113076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95a287"/>
                  </a:gs>
                  <a:gs pos="100000">
                    <a:srgbClr val="6e815b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36" name="未知"/>
              <p:cNvSpPr/>
              <p:nvPr/>
            </p:nvSpPr>
            <p:spPr>
              <a:xfrm>
                <a:off x="1875240" y="3242160"/>
                <a:ext cx="563760" cy="53172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e815b">
                      <a:alpha val="0"/>
                    </a:srgbClr>
                  </a:gs>
                  <a:gs pos="100000">
                    <a:srgbClr val="c0c8b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1930680" y="346464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538" name=""/>
            <p:cNvSpPr/>
            <p:nvPr/>
          </p:nvSpPr>
          <p:spPr>
            <a:xfrm>
              <a:off x="3090240" y="323244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s a Design Digital Content &amp; Contents mall developed by Guild Design Inc.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39" name=""/>
          <p:cNvGrpSpPr/>
          <p:nvPr/>
        </p:nvGrpSpPr>
        <p:grpSpPr>
          <a:xfrm>
            <a:off x="1676520" y="4594320"/>
            <a:ext cx="5867280" cy="1301760"/>
            <a:chOff x="1676520" y="4594320"/>
            <a:chExt cx="5867280" cy="1301760"/>
          </a:xfrm>
        </p:grpSpPr>
        <p:sp>
          <p:nvSpPr>
            <p:cNvPr id="540" name=""/>
            <p:cNvSpPr/>
            <p:nvPr/>
          </p:nvSpPr>
          <p:spPr>
            <a:xfrm>
              <a:off x="1676520" y="459432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ededed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41" name=""/>
            <p:cNvGrpSpPr/>
            <p:nvPr/>
          </p:nvGrpSpPr>
          <p:grpSpPr>
            <a:xfrm>
              <a:off x="1804680" y="4713840"/>
              <a:ext cx="1130760" cy="1064520"/>
              <a:chOff x="1804680" y="4713840"/>
              <a:chExt cx="1130760" cy="1064520"/>
            </a:xfrm>
          </p:grpSpPr>
          <p:sp>
            <p:nvSpPr>
              <p:cNvPr id="542" name=""/>
              <p:cNvSpPr/>
              <p:nvPr/>
            </p:nvSpPr>
            <p:spPr>
              <a:xfrm>
                <a:off x="1804680" y="4713840"/>
                <a:ext cx="113076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b7c6cc"/>
                  </a:gs>
                  <a:gs pos="100000">
                    <a:srgbClr val="90a8b0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43" name="未知"/>
              <p:cNvSpPr/>
              <p:nvPr/>
            </p:nvSpPr>
            <p:spPr>
              <a:xfrm>
                <a:off x="1875240" y="4782240"/>
                <a:ext cx="563760" cy="53172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0a8b0">
                      <a:alpha val="0"/>
                    </a:srgbClr>
                  </a:gs>
                  <a:gs pos="100000">
                    <a:srgbClr val="c8d3d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1930680" y="500472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545" name=""/>
            <p:cNvSpPr/>
            <p:nvPr/>
          </p:nvSpPr>
          <p:spPr>
            <a:xfrm>
              <a:off x="3090240" y="477252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984c9"/>
                </a:solidFill>
                <a:latin typeface="Verdana"/>
              </a:rPr>
              <a:t>Click to add title</a:t>
            </a:r>
            <a:endParaRPr b="1" lang="en-US" sz="2800" spc="-1" strike="noStrike">
              <a:solidFill>
                <a:srgbClr val="3984c9"/>
              </a:solidFill>
              <a:latin typeface="Verdana"/>
            </a:endParaRPr>
          </a:p>
        </p:txBody>
      </p:sp>
      <p:sp>
        <p:nvSpPr>
          <p:cNvPr id="547" name=""/>
          <p:cNvSpPr/>
          <p:nvPr/>
        </p:nvSpPr>
        <p:spPr>
          <a:xfrm>
            <a:off x="6151680" y="3433680"/>
            <a:ext cx="1620720" cy="273852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94">
                <a:moveTo>
                  <a:pt x="2969" y="0"/>
                </a:moveTo>
                <a:arcTo wR="2969" hR="2969" stAng="16200000" swAng="-5400000"/>
                <a:lnTo>
                  <a:pt x="0" y="33525"/>
                </a:lnTo>
                <a:arcTo wR="2969" hR="2969" stAng="10800000" swAng="-5400000"/>
                <a:lnTo>
                  <a:pt x="18631" y="3649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4456080" y="3433680"/>
            <a:ext cx="1611360" cy="2738520"/>
          </a:xfrm>
          <a:custGeom>
            <a:avLst/>
            <a:gdLst>
              <a:gd name="textAreaLeft" fmla="*/ 64800 w 1611360"/>
              <a:gd name="textAreaRight" fmla="*/ 1546560 w 1611360"/>
              <a:gd name="textAreaTop" fmla="*/ 64800 h 2738520"/>
              <a:gd name="textAreaBottom" fmla="*/ 2673720 h 2738520"/>
            </a:gdLst>
            <a:ahLst/>
            <a:rect l="textAreaLeft" t="textAreaTop" r="textAreaRight" b="textAreaBottom"/>
            <a:pathLst>
              <a:path w="21600" h="36706">
                <a:moveTo>
                  <a:pt x="2969" y="0"/>
                </a:moveTo>
                <a:arcTo wR="2969" hR="2969" stAng="16200000" swAng="-5400000"/>
                <a:lnTo>
                  <a:pt x="0" y="33737"/>
                </a:lnTo>
                <a:arcTo wR="2969" hR="2969" stAng="10800000" swAng="-5400000"/>
                <a:lnTo>
                  <a:pt x="18631" y="3670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2773440" y="3433680"/>
            <a:ext cx="1563480" cy="2738520"/>
          </a:xfrm>
          <a:custGeom>
            <a:avLst/>
            <a:gdLst>
              <a:gd name="textAreaLeft" fmla="*/ 62640 w 1563480"/>
              <a:gd name="textAreaRight" fmla="*/ 1500840 w 1563480"/>
              <a:gd name="textAreaTop" fmla="*/ 62640 h 2738520"/>
              <a:gd name="textAreaBottom" fmla="*/ 2675880 h 2738520"/>
            </a:gdLst>
            <a:ahLst/>
            <a:rect l="textAreaLeft" t="textAreaTop" r="textAreaRight" b="textAreaBottom"/>
            <a:pathLst>
              <a:path w="21600" h="37830">
                <a:moveTo>
                  <a:pt x="2969" y="0"/>
                </a:moveTo>
                <a:arcTo wR="2969" hR="2969" stAng="16200000" swAng="-5400000"/>
                <a:lnTo>
                  <a:pt x="0" y="34861"/>
                </a:lnTo>
                <a:arcTo wR="2969" hR="2969" stAng="10800000" swAng="-5400000"/>
                <a:lnTo>
                  <a:pt x="18631" y="37830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1066680" y="3433680"/>
            <a:ext cx="1621080" cy="2738520"/>
          </a:xfrm>
          <a:custGeom>
            <a:avLst/>
            <a:gdLst>
              <a:gd name="textAreaLeft" fmla="*/ 65160 w 1621080"/>
              <a:gd name="textAreaRight" fmla="*/ 1555920 w 162108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86">
                <a:moveTo>
                  <a:pt x="2969" y="0"/>
                </a:moveTo>
                <a:arcTo wR="2969" hR="2969" stAng="16200000" swAng="-5400000"/>
                <a:lnTo>
                  <a:pt x="0" y="33517"/>
                </a:lnTo>
                <a:arcTo wR="2969" hR="2969" stAng="10800000" swAng="-5400000"/>
                <a:lnTo>
                  <a:pt x="18631" y="3648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551" name=""/>
          <p:cNvGrpSpPr/>
          <p:nvPr/>
        </p:nvGrpSpPr>
        <p:grpSpPr>
          <a:xfrm>
            <a:off x="1127520" y="1863360"/>
            <a:ext cx="6215400" cy="1324800"/>
            <a:chOff x="1127520" y="1863360"/>
            <a:chExt cx="6215400" cy="1324800"/>
          </a:xfrm>
        </p:grpSpPr>
        <p:sp>
          <p:nvSpPr>
            <p:cNvPr id="552" name=""/>
            <p:cNvSpPr/>
            <p:nvPr/>
          </p:nvSpPr>
          <p:spPr>
            <a:xfrm rot="3418800">
              <a:off x="1335240" y="207144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6e815b"/>
                </a:gs>
                <a:gs pos="100000">
                  <a:srgbClr val="323b29"/>
                </a:gs>
              </a:gsLst>
              <a:lin ang="1980000"/>
            </a:gra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53" name=""/>
            <p:cNvGrpSpPr/>
            <p:nvPr/>
          </p:nvGrpSpPr>
          <p:grpSpPr>
            <a:xfrm>
              <a:off x="2258280" y="2244600"/>
              <a:ext cx="901080" cy="124200"/>
              <a:chOff x="2258280" y="2244600"/>
              <a:chExt cx="901080" cy="124200"/>
            </a:xfrm>
          </p:grpSpPr>
          <p:sp>
            <p:nvSpPr>
              <p:cNvPr id="554" name=""/>
              <p:cNvSpPr/>
              <p:nvPr/>
            </p:nvSpPr>
            <p:spPr>
              <a:xfrm>
                <a:off x="225828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2344680" y="2245320"/>
                <a:ext cx="74736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3022920" y="2246400"/>
                <a:ext cx="13644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3096000" y="228528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558" name=""/>
            <p:cNvSpPr/>
            <p:nvPr/>
          </p:nvSpPr>
          <p:spPr>
            <a:xfrm rot="3418800">
              <a:off x="2999880" y="2009160"/>
              <a:ext cx="874080" cy="970920"/>
            </a:xfrm>
            <a:prstGeom prst="rect">
              <a:avLst/>
            </a:prstGeom>
            <a:solidFill>
              <a:srgbClr val="3984c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59" name=""/>
            <p:cNvGrpSpPr/>
            <p:nvPr/>
          </p:nvGrpSpPr>
          <p:grpSpPr>
            <a:xfrm>
              <a:off x="3922920" y="2244600"/>
              <a:ext cx="901080" cy="124200"/>
              <a:chOff x="3922920" y="2244600"/>
              <a:chExt cx="901080" cy="124200"/>
            </a:xfrm>
          </p:grpSpPr>
          <p:sp>
            <p:nvSpPr>
              <p:cNvPr id="560" name=""/>
              <p:cNvSpPr/>
              <p:nvPr/>
            </p:nvSpPr>
            <p:spPr>
              <a:xfrm>
                <a:off x="392292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4009320" y="2245320"/>
                <a:ext cx="74736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4687560" y="2246400"/>
                <a:ext cx="13644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4760640" y="228528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564" name=""/>
            <p:cNvSpPr/>
            <p:nvPr/>
          </p:nvSpPr>
          <p:spPr>
            <a:xfrm rot="3418800">
              <a:off x="4595760" y="2008800"/>
              <a:ext cx="874080" cy="971280"/>
            </a:xfrm>
            <a:prstGeom prst="rect">
              <a:avLst/>
            </a:prstGeom>
            <a:gradFill rotWithShape="0">
              <a:gsLst>
                <a:gs pos="0">
                  <a:srgbClr val="6e815b"/>
                </a:gs>
                <a:gs pos="100000">
                  <a:srgbClr val="323b29"/>
                </a:gs>
              </a:gsLst>
              <a:lin ang="1980000"/>
            </a:gra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65" name=""/>
            <p:cNvGrpSpPr/>
            <p:nvPr/>
          </p:nvGrpSpPr>
          <p:grpSpPr>
            <a:xfrm>
              <a:off x="5587560" y="2244600"/>
              <a:ext cx="1178640" cy="124200"/>
              <a:chOff x="5587560" y="2244600"/>
              <a:chExt cx="1178640" cy="124200"/>
            </a:xfrm>
          </p:grpSpPr>
          <p:sp>
            <p:nvSpPr>
              <p:cNvPr id="566" name=""/>
              <p:cNvSpPr/>
              <p:nvPr/>
            </p:nvSpPr>
            <p:spPr>
              <a:xfrm>
                <a:off x="5587560" y="2244600"/>
                <a:ext cx="1987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5700600" y="2245320"/>
                <a:ext cx="97740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6587640" y="2246400"/>
                <a:ext cx="17856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6683040" y="2285280"/>
                <a:ext cx="5004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570" name=""/>
            <p:cNvSpPr/>
            <p:nvPr/>
          </p:nvSpPr>
          <p:spPr>
            <a:xfrm rot="3418800">
              <a:off x="6260400" y="2008800"/>
              <a:ext cx="874080" cy="971280"/>
            </a:xfrm>
            <a:prstGeom prst="rect">
              <a:avLst/>
            </a:prstGeom>
            <a:solidFill>
              <a:srgbClr val="3984c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71" name=""/>
          <p:cNvSpPr/>
          <p:nvPr/>
        </p:nvSpPr>
        <p:spPr>
          <a:xfrm>
            <a:off x="14425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31381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46843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637956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14490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31428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48380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65336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984c9"/>
                </a:solidFill>
                <a:latin typeface="Verdana"/>
              </a:rPr>
              <a:t>Click to add title</a:t>
            </a:r>
            <a:endParaRPr b="1" lang="en-US" sz="2800" spc="-1" strike="noStrike">
              <a:solidFill>
                <a:srgbClr val="3984c9"/>
              </a:solidFill>
              <a:latin typeface="Verdana"/>
            </a:endParaRPr>
          </a:p>
        </p:txBody>
      </p:sp>
      <p:graphicFrame>
        <p:nvGraphicFramePr>
          <p:cNvPr id="580" name=""/>
          <p:cNvGraphicFramePr/>
          <p:nvPr/>
        </p:nvGraphicFramePr>
        <p:xfrm>
          <a:off x="914400" y="2057400"/>
          <a:ext cx="7467480" cy="3284640"/>
        </p:xfrm>
        <a:graphic>
          <a:graphicData uri="http://schemas.openxmlformats.org/drawingml/2006/table">
            <a:tbl>
              <a:tblPr/>
              <a:tblGrid>
                <a:gridCol w="1684440"/>
                <a:gridCol w="1174680"/>
                <a:gridCol w="1152360"/>
                <a:gridCol w="1149480"/>
                <a:gridCol w="1157400"/>
                <a:gridCol w="1149120"/>
              </a:tblGrid>
              <a:tr h="469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>
                      <a:noFill/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黑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984c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黑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984c9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黑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984c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黑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984c9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黑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984c9"/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黑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黑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黑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黑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黑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黑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0000"/>
                      </a:srgbClr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黑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黑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黑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黑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黑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黑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48000"/>
                      </a:srgbClr>
                    </a:solidFill>
                  </a:tcPr>
                </a:tc>
              </a:tr>
              <a:tr h="4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黑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黑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黑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黑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黑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黑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0000"/>
                      </a:srgbClr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黑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黑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黑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黑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黑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黑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48000"/>
                      </a:srgbClr>
                    </a:solidFill>
                  </a:tcPr>
                </a:tc>
              </a:tr>
              <a:tr h="469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黑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黑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黑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黑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黑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黑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0000"/>
                      </a:srgbClr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黑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黑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黑体"/>
                        </a:rPr>
                        <a:t>X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黑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黑体"/>
                        </a:rPr>
                        <a:t>X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黑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1" name=""/>
          <p:cNvGrpSpPr/>
          <p:nvPr/>
        </p:nvGrpSpPr>
        <p:grpSpPr>
          <a:xfrm>
            <a:off x="824760" y="504360"/>
            <a:ext cx="7379640" cy="5581800"/>
            <a:chOff x="824760" y="504360"/>
            <a:chExt cx="7379640" cy="5581800"/>
          </a:xfrm>
        </p:grpSpPr>
        <p:sp>
          <p:nvSpPr>
            <p:cNvPr id="582" name=""/>
            <p:cNvSpPr/>
            <p:nvPr/>
          </p:nvSpPr>
          <p:spPr>
            <a:xfrm>
              <a:off x="2362320" y="4291200"/>
              <a:ext cx="5562360" cy="1325520"/>
            </a:xfrm>
            <a:prstGeom prst="ellipse">
              <a:avLst/>
            </a:prstGeom>
            <a:gradFill rotWithShape="0">
              <a:gsLst>
                <a:gs pos="0">
                  <a:srgbClr val="121212">
                    <a:alpha val="0"/>
                  </a:srgbClr>
                </a:gs>
                <a:gs pos="100000">
                  <a:srgbClr val="292929">
                    <a:alpha val="7019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 rot="20601600">
              <a:off x="1672920" y="2179440"/>
              <a:ext cx="5686560" cy="3016080"/>
            </a:xfrm>
            <a:prstGeom prst="ellipse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b2b2b2"/>
                </a:gs>
                <a:gs pos="100000">
                  <a:srgbClr val="45454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 rot="20601600">
              <a:off x="1692000" y="2016360"/>
              <a:ext cx="5564160" cy="29224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791bb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 rot="20601600">
              <a:off x="1609560" y="2001600"/>
              <a:ext cx="5698440" cy="292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395" y="2248"/>
                  </a:moveTo>
                  <a:arcTo wR="10800" hR="10800" stAng="-3141777" swAng="5155523"/>
                  <a:lnTo>
                    <a:pt x="10800" y="10800"/>
                  </a:lnTo>
                  <a:close/>
                </a:path>
                <a:path fill="none" w="21600" h="21600">
                  <a:moveTo>
                    <a:pt x="17395" y="2248"/>
                  </a:moveTo>
                  <a:arcTo wR="10800" hR="10800" stAng="-3141777" swAng="5155523"/>
                </a:path>
              </a:pathLst>
            </a:custGeom>
            <a:gradFill rotWithShape="0">
              <a:gsLst>
                <a:gs pos="0">
                  <a:srgbClr val="9daa91"/>
                </a:gs>
                <a:gs pos="100000">
                  <a:srgbClr val="6e815b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 flipH="1" rot="20602200">
              <a:off x="1658520" y="2001240"/>
              <a:ext cx="5644080" cy="295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28" y="12048"/>
                  </a:moveTo>
                  <a:arcTo wR="10800" hR="10800" stAng="398260" swAng="5586891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28" y="12048"/>
                  </a:moveTo>
                  <a:arcTo wR="10800" hR="10800" stAng="398260" swAng="5586891"/>
                </a:path>
              </a:pathLst>
            </a:custGeom>
            <a:gradFill rotWithShape="0">
              <a:gsLst>
                <a:gs pos="0">
                  <a:srgbClr val="224f79"/>
                </a:gs>
                <a:gs pos="100000">
                  <a:srgbClr val="3984c9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 rot="20601600">
              <a:off x="1616400" y="2013840"/>
              <a:ext cx="5681520" cy="283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587" y="1342"/>
                  </a:moveTo>
                  <a:arcTo wR="10800" hR="10800" stAng="-7131749" swAng="4032112"/>
                  <a:lnTo>
                    <a:pt x="10800" y="10800"/>
                  </a:lnTo>
                  <a:close/>
                </a:path>
                <a:path fill="none" w="21600" h="21600">
                  <a:moveTo>
                    <a:pt x="5587" y="1342"/>
                  </a:moveTo>
                  <a:arcTo wR="10800" hR="10800" stAng="-7131749" swAng="4032112"/>
                </a:path>
              </a:pathLst>
            </a:custGeom>
            <a:gradFill rotWithShape="0">
              <a:gsLst>
                <a:gs pos="0">
                  <a:srgbClr val="18333b"/>
                </a:gs>
                <a:gs pos="100000">
                  <a:srgbClr val="2e6272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 flipH="1" rot="20602200">
              <a:off x="1626480" y="1994400"/>
              <a:ext cx="5698440" cy="297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674" y="719"/>
                  </a:moveTo>
                  <a:arcTo wR="10800" hR="10800" stAng="-4138599" swAng="58879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4674" y="719"/>
                  </a:moveTo>
                  <a:arcTo wR="10800" hR="10800" stAng="-4138599" swAng="5887996"/>
                </a:path>
              </a:pathLst>
            </a:custGeom>
            <a:gradFill rotWithShape="0">
              <a:gsLst>
                <a:gs pos="0">
                  <a:srgbClr val="405e14"/>
                </a:gs>
                <a:gs pos="100000">
                  <a:srgbClr val="77ae26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 rot="20601600">
              <a:off x="3154320" y="273024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ebebeb"/>
                </a:gs>
                <a:gs pos="100000">
                  <a:srgbClr val="b2b2b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145240" y="34099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050360" y="21909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879160" y="24955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93" name=""/>
            <p:cNvGrpSpPr/>
            <p:nvPr/>
          </p:nvGrpSpPr>
          <p:grpSpPr>
            <a:xfrm>
              <a:off x="824760" y="504360"/>
              <a:ext cx="7379640" cy="5581800"/>
              <a:chOff x="824760" y="504360"/>
              <a:chExt cx="7379640" cy="5581800"/>
            </a:xfrm>
          </p:grpSpPr>
          <p:sp>
            <p:nvSpPr>
              <p:cNvPr id="594" name="未知"/>
              <p:cNvSpPr/>
              <p:nvPr/>
            </p:nvSpPr>
            <p:spPr>
              <a:xfrm>
                <a:off x="5668920" y="3448440"/>
                <a:ext cx="1773000" cy="1776240"/>
              </a:xfrm>
              <a:custGeom>
                <a:avLst/>
                <a:gdLst/>
                <a:ahLst/>
                <a:rect l="l" t="t" r="r" b="b"/>
                <a:pathLst>
                  <a:path w="1117" h="1119">
                    <a:moveTo>
                      <a:pt x="21" y="888"/>
                    </a:moveTo>
                    <a:lnTo>
                      <a:pt x="1117" y="0"/>
                    </a:lnTo>
                    <a:lnTo>
                      <a:pt x="1093" y="256"/>
                    </a:lnTo>
                    <a:cubicBezTo>
                      <a:pt x="1026" y="373"/>
                      <a:pt x="896" y="560"/>
                      <a:pt x="717" y="704"/>
                    </a:cubicBezTo>
                    <a:cubicBezTo>
                      <a:pt x="538" y="848"/>
                      <a:pt x="133" y="1088"/>
                      <a:pt x="17" y="1119"/>
                    </a:cubicBezTo>
                    <a:cubicBezTo>
                      <a:pt x="0" y="1037"/>
                      <a:pt x="21" y="888"/>
                      <a:pt x="21" y="88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0a8b0"/>
                  </a:gs>
                  <a:gs pos="100000">
                    <a:srgbClr val="57656a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20539200">
                <a:off x="1243080" y="1408320"/>
                <a:ext cx="6542640" cy="3773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9808" y="16758"/>
                    </a:moveTo>
                    <a:arcTo wR="10800" hR="10800" stAng="2008784" swAng="280024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9808" y="16758"/>
                    </a:moveTo>
                    <a:arcTo wR="10800" hR="10800" stAng="2008784" swAng="2800242"/>
                  </a:path>
                </a:pathLst>
              </a:custGeom>
              <a:gradFill rotWithShape="0">
                <a:gsLst>
                  <a:gs pos="0">
                    <a:srgbClr val="424d51"/>
                  </a:gs>
                  <a:gs pos="100000">
                    <a:srgbClr val="90a8b0"/>
                  </a:gs>
                </a:gsLst>
                <a:lin ang="1186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96" name="未知"/>
              <p:cNvSpPr/>
              <p:nvPr/>
            </p:nvSpPr>
            <p:spPr>
              <a:xfrm>
                <a:off x="4803480" y="3924720"/>
                <a:ext cx="924120" cy="1311120"/>
              </a:xfrm>
              <a:custGeom>
                <a:avLst/>
                <a:gdLst/>
                <a:ahLst/>
                <a:rect l="l" t="t" r="r" b="b"/>
                <a:pathLst>
                  <a:path w="582" h="826">
                    <a:moveTo>
                      <a:pt x="582" y="572"/>
                    </a:moveTo>
                    <a:lnTo>
                      <a:pt x="562" y="826"/>
                    </a:lnTo>
                    <a:lnTo>
                      <a:pt x="0" y="42"/>
                    </a:lnTo>
                    <a:lnTo>
                      <a:pt x="90" y="0"/>
                    </a:lnTo>
                    <a:lnTo>
                      <a:pt x="582" y="5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24d51"/>
                  </a:gs>
                  <a:gs pos="100000">
                    <a:srgbClr val="90a8b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5573880" y="3715200"/>
                <a:ext cx="811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Verdana"/>
                  </a:rPr>
                  <a:t>Text4</a:t>
                </a: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598" name=""/>
            <p:cNvSpPr/>
            <p:nvPr/>
          </p:nvSpPr>
          <p:spPr>
            <a:xfrm>
              <a:off x="3364560" y="44006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9" name="未知"/>
            <p:cNvSpPr/>
            <p:nvPr/>
          </p:nvSpPr>
          <p:spPr>
            <a:xfrm>
              <a:off x="4648320" y="3990960"/>
              <a:ext cx="838080" cy="1108080"/>
            </a:xfrm>
            <a:custGeom>
              <a:avLst/>
              <a:gdLst/>
              <a:ahLst/>
              <a:rect l="l" t="t" r="r" b="b"/>
              <a:pathLst>
                <a:path w="528" h="698">
                  <a:moveTo>
                    <a:pt x="0" y="34"/>
                  </a:moveTo>
                  <a:lnTo>
                    <a:pt x="248" y="546"/>
                  </a:lnTo>
                  <a:lnTo>
                    <a:pt x="256" y="698"/>
                  </a:lnTo>
                  <a:lnTo>
                    <a:pt x="435" y="642"/>
                  </a:lnTo>
                  <a:lnTo>
                    <a:pt x="528" y="594"/>
                  </a:lnTo>
                  <a:lnTo>
                    <a:pt x="119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6e815b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 rot="20601600">
              <a:off x="3257640" y="2981520"/>
              <a:ext cx="2587680" cy="1112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984c9"/>
                </a:solidFill>
                <a:latin typeface="Verdana"/>
              </a:rPr>
              <a:t>Click to add title</a:t>
            </a:r>
            <a:endParaRPr b="1" lang="en-US" sz="2800" spc="-1" strike="noStrike">
              <a:solidFill>
                <a:srgbClr val="3984c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984c9"/>
                </a:solidFill>
                <a:latin typeface="Verdana"/>
              </a:rPr>
              <a:t>Click to add title</a:t>
            </a:r>
            <a:endParaRPr b="1" lang="en-US" sz="2800" spc="-1" strike="noStrike">
              <a:solidFill>
                <a:srgbClr val="3984c9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1447920" y="2162160"/>
            <a:ext cx="6248160" cy="4114800"/>
          </a:xfrm>
          <a:prstGeom prst="upArrow">
            <a:avLst>
              <a:gd name="adj1" fmla="val 73769"/>
              <a:gd name="adj2" fmla="val 32588"/>
            </a:avLst>
          </a:prstGeom>
          <a:gradFill rotWithShape="0">
            <a:gsLst>
              <a:gs pos="0">
                <a:srgbClr val="3984c9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3124080" y="162864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dd Your Tit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438280" y="3381480"/>
            <a:ext cx="4267440" cy="3085920"/>
          </a:xfrm>
          <a:prstGeom prst="upArrow">
            <a:avLst>
              <a:gd name="adj1" fmla="val 72694"/>
              <a:gd name="adj2" fmla="val 33931"/>
            </a:avLst>
          </a:prstGeom>
          <a:gradFill rotWithShape="0">
            <a:gsLst>
              <a:gs pos="0">
                <a:srgbClr val="77ae26"/>
              </a:gs>
              <a:gs pos="100000">
                <a:srgbClr val="eaea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5638680" y="4844880"/>
            <a:ext cx="2438640" cy="1616400"/>
          </a:xfrm>
          <a:prstGeom prst="upArrow">
            <a:avLst>
              <a:gd name="adj1" fmla="val 78306"/>
              <a:gd name="adj2" fmla="val 48213"/>
            </a:avLst>
          </a:prstGeom>
          <a:gradFill rotWithShape="0">
            <a:gsLst>
              <a:gs pos="0">
                <a:srgbClr val="2e6272"/>
              </a:gs>
              <a:gs pos="100000">
                <a:srgbClr val="eaea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607" name=""/>
          <p:cNvGrpSpPr/>
          <p:nvPr/>
        </p:nvGrpSpPr>
        <p:grpSpPr>
          <a:xfrm>
            <a:off x="3371760" y="4924440"/>
            <a:ext cx="2286000" cy="1542960"/>
            <a:chOff x="3371760" y="4924440"/>
            <a:chExt cx="2286000" cy="1542960"/>
          </a:xfrm>
        </p:grpSpPr>
        <p:sp>
          <p:nvSpPr>
            <p:cNvPr id="608" name=""/>
            <p:cNvSpPr/>
            <p:nvPr/>
          </p:nvSpPr>
          <p:spPr>
            <a:xfrm>
              <a:off x="3371760" y="4924440"/>
              <a:ext cx="2286000" cy="1542960"/>
            </a:xfrm>
            <a:prstGeom prst="upArrow">
              <a:avLst>
                <a:gd name="adj1" fmla="val 78306"/>
                <a:gd name="adj2" fmla="val 48213"/>
              </a:avLst>
            </a:prstGeom>
            <a:gradFill rotWithShape="0">
              <a:gsLst>
                <a:gs pos="0">
                  <a:srgbClr val="2e6272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756240" y="55504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610" name=""/>
          <p:cNvSpPr/>
          <p:nvPr/>
        </p:nvSpPr>
        <p:spPr>
          <a:xfrm>
            <a:off x="6042240" y="555300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3599640" y="4294080"/>
            <a:ext cx="19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3599640" y="2557440"/>
            <a:ext cx="19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613" name=""/>
          <p:cNvGrpSpPr/>
          <p:nvPr/>
        </p:nvGrpSpPr>
        <p:grpSpPr>
          <a:xfrm>
            <a:off x="1123920" y="4933800"/>
            <a:ext cx="2286000" cy="1543320"/>
            <a:chOff x="1123920" y="4933800"/>
            <a:chExt cx="2286000" cy="1543320"/>
          </a:xfrm>
        </p:grpSpPr>
        <p:sp>
          <p:nvSpPr>
            <p:cNvPr id="614" name=""/>
            <p:cNvSpPr/>
            <p:nvPr/>
          </p:nvSpPr>
          <p:spPr>
            <a:xfrm>
              <a:off x="1123920" y="4933800"/>
              <a:ext cx="2286000" cy="1543320"/>
            </a:xfrm>
            <a:prstGeom prst="upArrow">
              <a:avLst>
                <a:gd name="adj1" fmla="val 78306"/>
                <a:gd name="adj2" fmla="val 48213"/>
              </a:avLst>
            </a:prstGeom>
            <a:gradFill rotWithShape="0">
              <a:gsLst>
                <a:gs pos="0">
                  <a:srgbClr val="2e6272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508400" y="555984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ubTitle"/>
          </p:nvPr>
        </p:nvSpPr>
        <p:spPr>
          <a:xfrm>
            <a:off x="3048120" y="4190760"/>
            <a:ext cx="4952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2895480" y="3505320"/>
            <a:ext cx="4343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984c9"/>
                    </a:gs>
                    <a:gs pos="100000">
                      <a:srgbClr val="2e6272"/>
                    </a:gs>
                  </a:gsLst>
                  <a:lin ang="10800000"/>
                </a:gradFill>
                <a:effectLst>
                  <a:outerShdw dist="53966" dir="2700000" blurRad="0" rotWithShape="0">
                    <a:srgbClr val="003366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984c9"/>
                  </a:gs>
                  <a:gs pos="100000">
                    <a:srgbClr val="2e6272"/>
                  </a:gs>
                </a:gsLst>
                <a:lin ang="10800000"/>
              </a:gradFill>
              <a:effectLst>
                <a:outerShdw dist="53966" dir="2700000" blurRad="0" rotWithShape="0">
                  <a:srgbClr val="00336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2971800" y="4267080"/>
            <a:ext cx="76320" cy="2286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7238880" y="0"/>
            <a:ext cx="153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Verdana"/>
              </a:rPr>
              <a:t>LOG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984c9"/>
                </a:solidFill>
                <a:latin typeface="Verdana"/>
              </a:rPr>
              <a:t>Click to add title</a:t>
            </a:r>
            <a:endParaRPr b="1" lang="en-US" sz="2800" spc="-1" strike="noStrike">
              <a:solidFill>
                <a:srgbClr val="3984c9"/>
              </a:solidFill>
              <a:latin typeface="Verdana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2133720" y="1905120"/>
            <a:ext cx="4724280" cy="685800"/>
            <a:chOff x="2133720" y="1905120"/>
            <a:chExt cx="4724280" cy="685800"/>
          </a:xfrm>
        </p:grpSpPr>
        <p:sp>
          <p:nvSpPr>
            <p:cNvPr id="129" name=""/>
            <p:cNvSpPr/>
            <p:nvPr/>
          </p:nvSpPr>
          <p:spPr>
            <a:xfrm>
              <a:off x="2514600" y="202428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7ae26"/>
                </a:gs>
                <a:gs pos="50000">
                  <a:srgbClr val="e1ecd0"/>
                </a:gs>
                <a:gs pos="100000">
                  <a:srgbClr val="77ae2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133720" y="1905120"/>
              <a:ext cx="685800" cy="685800"/>
            </a:xfrm>
            <a:prstGeom prst="diamond">
              <a:avLst/>
            </a:prstGeom>
            <a:solidFill>
              <a:srgbClr val="77ae26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743200" y="20797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89600" y="2003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133720" y="2743200"/>
            <a:ext cx="4724280" cy="685800"/>
            <a:chOff x="2133720" y="2743200"/>
            <a:chExt cx="4724280" cy="685800"/>
          </a:xfrm>
        </p:grpSpPr>
        <p:sp>
          <p:nvSpPr>
            <p:cNvPr id="134" name=""/>
            <p:cNvSpPr/>
            <p:nvPr/>
          </p:nvSpPr>
          <p:spPr>
            <a:xfrm>
              <a:off x="2514600" y="286236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3984c9"/>
                </a:gs>
                <a:gs pos="50000">
                  <a:srgbClr val="d4e4f2"/>
                </a:gs>
                <a:gs pos="100000">
                  <a:srgbClr val="3984c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133720" y="2743200"/>
              <a:ext cx="685800" cy="685800"/>
            </a:xfrm>
            <a:prstGeom prst="diamond">
              <a:avLst/>
            </a:prstGeom>
            <a:solidFill>
              <a:srgbClr val="3984c9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743200" y="291780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289600" y="2841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2133720" y="3581280"/>
            <a:ext cx="4724280" cy="685800"/>
            <a:chOff x="2133720" y="3581280"/>
            <a:chExt cx="4724280" cy="685800"/>
          </a:xfrm>
        </p:grpSpPr>
        <p:sp>
          <p:nvSpPr>
            <p:cNvPr id="139" name=""/>
            <p:cNvSpPr/>
            <p:nvPr/>
          </p:nvSpPr>
          <p:spPr>
            <a:xfrm>
              <a:off x="2514600" y="37004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e815b"/>
                </a:gs>
                <a:gs pos="50000">
                  <a:srgbClr val="dfe3db"/>
                </a:gs>
                <a:gs pos="100000">
                  <a:srgbClr val="6e815b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133720" y="3581280"/>
              <a:ext cx="685800" cy="685800"/>
            </a:xfrm>
            <a:prstGeom prst="diamond">
              <a:avLst/>
            </a:prstGeom>
            <a:solidFill>
              <a:srgbClr val="6e815b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743200" y="37558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289600" y="3679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133720" y="4495680"/>
            <a:ext cx="4724280" cy="685800"/>
            <a:chOff x="2133720" y="4495680"/>
            <a:chExt cx="4724280" cy="685800"/>
          </a:xfrm>
        </p:grpSpPr>
        <p:sp>
          <p:nvSpPr>
            <p:cNvPr id="144" name=""/>
            <p:cNvSpPr/>
            <p:nvPr/>
          </p:nvSpPr>
          <p:spPr>
            <a:xfrm>
              <a:off x="2514600" y="46148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0a8b0"/>
                </a:gs>
                <a:gs pos="50000">
                  <a:srgbClr val="e6ebed"/>
                </a:gs>
                <a:gs pos="100000">
                  <a:srgbClr val="90a8b0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133720" y="4495680"/>
              <a:ext cx="685800" cy="685800"/>
            </a:xfrm>
            <a:prstGeom prst="diamond">
              <a:avLst/>
            </a:prstGeom>
            <a:solidFill>
              <a:srgbClr val="90a8b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743200" y="46702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289600" y="4593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"/>
          <p:cNvSpPr/>
          <p:nvPr/>
        </p:nvSpPr>
        <p:spPr>
          <a:xfrm>
            <a:off x="0" y="4076640"/>
            <a:ext cx="9144000" cy="2781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396720" y="1413000"/>
            <a:ext cx="5762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99cc00"/>
                </a:solidFill>
                <a:latin typeface="Arial"/>
                <a:ea typeface="微软雅黑"/>
              </a:rPr>
              <a:t>Thank You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2" name="TextBox 5"/>
          <p:cNvSpPr/>
          <p:nvPr/>
        </p:nvSpPr>
        <p:spPr>
          <a:xfrm>
            <a:off x="324000" y="4437000"/>
            <a:ext cx="518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f5f5f"/>
                </a:solidFill>
                <a:latin typeface="Arial Unicode MS"/>
                <a:ea typeface="Arial Unicode MS"/>
              </a:rPr>
              <a:t>Kingsoft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zh-CN" sz="4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Office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3" name="TextBox 6"/>
          <p:cNvSpPr/>
          <p:nvPr/>
        </p:nvSpPr>
        <p:spPr>
          <a:xfrm>
            <a:off x="-219600" y="5302080"/>
            <a:ext cx="39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stral"/>
              </a:rPr>
              <a:t>Make Presentation much more fu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984c9"/>
                </a:solidFill>
                <a:latin typeface="Verdana"/>
              </a:rPr>
              <a:t>Click to add title</a:t>
            </a:r>
            <a:endParaRPr b="1" lang="en-US" sz="2800" spc="-1" strike="noStrike">
              <a:solidFill>
                <a:srgbClr val="3984c9"/>
              </a:solidFill>
              <a:latin typeface="Verdana"/>
            </a:endParaRPr>
          </a:p>
        </p:txBody>
      </p:sp>
      <p:sp>
        <p:nvSpPr>
          <p:cNvPr id="149" name=""/>
          <p:cNvSpPr/>
          <p:nvPr/>
        </p:nvSpPr>
        <p:spPr>
          <a:xfrm>
            <a:off x="5562720" y="317196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143000" y="317196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38400" y="337176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未知"/>
          <p:cNvSpPr/>
          <p:nvPr/>
        </p:nvSpPr>
        <p:spPr>
          <a:xfrm>
            <a:off x="3222720" y="307512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a7ca74"/>
              </a:gs>
              <a:gs pos="100000">
                <a:srgbClr val="77ae2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未知"/>
          <p:cNvSpPr/>
          <p:nvPr/>
        </p:nvSpPr>
        <p:spPr>
          <a:xfrm flipH="1">
            <a:off x="4874400" y="307512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d0d6ca"/>
              </a:gs>
              <a:gs pos="100000">
                <a:srgbClr val="6e815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3048120" y="1447920"/>
            <a:ext cx="2998440" cy="1601280"/>
            <a:chOff x="3048120" y="1447920"/>
            <a:chExt cx="2998440" cy="1601280"/>
          </a:xfrm>
        </p:grpSpPr>
        <p:grpSp>
          <p:nvGrpSpPr>
            <p:cNvPr id="155" name=""/>
            <p:cNvGrpSpPr/>
            <p:nvPr/>
          </p:nvGrpSpPr>
          <p:grpSpPr>
            <a:xfrm>
              <a:off x="3048120" y="1590840"/>
              <a:ext cx="2998440" cy="1458360"/>
              <a:chOff x="3048120" y="1590840"/>
              <a:chExt cx="2998440" cy="1458360"/>
            </a:xfrm>
          </p:grpSpPr>
          <p:sp>
            <p:nvSpPr>
              <p:cNvPr id="156" name=""/>
              <p:cNvSpPr/>
              <p:nvPr/>
            </p:nvSpPr>
            <p:spPr>
              <a:xfrm>
                <a:off x="3080880" y="163728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353e2c"/>
                  </a:gs>
                  <a:gs pos="100000">
                    <a:srgbClr val="6e815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3048120" y="1590840"/>
                <a:ext cx="2966040" cy="1411920"/>
              </a:xfrm>
              <a:prstGeom prst="ellipse">
                <a:avLst/>
              </a:prstGeom>
              <a:gradFill rotWithShape="0">
                <a:gsLst>
                  <a:gs pos="0">
                    <a:srgbClr val="6e815b"/>
                  </a:gs>
                  <a:gs pos="100000">
                    <a:srgbClr val="bec6b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3189240" y="1447920"/>
              <a:ext cx="2684520" cy="1341360"/>
            </a:xfrm>
            <a:prstGeom prst="ellipse">
              <a:avLst/>
            </a:prstGeom>
            <a:gradFill rotWithShape="0">
              <a:gsLst>
                <a:gs pos="0">
                  <a:srgbClr val="3984c9"/>
                </a:gs>
                <a:gs pos="100000">
                  <a:srgbClr val="1a3c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24160" y="1455840"/>
              <a:ext cx="2619720" cy="1308240"/>
            </a:xfrm>
            <a:prstGeom prst="ellipse">
              <a:avLst/>
            </a:prstGeom>
            <a:gradFill rotWithShape="0">
              <a:gsLst>
                <a:gs pos="0">
                  <a:srgbClr val="b9d3eb"/>
                </a:gs>
                <a:gs pos="100000">
                  <a:srgbClr val="3984c9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51160" y="1468440"/>
              <a:ext cx="2492640" cy="1222560"/>
            </a:xfrm>
            <a:prstGeom prst="ellipse">
              <a:avLst/>
            </a:prstGeom>
            <a:gradFill rotWithShape="0">
              <a:gsLst>
                <a:gs pos="0">
                  <a:srgbClr val="3984c9">
                    <a:alpha val="48235"/>
                  </a:srgbClr>
                </a:gs>
                <a:gs pos="100000">
                  <a:srgbClr val="2c689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382920" y="1495440"/>
              <a:ext cx="2194200" cy="990720"/>
            </a:xfrm>
            <a:prstGeom prst="ellipse">
              <a:avLst/>
            </a:prstGeom>
            <a:gradFill rotWithShape="0">
              <a:gsLst>
                <a:gs pos="0">
                  <a:srgbClr val="3984c9">
                    <a:alpha val="38039"/>
                  </a:srgbClr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3882960" y="164772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791320" y="340056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984c9"/>
                </a:solidFill>
                <a:latin typeface="Verdana"/>
              </a:rPr>
              <a:t>Click to add title</a:t>
            </a:r>
            <a:endParaRPr b="1" lang="en-US" sz="2800" spc="-1" strike="noStrike">
              <a:solidFill>
                <a:srgbClr val="3984c9"/>
              </a:solidFill>
              <a:latin typeface="Verdana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609480" y="1553040"/>
            <a:ext cx="7700400" cy="4816440"/>
            <a:chOff x="609480" y="1553040"/>
            <a:chExt cx="7700400" cy="4816440"/>
          </a:xfrm>
        </p:grpSpPr>
        <p:sp>
          <p:nvSpPr>
            <p:cNvPr id="166" name="未知"/>
            <p:cNvSpPr/>
            <p:nvPr/>
          </p:nvSpPr>
          <p:spPr>
            <a:xfrm rot="20241600">
              <a:off x="1271160" y="2687040"/>
              <a:ext cx="6403680" cy="254772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dddddd">
                    <a:alpha val="36078"/>
                  </a:srgbClr>
                </a:gs>
              </a:gsLst>
              <a:lin ang="121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rot="20056200">
              <a:off x="4452120" y="2545560"/>
              <a:ext cx="1120680" cy="32040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20056200">
              <a:off x="7174800" y="2785680"/>
              <a:ext cx="1120680" cy="32040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20056200">
              <a:off x="2930760" y="5508720"/>
              <a:ext cx="1121040" cy="32040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20056200">
              <a:off x="5573520" y="4921200"/>
              <a:ext cx="1121040" cy="32004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0056200">
              <a:off x="2050200" y="3987000"/>
              <a:ext cx="1120680" cy="32040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823920" y="1905120"/>
              <a:ext cx="1200960" cy="1157760"/>
            </a:xfrm>
            <a:prstGeom prst="ellipse">
              <a:avLst/>
            </a:prstGeom>
            <a:gradFill rotWithShape="0">
              <a:gsLst>
                <a:gs pos="0">
                  <a:srgbClr val="6e815b"/>
                </a:gs>
                <a:gs pos="100000">
                  <a:srgbClr val="252c1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475280" y="3289680"/>
              <a:ext cx="1198800" cy="1157760"/>
            </a:xfrm>
            <a:prstGeom prst="ellipse">
              <a:avLst/>
            </a:prstGeom>
            <a:gradFill rotWithShape="0">
              <a:gsLst>
                <a:gs pos="0">
                  <a:srgbClr val="3984c9"/>
                </a:gs>
                <a:gs pos="100000">
                  <a:srgbClr val="11293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298960" y="4831560"/>
              <a:ext cx="1199520" cy="1157760"/>
            </a:xfrm>
            <a:prstGeom prst="ellipse">
              <a:avLst/>
            </a:prstGeom>
            <a:gradFill rotWithShape="0">
              <a:gsLst>
                <a:gs pos="0">
                  <a:srgbClr val="77ae26"/>
                </a:gs>
                <a:gs pos="100000">
                  <a:srgbClr val="2a3d0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893120" y="4259160"/>
              <a:ext cx="1199520" cy="115776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3f3f3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601320" y="2111760"/>
              <a:ext cx="1134000" cy="1159560"/>
            </a:xfrm>
            <a:prstGeom prst="ellipse">
              <a:avLst/>
            </a:prstGeom>
            <a:gradFill rotWithShape="0">
              <a:gsLst>
                <a:gs pos="0">
                  <a:srgbClr val="90a8b0"/>
                </a:gs>
                <a:gs pos="100000">
                  <a:srgbClr val="31393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722240" y="370512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143600" y="23205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885360" y="25725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212080" y="46746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574720" y="52401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411720" y="3586680"/>
              <a:ext cx="2422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66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542680" y="2320560"/>
              <a:ext cx="1709640" cy="1314720"/>
            </a:xfrm>
            <a:prstGeom prst="line">
              <a:avLst/>
            </a:prstGeom>
            <a:ln w="936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cxnSp>
          <p:nvCxnSpPr>
            <p:cNvPr id="184" name=""/>
            <p:cNvCxnSpPr/>
            <p:nvPr/>
          </p:nvCxnSpPr>
          <p:spPr>
            <a:xfrm flipH="1">
              <a:off x="740160" y="2320200"/>
              <a:ext cx="1814040" cy="1080"/>
            </a:xfrm>
            <a:prstGeom prst="straightConnector1">
              <a:avLst/>
            </a:prstGeom>
            <a:ln w="9360">
              <a:solidFill>
                <a:srgbClr val="003366"/>
              </a:solidFill>
              <a:miter/>
            </a:ln>
          </p:spPr>
        </p:cxnSp>
        <p:sp>
          <p:nvSpPr>
            <p:cNvPr id="185" name=""/>
            <p:cNvSpPr/>
            <p:nvPr/>
          </p:nvSpPr>
          <p:spPr>
            <a:xfrm>
              <a:off x="609480" y="1905120"/>
              <a:ext cx="216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984c9"/>
                </a:solidFill>
                <a:latin typeface="Verdana"/>
              </a:rPr>
              <a:t>Click to add title</a:t>
            </a:r>
            <a:endParaRPr b="1" lang="en-US" sz="2800" spc="-1" strike="noStrike">
              <a:solidFill>
                <a:srgbClr val="3984c9"/>
              </a:solidFill>
              <a:latin typeface="Verdana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188" name=""/>
            <p:cNvSpPr/>
            <p:nvPr/>
          </p:nvSpPr>
          <p:spPr>
            <a:xfrm>
              <a:off x="3759120" y="40579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24d51"/>
                </a:gs>
                <a:gs pos="50000">
                  <a:srgbClr val="90a8b0"/>
                </a:gs>
                <a:gs pos="100000">
                  <a:srgbClr val="424d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24d51"/>
                </a:gs>
                <a:gs pos="50000">
                  <a:srgbClr val="90a8b0"/>
                </a:gs>
                <a:gs pos="100000">
                  <a:srgbClr val="424d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759120" y="304452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24d51"/>
                </a:gs>
                <a:gs pos="50000">
                  <a:srgbClr val="90a8b0"/>
                </a:gs>
                <a:gs pos="100000">
                  <a:srgbClr val="424d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222800" y="3263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222800" y="3769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222800" y="4276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525252">
                    <a:alpha val="12156"/>
                  </a:srgbClr>
                </a:gs>
                <a:gs pos="100000">
                  <a:srgbClr val="b2b2b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295280" y="2320560"/>
              <a:ext cx="1689480" cy="296784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840"/>
                <a:gd name="textAreaBottom" fmla="*/ 2885400 h 2967840"/>
              </a:gdLst>
              <a:ahLst/>
              <a:rect l="textAreaLeft" t="textAreaTop" r="textAreaRight" b="textAreaBottom"/>
              <a:pathLst>
                <a:path w="21600" h="37940">
                  <a:moveTo>
                    <a:pt x="3600" y="0"/>
                  </a:moveTo>
                  <a:arcTo wR="3600" hR="3600" stAng="16200000" swAng="-5400000"/>
                  <a:lnTo>
                    <a:pt x="0" y="34340"/>
                  </a:lnTo>
                  <a:arcTo wR="3600" hR="3600" stAng="10800000" swAng="-5400000"/>
                  <a:lnTo>
                    <a:pt x="18000" y="37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365480" y="253764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082560" y="2320560"/>
              <a:ext cx="1689480" cy="296784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840"/>
                <a:gd name="textAreaBottom" fmla="*/ 2885400 h 2967840"/>
              </a:gdLst>
              <a:ahLst/>
              <a:rect l="textAreaLeft" t="textAreaTop" r="textAreaRight" b="textAreaBottom"/>
              <a:pathLst>
                <a:path w="21600" h="37940">
                  <a:moveTo>
                    <a:pt x="3600" y="0"/>
                  </a:moveTo>
                  <a:arcTo wR="3600" hR="3600" stAng="16200000" swAng="-5400000"/>
                  <a:lnTo>
                    <a:pt x="0" y="34340"/>
                  </a:lnTo>
                  <a:arcTo wR="3600" hR="3600" stAng="10800000" swAng="-5400000"/>
                  <a:lnTo>
                    <a:pt x="18000" y="37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153120" y="253764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525252">
                    <a:alpha val="1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055320" y="1752480"/>
              <a:ext cx="2815920" cy="57888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1a3c5c"/>
                </a:gs>
                <a:gs pos="50000">
                  <a:srgbClr val="3984c9"/>
                </a:gs>
                <a:gs pos="100000">
                  <a:srgbClr val="1a3c5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728520" y="2465640"/>
              <a:ext cx="1618920" cy="50616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cdcdcd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201200" y="19634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5520" y="5288760"/>
              <a:ext cx="2816280" cy="57888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323b29"/>
                </a:gs>
                <a:gs pos="50000">
                  <a:srgbClr val="6e815b"/>
                </a:gs>
                <a:gs pos="100000">
                  <a:srgbClr val="323b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201200" y="5510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708000" y="4709520"/>
              <a:ext cx="1622160" cy="49896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cdcdcd">
                    <a:alpha val="12156"/>
                  </a:srgbClr>
                </a:gs>
                <a:gs pos="100000">
                  <a:srgbClr val="b2b2b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984c9"/>
                </a:solidFill>
                <a:latin typeface="Verdana"/>
              </a:rPr>
              <a:t>Click to add title</a:t>
            </a:r>
            <a:endParaRPr b="1" lang="en-US" sz="2800" spc="-1" strike="noStrike">
              <a:solidFill>
                <a:srgbClr val="3984c9"/>
              </a:solidFill>
              <a:latin typeface="Verdan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143000" y="2209680"/>
            <a:ext cx="6705720" cy="3352680"/>
            <a:chOff x="1143000" y="2209680"/>
            <a:chExt cx="6705720" cy="3352680"/>
          </a:xfrm>
        </p:grpSpPr>
        <p:grpSp>
          <p:nvGrpSpPr>
            <p:cNvPr id="208" name=""/>
            <p:cNvGrpSpPr/>
            <p:nvPr/>
          </p:nvGrpSpPr>
          <p:grpSpPr>
            <a:xfrm>
              <a:off x="3009240" y="2209680"/>
              <a:ext cx="2900160" cy="2706120"/>
              <a:chOff x="3009240" y="2209680"/>
              <a:chExt cx="2900160" cy="2706120"/>
            </a:xfrm>
          </p:grpSpPr>
          <p:sp>
            <p:nvSpPr>
              <p:cNvPr id="209" name=""/>
              <p:cNvSpPr/>
              <p:nvPr/>
            </p:nvSpPr>
            <p:spPr>
              <a:xfrm flipH="1" rot="16200000">
                <a:off x="2927880" y="3256920"/>
                <a:ext cx="459360" cy="296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acc0c6"/>
                  </a:gs>
                  <a:gs pos="100000">
                    <a:srgbClr val="2e627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H="1" rot="5400000">
                <a:off x="5531400" y="3206160"/>
                <a:ext cx="459360" cy="296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acc0c6"/>
                  </a:gs>
                  <a:gs pos="100000">
                    <a:srgbClr val="2e6272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H="1" rot="10800000">
                <a:off x="4238640" y="4609800"/>
                <a:ext cx="444240" cy="30600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acc0c6"/>
                  </a:gs>
                  <a:gs pos="100000">
                    <a:srgbClr val="2e627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3305880" y="2209680"/>
                <a:ext cx="2328120" cy="24001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3438720" y="2344680"/>
                <a:ext cx="2061360" cy="2125080"/>
              </a:xfrm>
              <a:prstGeom prst="ellipse">
                <a:avLst/>
              </a:prstGeom>
              <a:gradFill rotWithShape="0">
                <a:gsLst>
                  <a:gs pos="0">
                    <a:srgbClr val="a1a1a1"/>
                  </a:gs>
                  <a:gs pos="50000">
                    <a:srgbClr val="ffffff"/>
                  </a:gs>
                  <a:gs pos="100000">
                    <a:srgbClr val="a1a1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3560040" y="2471040"/>
                <a:ext cx="1819080" cy="18784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6e815b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3560040" y="2471040"/>
                <a:ext cx="1819080" cy="187848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3679560" y="2594520"/>
                <a:ext cx="1580040" cy="1631880"/>
              </a:xfrm>
              <a:prstGeom prst="ellipse">
                <a:avLst/>
              </a:prstGeom>
              <a:gradFill rotWithShape="0">
                <a:gsLst>
                  <a:gs pos="0">
                    <a:srgbClr val="3b4531"/>
                  </a:gs>
                  <a:gs pos="50000">
                    <a:srgbClr val="6e815b"/>
                  </a:gs>
                  <a:gs pos="100000">
                    <a:srgbClr val="3b453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3679560" y="2594520"/>
                <a:ext cx="1580040" cy="1631880"/>
              </a:xfrm>
              <a:prstGeom prst="ellipse">
                <a:avLst/>
              </a:prstGeom>
              <a:gradFill rotWithShape="0">
                <a:gsLst>
                  <a:gs pos="0">
                    <a:srgbClr val="7b6200"/>
                  </a:gs>
                  <a:gs pos="100000">
                    <a:srgbClr val="ffcc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218" name=""/>
            <p:cNvSpPr/>
            <p:nvPr/>
          </p:nvSpPr>
          <p:spPr>
            <a:xfrm>
              <a:off x="1143000" y="3707640"/>
              <a:ext cx="165888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24d51"/>
                </a:gs>
                <a:gs pos="50000">
                  <a:srgbClr val="90a8b0"/>
                </a:gs>
                <a:gs pos="100000">
                  <a:srgbClr val="424d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143000" y="3208320"/>
              <a:ext cx="1658880" cy="5709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24d51"/>
                </a:gs>
                <a:gs pos="50000">
                  <a:srgbClr val="90a8b0"/>
                </a:gs>
                <a:gs pos="100000">
                  <a:srgbClr val="424d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143000" y="2709000"/>
              <a:ext cx="165888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24d51"/>
                </a:gs>
                <a:gs pos="50000">
                  <a:srgbClr val="90a8b0"/>
                </a:gs>
                <a:gs pos="100000">
                  <a:srgbClr val="424d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120360" y="3707640"/>
              <a:ext cx="172836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a3c5c"/>
                </a:gs>
                <a:gs pos="50000">
                  <a:srgbClr val="3984c9"/>
                </a:gs>
                <a:gs pos="100000">
                  <a:srgbClr val="1a3c5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120360" y="3208320"/>
              <a:ext cx="1728360" cy="5709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a3c5c"/>
                </a:gs>
                <a:gs pos="50000">
                  <a:srgbClr val="3984c9"/>
                </a:gs>
                <a:gs pos="100000">
                  <a:srgbClr val="1a3c5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120360" y="2709000"/>
              <a:ext cx="172836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a3c5c"/>
                </a:gs>
                <a:gs pos="50000">
                  <a:srgbClr val="3984c9"/>
                </a:gs>
                <a:gs pos="100000">
                  <a:srgbClr val="1a3c5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77532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702520" y="5063400"/>
              <a:ext cx="3525480" cy="4989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588320" y="2855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58832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58832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685200" y="2855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68520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68520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984c9"/>
                </a:solidFill>
                <a:latin typeface="Verdana"/>
              </a:rPr>
              <a:t>Click to add title</a:t>
            </a:r>
            <a:endParaRPr b="1" lang="en-US" sz="2800" spc="-1" strike="noStrike">
              <a:solidFill>
                <a:srgbClr val="3984c9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873000" y="5621400"/>
            <a:ext cx="1657440" cy="14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873000" y="4782960"/>
            <a:ext cx="24386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873000" y="3952800"/>
            <a:ext cx="33530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872640" y="3124080"/>
            <a:ext cx="416556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873000" y="2282760"/>
            <a:ext cx="50342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025640" y="2276640"/>
            <a:ext cx="0" cy="871200"/>
          </a:xfrm>
          <a:prstGeom prst="line">
            <a:avLst/>
          </a:prstGeom>
          <a:ln w="93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025640" y="3147840"/>
            <a:ext cx="0" cy="817560"/>
          </a:xfrm>
          <a:prstGeom prst="line">
            <a:avLst/>
          </a:prstGeom>
          <a:ln w="93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025640" y="3965400"/>
            <a:ext cx="0" cy="816120"/>
          </a:xfrm>
          <a:prstGeom prst="line">
            <a:avLst/>
          </a:prstGeom>
          <a:ln w="93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025640" y="4782960"/>
            <a:ext cx="0" cy="816120"/>
          </a:xfrm>
          <a:prstGeom prst="line">
            <a:avLst/>
          </a:prstGeom>
          <a:ln w="93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224720" y="26002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224720" y="342756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224720" y="42908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224720" y="509760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2590920" y="2286000"/>
            <a:ext cx="5825520" cy="3343320"/>
            <a:chOff x="2590920" y="2286000"/>
            <a:chExt cx="5825520" cy="3343320"/>
          </a:xfrm>
        </p:grpSpPr>
        <p:sp>
          <p:nvSpPr>
            <p:cNvPr id="247" name="未知"/>
            <p:cNvSpPr/>
            <p:nvPr/>
          </p:nvSpPr>
          <p:spPr>
            <a:xfrm>
              <a:off x="7833960" y="2286000"/>
              <a:ext cx="576000" cy="846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365011"/>
                </a:gs>
                <a:gs pos="50000">
                  <a:srgbClr val="77ae26"/>
                </a:gs>
                <a:gs pos="100000">
                  <a:srgbClr val="36501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8" name="未知"/>
            <p:cNvSpPr/>
            <p:nvPr/>
          </p:nvSpPr>
          <p:spPr>
            <a:xfrm>
              <a:off x="5073480" y="2286000"/>
              <a:ext cx="3342960" cy="54144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77ae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9" name="未知"/>
            <p:cNvSpPr/>
            <p:nvPr/>
          </p:nvSpPr>
          <p:spPr>
            <a:xfrm>
              <a:off x="7254720" y="3117960"/>
              <a:ext cx="575640" cy="84132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323b29"/>
                </a:gs>
                <a:gs pos="50000">
                  <a:srgbClr val="6e815b"/>
                </a:gs>
                <a:gs pos="100000">
                  <a:srgbClr val="323b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0" name="未知"/>
            <p:cNvSpPr/>
            <p:nvPr/>
          </p:nvSpPr>
          <p:spPr>
            <a:xfrm>
              <a:off x="4243320" y="3117960"/>
              <a:ext cx="3593520" cy="53964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6e81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1" name="未知"/>
            <p:cNvSpPr/>
            <p:nvPr/>
          </p:nvSpPr>
          <p:spPr>
            <a:xfrm>
              <a:off x="6673680" y="3949560"/>
              <a:ext cx="572760" cy="84456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24d51"/>
                </a:gs>
                <a:gs pos="50000">
                  <a:srgbClr val="90a8b0"/>
                </a:gs>
                <a:gs pos="100000">
                  <a:srgbClr val="424d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2" name="未知"/>
            <p:cNvSpPr/>
            <p:nvPr/>
          </p:nvSpPr>
          <p:spPr>
            <a:xfrm>
              <a:off x="6095880" y="4782960"/>
              <a:ext cx="577440" cy="84636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1a3c5c"/>
                </a:gs>
                <a:gs pos="50000">
                  <a:srgbClr val="3984c9"/>
                </a:gs>
                <a:gs pos="100000">
                  <a:srgbClr val="1a3c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3" name="未知"/>
            <p:cNvSpPr/>
            <p:nvPr/>
          </p:nvSpPr>
          <p:spPr>
            <a:xfrm>
              <a:off x="2592000" y="4788000"/>
              <a:ext cx="4081320" cy="53964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3984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4" name="未知"/>
            <p:cNvSpPr/>
            <p:nvPr/>
          </p:nvSpPr>
          <p:spPr>
            <a:xfrm>
              <a:off x="3184200" y="2440080"/>
              <a:ext cx="1838160" cy="272232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00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079600" y="2827440"/>
              <a:ext cx="2766960" cy="304560"/>
            </a:xfrm>
            <a:prstGeom prst="rect">
              <a:avLst/>
            </a:prstGeom>
            <a:gradFill rotWithShape="0">
              <a:gsLst>
                <a:gs pos="0">
                  <a:srgbClr val="557d1b"/>
                </a:gs>
                <a:gs pos="50000">
                  <a:srgbClr val="77ae26"/>
                </a:gs>
                <a:gs pos="100000">
                  <a:srgbClr val="557d1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44760" y="3657600"/>
              <a:ext cx="3015720" cy="298440"/>
            </a:xfrm>
            <a:prstGeom prst="rect">
              <a:avLst/>
            </a:prstGeom>
            <a:gradFill rotWithShape="0">
              <a:gsLst>
                <a:gs pos="0">
                  <a:srgbClr val="4f5d41"/>
                </a:gs>
                <a:gs pos="50000">
                  <a:srgbClr val="6e815b"/>
                </a:gs>
                <a:gs pos="100000">
                  <a:srgbClr val="4f5d4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7" name="未知"/>
            <p:cNvSpPr/>
            <p:nvPr/>
          </p:nvSpPr>
          <p:spPr>
            <a:xfrm>
              <a:off x="3419280" y="3949560"/>
              <a:ext cx="3833280" cy="54468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90a8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422520" y="4492800"/>
              <a:ext cx="3263400" cy="298440"/>
            </a:xfrm>
            <a:prstGeom prst="rect">
              <a:avLst/>
            </a:prstGeom>
            <a:gradFill rotWithShape="0">
              <a:gsLst>
                <a:gs pos="0">
                  <a:srgbClr val="68797f"/>
                </a:gs>
                <a:gs pos="50000">
                  <a:srgbClr val="90a8b0"/>
                </a:gs>
                <a:gs pos="100000">
                  <a:srgbClr val="68797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590920" y="5329080"/>
              <a:ext cx="3512880" cy="297000"/>
            </a:xfrm>
            <a:prstGeom prst="rect">
              <a:avLst/>
            </a:prstGeom>
            <a:gradFill rotWithShape="0">
              <a:gsLst>
                <a:gs pos="0">
                  <a:srgbClr val="295f91"/>
                </a:gs>
                <a:gs pos="50000">
                  <a:srgbClr val="3984c9"/>
                </a:gs>
                <a:gs pos="100000">
                  <a:srgbClr val="295f9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984c9"/>
                </a:solidFill>
                <a:latin typeface="Verdana"/>
              </a:rPr>
              <a:t>Click to add title</a:t>
            </a:r>
            <a:endParaRPr b="1" lang="en-US" sz="2800" spc="-1" strike="noStrike">
              <a:solidFill>
                <a:srgbClr val="3984c9"/>
              </a:solidFill>
              <a:latin typeface="Verdana"/>
            </a:endParaRPr>
          </a:p>
        </p:txBody>
      </p:sp>
      <p:sp>
        <p:nvSpPr>
          <p:cNvPr id="261" name="未知"/>
          <p:cNvSpPr/>
          <p:nvPr/>
        </p:nvSpPr>
        <p:spPr>
          <a:xfrm>
            <a:off x="5073480" y="1219320"/>
            <a:ext cx="1467000" cy="1155600"/>
          </a:xfrm>
          <a:custGeom>
            <a:avLst/>
            <a:gdLst/>
            <a:ahLst/>
            <a:rect l="l" t="t" r="r" b="b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6e815b"/>
              </a:gs>
              <a:gs pos="100000">
                <a:srgbClr val="7a8b69">
                  <a:alpha val="3215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424320" y="2652840"/>
            <a:ext cx="2295360" cy="3155760"/>
          </a:xfrm>
          <a:custGeom>
            <a:avLst/>
            <a:gdLst>
              <a:gd name="textAreaLeft" fmla="*/ 31320 w 2295360"/>
              <a:gd name="textAreaRight" fmla="*/ 2264040 w 2295360"/>
              <a:gd name="textAreaTop" fmla="*/ 31320 h 3155760"/>
              <a:gd name="textAreaBottom" fmla="*/ 3124440 h 3155760"/>
            </a:gdLst>
            <a:ahLst/>
            <a:rect l="textAreaLeft" t="textAreaTop" r="textAreaRight" b="textAreaBottom"/>
            <a:pathLst>
              <a:path w="21600" h="29695">
                <a:moveTo>
                  <a:pt x="1013" y="0"/>
                </a:moveTo>
                <a:arcTo wR="1013" hR="1013" stAng="16200000" swAng="-5400000"/>
                <a:lnTo>
                  <a:pt x="0" y="28682"/>
                </a:lnTo>
                <a:arcTo wR="1013" hR="1013" stAng="10800000" swAng="-5400000"/>
                <a:lnTo>
                  <a:pt x="20587" y="29695"/>
                </a:lnTo>
                <a:arcTo wR="1013" hR="1013" stAng="5400000" swAng="-5400000"/>
                <a:lnTo>
                  <a:pt x="21600" y="1013"/>
                </a:lnTo>
                <a:arcTo wR="1013" hR="1013" stAng="0" swAng="-5400000"/>
                <a:close/>
              </a:path>
            </a:pathLst>
          </a:custGeom>
          <a:noFill/>
          <a:ln w="57240">
            <a:solidFill>
              <a:srgbClr val="77ae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657600" y="2514600"/>
            <a:ext cx="1863720" cy="287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65011"/>
              </a:gs>
              <a:gs pos="50000">
                <a:srgbClr val="77ae26"/>
              </a:gs>
              <a:gs pos="100000">
                <a:srgbClr val="36501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5333400" y="2590920"/>
            <a:ext cx="73080" cy="14436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3742560" y="2581200"/>
            <a:ext cx="71640" cy="14436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934240" y="2151000"/>
            <a:ext cx="2295360" cy="3156120"/>
          </a:xfrm>
          <a:custGeom>
            <a:avLst/>
            <a:gdLst>
              <a:gd name="textAreaLeft" fmla="*/ 31320 w 2295360"/>
              <a:gd name="textAreaRight" fmla="*/ 2264040 w 2295360"/>
              <a:gd name="textAreaTop" fmla="*/ 31320 h 3156120"/>
              <a:gd name="textAreaBottom" fmla="*/ 3124800 h 3156120"/>
            </a:gdLst>
            <a:ahLst/>
            <a:rect l="textAreaLeft" t="textAreaTop" r="textAreaRight" b="textAreaBottom"/>
            <a:pathLst>
              <a:path w="21600" h="29699">
                <a:moveTo>
                  <a:pt x="1013" y="0"/>
                </a:moveTo>
                <a:arcTo wR="1013" hR="1013" stAng="16200000" swAng="-5400000"/>
                <a:lnTo>
                  <a:pt x="0" y="28686"/>
                </a:lnTo>
                <a:arcTo wR="1013" hR="1013" stAng="10800000" swAng="-5400000"/>
                <a:lnTo>
                  <a:pt x="20587" y="29699"/>
                </a:lnTo>
                <a:arcTo wR="1013" hR="1013" stAng="5400000" swAng="-5400000"/>
                <a:lnTo>
                  <a:pt x="21600" y="1013"/>
                </a:lnTo>
                <a:arcTo wR="1013" hR="1013" stAng="0" swAng="-5400000"/>
                <a:close/>
              </a:path>
            </a:pathLst>
          </a:custGeom>
          <a:noFill/>
          <a:ln w="57240">
            <a:solidFill>
              <a:srgbClr val="6e81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149880" y="2008080"/>
            <a:ext cx="1863720" cy="287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23b29"/>
              </a:gs>
              <a:gs pos="50000">
                <a:srgbClr val="6e815b"/>
              </a:gs>
              <a:gs pos="100000">
                <a:srgbClr val="323b2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7835040" y="2079720"/>
            <a:ext cx="71640" cy="14292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6253200" y="2079720"/>
            <a:ext cx="71280" cy="14292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0" name="未知"/>
          <p:cNvSpPr/>
          <p:nvPr/>
        </p:nvSpPr>
        <p:spPr>
          <a:xfrm>
            <a:off x="2492280" y="1720800"/>
            <a:ext cx="1467000" cy="1157400"/>
          </a:xfrm>
          <a:custGeom>
            <a:avLst/>
            <a:gdLst/>
            <a:ahLst/>
            <a:rect l="l" t="t" r="r" b="b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90a8b0"/>
              </a:gs>
              <a:gs pos="100000">
                <a:srgbClr val="beccd0">
                  <a:alpha val="3215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913200" y="2486160"/>
            <a:ext cx="13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dd Your Title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27800" y="1990800"/>
            <a:ext cx="13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dd Your Title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914400" y="2914560"/>
            <a:ext cx="2295360" cy="3324240"/>
            <a:chOff x="914400" y="2914560"/>
            <a:chExt cx="2295360" cy="3324240"/>
          </a:xfrm>
        </p:grpSpPr>
        <p:sp>
          <p:nvSpPr>
            <p:cNvPr id="274" name=""/>
            <p:cNvSpPr/>
            <p:nvPr/>
          </p:nvSpPr>
          <p:spPr>
            <a:xfrm>
              <a:off x="914400" y="3082680"/>
              <a:ext cx="2295360" cy="3156120"/>
            </a:xfrm>
            <a:custGeom>
              <a:avLst/>
              <a:gdLst>
                <a:gd name="textAreaLeft" fmla="*/ 31320 w 2295360"/>
                <a:gd name="textAreaRight" fmla="*/ 2264040 w 2295360"/>
                <a:gd name="textAreaTop" fmla="*/ 31320 h 3156120"/>
                <a:gd name="textAreaBottom" fmla="*/ 3124800 h 3156120"/>
              </a:gdLst>
              <a:ahLst/>
              <a:rect l="textAreaLeft" t="textAreaTop" r="textAreaRight" b="textAreaBottom"/>
              <a:pathLst>
                <a:path w="21600" h="29699">
                  <a:moveTo>
                    <a:pt x="1013" y="0"/>
                  </a:moveTo>
                  <a:arcTo wR="1013" hR="1013" stAng="16200000" swAng="-5400000"/>
                  <a:lnTo>
                    <a:pt x="0" y="28686"/>
                  </a:lnTo>
                  <a:arcTo wR="1013" hR="1013" stAng="10800000" swAng="-5400000"/>
                  <a:lnTo>
                    <a:pt x="20587" y="29699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90a8b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130400" y="2940120"/>
              <a:ext cx="1863720" cy="287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74044"/>
                </a:gs>
                <a:gs pos="50000">
                  <a:srgbClr val="90a8b0"/>
                </a:gs>
                <a:gs pos="100000">
                  <a:srgbClr val="37404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>
              <a:off x="2813760" y="3011400"/>
              <a:ext cx="71640" cy="14436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>
              <a:off x="1231200" y="3011400"/>
              <a:ext cx="73080" cy="14436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398600" y="291456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dd Your Title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990720" y="3343320"/>
              <a:ext cx="21333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80" name=""/>
          <p:cNvSpPr/>
          <p:nvPr/>
        </p:nvSpPr>
        <p:spPr>
          <a:xfrm>
            <a:off x="3505320" y="2886120"/>
            <a:ext cx="2133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 Design Digital Content &amp; Contents mall developed by Guild Design Inc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019920" y="2352600"/>
            <a:ext cx="2133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 Design Digital Content &amp; Contents mall developed by Guild Design Inc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984c9"/>
                </a:solidFill>
                <a:latin typeface="Verdana"/>
              </a:rPr>
              <a:t>Click to add title</a:t>
            </a:r>
            <a:endParaRPr b="1" lang="en-US" sz="2800" spc="-1" strike="noStrike">
              <a:solidFill>
                <a:srgbClr val="3984c9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722760" y="3657600"/>
            <a:ext cx="1839960" cy="2286000"/>
          </a:xfrm>
          <a:custGeom>
            <a:avLst/>
            <a:gdLst>
              <a:gd name="textAreaLeft" fmla="*/ 73800 w 1839960"/>
              <a:gd name="textAreaRight" fmla="*/ 1766160 w 1839960"/>
              <a:gd name="textAreaTop" fmla="*/ 73800 h 2286000"/>
              <a:gd name="textAreaBottom" fmla="*/ 2212200 h 2286000"/>
            </a:gdLst>
            <a:ahLst/>
            <a:rect l="textAreaLeft" t="textAreaTop" r="textAreaRight" b="textAreaBottom"/>
            <a:pathLst>
              <a:path w="21600" h="26835">
                <a:moveTo>
                  <a:pt x="2969" y="0"/>
                </a:moveTo>
                <a:arcTo wR="2969" hR="2969" stAng="16200000" swAng="-5400000"/>
                <a:lnTo>
                  <a:pt x="0" y="23866"/>
                </a:lnTo>
                <a:arcTo wR="2969" hR="2969" stAng="10800000" swAng="-5400000"/>
                <a:lnTo>
                  <a:pt x="18631" y="26835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219320" y="3657600"/>
            <a:ext cx="1828800" cy="2286000"/>
          </a:xfrm>
          <a:custGeom>
            <a:avLst/>
            <a:gdLst>
              <a:gd name="textAreaLeft" fmla="*/ 73440 w 1828800"/>
              <a:gd name="textAreaRight" fmla="*/ 1755360 w 1828800"/>
              <a:gd name="textAreaTop" fmla="*/ 73440 h 2286000"/>
              <a:gd name="textAreaBottom" fmla="*/ 2212560 h 2286000"/>
            </a:gdLst>
            <a:ahLst/>
            <a:rect l="textAreaLeft" t="textAreaTop" r="textAreaRight" b="textAreaBottom"/>
            <a:pathLst>
              <a:path w="21600" h="26999">
                <a:moveTo>
                  <a:pt x="2969" y="0"/>
                </a:moveTo>
                <a:arcTo wR="2969" hR="2969" stAng="16200000" swAng="-5400000"/>
                <a:lnTo>
                  <a:pt x="0" y="24030"/>
                </a:lnTo>
                <a:arcTo wR="2969" hR="2969" stAng="10800000" swAng="-5400000"/>
                <a:lnTo>
                  <a:pt x="18631" y="26999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3657600"/>
            <a:ext cx="1752480" cy="2286000"/>
          </a:xfrm>
          <a:custGeom>
            <a:avLst/>
            <a:gdLst>
              <a:gd name="textAreaLeft" fmla="*/ 70560 w 1752480"/>
              <a:gd name="textAreaRight" fmla="*/ 1681920 w 1752480"/>
              <a:gd name="textAreaTop" fmla="*/ 70560 h 2286000"/>
              <a:gd name="textAreaBottom" fmla="*/ 2215440 h 2286000"/>
            </a:gdLst>
            <a:ahLst/>
            <a:rect l="textAreaLeft" t="textAreaTop" r="textAreaRight" b="textAreaBottom"/>
            <a:pathLst>
              <a:path w="21600" h="28174">
                <a:moveTo>
                  <a:pt x="2969" y="0"/>
                </a:moveTo>
                <a:arcTo wR="2969" hR="2969" stAng="16200000" swAng="-5400000"/>
                <a:lnTo>
                  <a:pt x="0" y="25205"/>
                </a:lnTo>
                <a:arcTo wR="2969" hR="2969" stAng="10800000" swAng="-5400000"/>
                <a:lnTo>
                  <a:pt x="18631" y="2817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51080" y="2452680"/>
            <a:ext cx="400320" cy="449280"/>
          </a:xfrm>
          <a:custGeom>
            <a:avLst/>
            <a:gdLst>
              <a:gd name="textAreaLeft" fmla="*/ 0 w 400320"/>
              <a:gd name="textAreaRight" fmla="*/ 400680 w 4003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3984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613480" y="2452680"/>
            <a:ext cx="398520" cy="449280"/>
          </a:xfrm>
          <a:custGeom>
            <a:avLst/>
            <a:gdLst>
              <a:gd name="textAreaLeft" fmla="*/ 0 w 398520"/>
              <a:gd name="textAreaRight" fmla="*/ 398880 w 3985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6e81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221520" y="1833480"/>
            <a:ext cx="1703160" cy="16876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6e815b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221520" y="1833480"/>
            <a:ext cx="1703160" cy="168768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6e815b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332400" y="1944720"/>
            <a:ext cx="1481400" cy="1466640"/>
          </a:xfrm>
          <a:prstGeom prst="ellipse">
            <a:avLst/>
          </a:prstGeom>
          <a:gradFill rotWithShape="0">
            <a:gsLst>
              <a:gs pos="0">
                <a:srgbClr val="3b4531"/>
              </a:gs>
              <a:gs pos="50000">
                <a:srgbClr val="6e815b"/>
              </a:gs>
              <a:gs pos="100000">
                <a:srgbClr val="3b4531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357960" y="19526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6e815b">
                  <a:alpha val="0"/>
                </a:srgbClr>
              </a:gs>
              <a:gs pos="100000">
                <a:srgbClr val="45513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411960" y="2016000"/>
            <a:ext cx="133488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29528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90a8b0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29528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90a8b0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406520" y="19382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4d5a5e"/>
              </a:gs>
              <a:gs pos="50000">
                <a:srgbClr val="90a8b0"/>
              </a:gs>
              <a:gs pos="100000">
                <a:srgbClr val="4d5a5e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407960" y="1941480"/>
            <a:ext cx="1481400" cy="1467000"/>
          </a:xfrm>
          <a:prstGeom prst="ellipse">
            <a:avLst/>
          </a:prstGeom>
          <a:gradFill rotWithShape="0">
            <a:gsLst>
              <a:gs pos="0">
                <a:srgbClr val="90a8b0">
                  <a:alpha val="0"/>
                </a:srgbClr>
              </a:gs>
              <a:gs pos="100000">
                <a:srgbClr val="5b6a6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481040" y="2013120"/>
            <a:ext cx="1333440" cy="132048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501920" y="2031840"/>
            <a:ext cx="1290600" cy="1278000"/>
            <a:chOff x="1501920" y="2031840"/>
            <a:chExt cx="1290600" cy="1278000"/>
          </a:xfrm>
        </p:grpSpPr>
        <p:sp>
          <p:nvSpPr>
            <p:cNvPr id="299" name=""/>
            <p:cNvSpPr/>
            <p:nvPr/>
          </p:nvSpPr>
          <p:spPr>
            <a:xfrm>
              <a:off x="1501920" y="2031840"/>
              <a:ext cx="1290600" cy="12780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518480" y="2038680"/>
              <a:ext cx="125928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531800" y="2051280"/>
              <a:ext cx="1197720" cy="11646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60164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03" name=""/>
          <p:cNvSpPr/>
          <p:nvPr/>
        </p:nvSpPr>
        <p:spPr>
          <a:xfrm>
            <a:off x="375912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3984c9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75912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1a3c5c"/>
              </a:gs>
              <a:gs pos="100000">
                <a:srgbClr val="3984c9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70360" y="1944720"/>
            <a:ext cx="1481040" cy="1466640"/>
          </a:xfrm>
          <a:prstGeom prst="ellipse">
            <a:avLst/>
          </a:prstGeom>
          <a:gradFill rotWithShape="0">
            <a:gsLst>
              <a:gs pos="0">
                <a:srgbClr val="1e476c"/>
              </a:gs>
              <a:gs pos="50000">
                <a:srgbClr val="3984c9"/>
              </a:gs>
              <a:gs pos="100000">
                <a:srgbClr val="1e476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871800" y="1946160"/>
            <a:ext cx="1481400" cy="1467000"/>
          </a:xfrm>
          <a:prstGeom prst="ellipse">
            <a:avLst/>
          </a:prstGeom>
          <a:gradFill rotWithShape="0">
            <a:gsLst>
              <a:gs pos="0">
                <a:srgbClr val="3984c9">
                  <a:alpha val="0"/>
                </a:srgbClr>
              </a:gs>
              <a:gs pos="100000">
                <a:srgbClr val="24537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943440" y="2016000"/>
            <a:ext cx="133344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3965400" y="2031840"/>
            <a:ext cx="1290960" cy="1278000"/>
            <a:chOff x="3965400" y="2031840"/>
            <a:chExt cx="1290960" cy="1278000"/>
          </a:xfrm>
        </p:grpSpPr>
        <p:sp>
          <p:nvSpPr>
            <p:cNvPr id="309" name=""/>
            <p:cNvSpPr/>
            <p:nvPr/>
          </p:nvSpPr>
          <p:spPr>
            <a:xfrm>
              <a:off x="3965400" y="2031840"/>
              <a:ext cx="1290960" cy="12780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981960" y="2038680"/>
              <a:ext cx="12596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995280" y="2051280"/>
              <a:ext cx="1198080" cy="11646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06548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6435720" y="2031840"/>
            <a:ext cx="1292400" cy="1278000"/>
            <a:chOff x="6435720" y="2031840"/>
            <a:chExt cx="1292400" cy="1278000"/>
          </a:xfrm>
        </p:grpSpPr>
        <p:sp>
          <p:nvSpPr>
            <p:cNvPr id="314" name=""/>
            <p:cNvSpPr/>
            <p:nvPr/>
          </p:nvSpPr>
          <p:spPr>
            <a:xfrm>
              <a:off x="6435720" y="2031840"/>
              <a:ext cx="1292400" cy="12780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452280" y="2038680"/>
              <a:ext cx="126108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465600" y="2051280"/>
              <a:ext cx="1199520" cy="11646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535800" y="2083680"/>
              <a:ext cx="1066320" cy="9450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76508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23360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70032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1T04:52:28Z</dcterms:created>
  <dc:creator/>
  <dc:description/>
  <dc:language>en-US</dc:language>
  <cp:lastModifiedBy>Sung Ha, Park</cp:lastModifiedBy>
  <cp:lastPrinted>1899-12-30T00:00:00Z</cp:lastPrinted>
  <dcterms:modified xsi:type="dcterms:W3CDTF">2004-11-23T08:19:59Z</dcterms:modified>
  <cp:revision>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8.1.0.3018</vt:lpwstr>
  </property>
</Properties>
</file>