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001-C893-4049-907E-0DBA1375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710-F80F-4361-9C19-5A0DFCA1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BCE-D463-412F-8D41-E67AB922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E18-0358-4555-AA71-DA7CCA31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AF34-58E8-4B55-B38C-7FD8DBAC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F5EE-D34C-43E5-BC34-DDB0892D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9214-8010-4F09-95C9-AFB9AA93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7E78-3B51-4AC2-9815-05C871A6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E15C-D023-4E9E-86F1-1A5B7C23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D54D-15FF-460A-9E28-4DB5FD6C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4E42-16E8-431E-B38D-A6951F0F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919-E871-4F15-85BD-31BCFF7A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3757-0C0D-4C0F-8E80-DB491F29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EFD3-EC40-4151-BC59-782D3BF9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0F9E-9FA0-4E14-8664-6C04D597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B566-DCD6-4A1D-A995-F5D222BE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E706-ACDE-4B59-A381-E775B429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2CAED-98E8-428A-A863-9FBC012E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FB7F-5A02-4B77-9A84-E2505A63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7DA4D-6681-485C-8EB2-DAA8F025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4EE6-CD08-4315-B3CF-BB0A5EBF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A45A-C6AF-4C5C-A7EC-6F126D20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166-EE17-438B-B4E7-F4FFE52C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8AE26-3B39-406B-9DF9-5C2CFD6A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9BBD-4311-4C8F-9161-29D4AA2E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F4D01-A116-43B8-814A-BFA1C3BB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C49C-FD45-447E-A5FD-3930DA27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C6172-C22A-47DF-B666-9280FBA4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CC3C-3190-47D2-80BD-BE823090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CF213-4A2F-4603-A462-7EF39995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559-5145-4237-931B-87145020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B82-34B6-4A98-8C6E-283E9043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673-93AA-4CE4-8D85-E69E8E64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E02-47AB-40DD-A9C5-8E461687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0CD-1D40-43F6-9B55-FEAFC9CF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902-6AFC-4C8F-A1E3-FD0CDE3E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33920" y="0"/>
            <a:ext cx="5410080" cy="685800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91960" y="0"/>
            <a:ext cx="6858000" cy="687060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eb6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DB40-A860-4751-8A7C-004EC08FCF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91116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667640" y="115920"/>
            <a:ext cx="1081080" cy="1152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0e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066680" y="0"/>
            <a:ext cx="8077320" cy="6858000"/>
            <a:chOff x="1066680" y="0"/>
            <a:chExt cx="8077320" cy="6858000"/>
          </a:xfrm>
        </p:grpSpPr>
        <p:sp>
          <p:nvSpPr>
            <p:cNvPr id="47" name=""/>
            <p:cNvSpPr/>
            <p:nvPr/>
          </p:nvSpPr>
          <p:spPr>
            <a:xfrm>
              <a:off x="1066680" y="6480"/>
              <a:ext cx="7346880" cy="6851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1360" y="0"/>
              <a:ext cx="4292640" cy="685476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5D9D-BB0F-4BC0-BCFC-A7E0DB8082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8600"/>
            <a:ext cx="160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6520" y="6132600"/>
            <a:ext cx="428400" cy="38556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47640" y="2028960"/>
            <a:ext cx="4380120" cy="4424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EC7E-4A82-423D-832F-23C8F9B5B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0e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8377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owerPoint Template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334120" y="61722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143000" y="1523880"/>
            <a:ext cx="7467480" cy="4444920"/>
            <a:chOff x="1143000" y="1523880"/>
            <a:chExt cx="7467480" cy="4444920"/>
          </a:xfrm>
        </p:grpSpPr>
        <p:sp>
          <p:nvSpPr>
            <p:cNvPr id="326" name="Unknown Shape"/>
            <p:cNvSpPr/>
            <p:nvPr/>
          </p:nvSpPr>
          <p:spPr>
            <a:xfrm>
              <a:off x="1143000" y="19303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2eb62e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91320" y="330192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14880" y="3733560"/>
              <a:ext cx="1704960" cy="2028960"/>
              <a:chOff x="3314880" y="3733560"/>
              <a:chExt cx="1704960" cy="2028960"/>
            </a:xfrm>
          </p:grpSpPr>
          <p:sp>
            <p:nvSpPr>
              <p:cNvPr id="329" name=""/>
              <p:cNvSpPr/>
              <p:nvPr/>
            </p:nvSpPr>
            <p:spPr>
              <a:xfrm rot="20876400">
                <a:off x="3383280" y="49528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14880" y="37335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35400" y="37429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353040" y="37591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445200" y="38034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32480" y="43606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477800" y="3352680"/>
              <a:ext cx="1371240" cy="1718640"/>
              <a:chOff x="1477800" y="3352680"/>
              <a:chExt cx="1371240" cy="1718640"/>
            </a:xfrm>
          </p:grpSpPr>
          <p:sp>
            <p:nvSpPr>
              <p:cNvPr id="336" name=""/>
              <p:cNvSpPr/>
              <p:nvPr/>
            </p:nvSpPr>
            <p:spPr>
              <a:xfrm rot="20826600">
                <a:off x="1554120" y="43430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1477800" y="3352680"/>
                <a:ext cx="1371240" cy="1441080"/>
                <a:chOff x="1477800" y="3352680"/>
                <a:chExt cx="1371240" cy="14410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477800" y="33526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495800" y="33609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508760" y="33742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580400" y="34110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58240" y="38588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" name=""/>
            <p:cNvGrpSpPr/>
            <p:nvPr/>
          </p:nvGrpSpPr>
          <p:grpSpPr>
            <a:xfrm>
              <a:off x="1219320" y="1981080"/>
              <a:ext cx="1100160" cy="1139760"/>
              <a:chOff x="1219320" y="1981080"/>
              <a:chExt cx="1100160" cy="1139760"/>
            </a:xfrm>
          </p:grpSpPr>
          <p:sp>
            <p:nvSpPr>
              <p:cNvPr id="344" name=""/>
              <p:cNvSpPr/>
              <p:nvPr/>
            </p:nvSpPr>
            <p:spPr>
              <a:xfrm>
                <a:off x="1219320" y="258768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95640" y="198108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08240" y="19857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19400" y="199692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73400" y="202248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92560" y="23302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514600" y="1523880"/>
              <a:ext cx="804960" cy="762120"/>
              <a:chOff x="2514600" y="1523880"/>
              <a:chExt cx="804960" cy="762120"/>
            </a:xfrm>
          </p:grpSpPr>
          <p:sp>
            <p:nvSpPr>
              <p:cNvPr id="351" name=""/>
              <p:cNvSpPr/>
              <p:nvPr/>
            </p:nvSpPr>
            <p:spPr>
              <a:xfrm>
                <a:off x="2514600" y="205740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637000" y="152388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646360" y="152712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52840" y="153324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689200" y="155232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07200" y="1747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55640" y="2279520"/>
            <a:ext cx="7632720" cy="3054240"/>
            <a:chOff x="755640" y="2279520"/>
            <a:chExt cx="7632720" cy="3054240"/>
          </a:xfrm>
        </p:grpSpPr>
        <p:sp>
          <p:nvSpPr>
            <p:cNvPr id="359" name=""/>
            <p:cNvSpPr/>
            <p:nvPr/>
          </p:nvSpPr>
          <p:spPr>
            <a:xfrm>
              <a:off x="2916360" y="3078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8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51640" y="3078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eb62e"/>
                </a:gs>
                <a:gs pos="100000">
                  <a:srgbClr val="a5df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2764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eb62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2764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2eb62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69120" y="242712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186218"/>
                </a:gs>
                <a:gs pos="50000">
                  <a:srgbClr val="2eb62e"/>
                </a:gs>
                <a:gs pos="100000">
                  <a:srgbClr val="18621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00800" y="2438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eb62e">
                    <a:alpha val="0"/>
                  </a:srgbClr>
                </a:gs>
                <a:gs pos="100000">
                  <a:srgbClr val="1d73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70640" y="2520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55640" y="2279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e88a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5640" y="2279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88a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96760" y="24206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d4a00"/>
                </a:gs>
                <a:gs pos="50000">
                  <a:srgbClr val="e88a00"/>
                </a:gs>
                <a:gs pos="100000">
                  <a:srgbClr val="7d4a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98560" y="24238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e88a00">
                    <a:alpha val="0"/>
                  </a:srgbClr>
                </a:gs>
                <a:gs pos="100000">
                  <a:srgbClr val="925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90720" y="25146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1017720" y="2539800"/>
              <a:ext cx="1636560" cy="1636920"/>
              <a:chOff x="1017720" y="2539800"/>
              <a:chExt cx="1636560" cy="1636920"/>
            </a:xfrm>
          </p:grpSpPr>
          <p:sp>
            <p:nvSpPr>
              <p:cNvPr id="372" name=""/>
              <p:cNvSpPr/>
              <p:nvPr/>
            </p:nvSpPr>
            <p:spPr>
              <a:xfrm>
                <a:off x="1017720" y="2539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038600" y="25488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055520" y="2564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44440" y="2606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349236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c66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9236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3840" y="2427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d3600"/>
                </a:gs>
                <a:gs pos="50000">
                  <a:srgbClr val="cc6600"/>
                </a:gs>
                <a:gs pos="100000">
                  <a:srgbClr val="6d3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35280" y="2430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cc6600">
                    <a:alpha val="0"/>
                  </a:srgbClr>
                </a:gs>
                <a:gs pos="100000">
                  <a:srgbClr val="814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27440" y="2520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3754440" y="2539800"/>
              <a:ext cx="1636560" cy="1636920"/>
              <a:chOff x="3754440" y="2539800"/>
              <a:chExt cx="1636560" cy="1636920"/>
            </a:xfrm>
          </p:grpSpPr>
          <p:sp>
            <p:nvSpPr>
              <p:cNvPr id="382" name=""/>
              <p:cNvSpPr/>
              <p:nvPr/>
            </p:nvSpPr>
            <p:spPr>
              <a:xfrm>
                <a:off x="3754440" y="2539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775320" y="25488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792240" y="2564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81160" y="2606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6500880" y="2539800"/>
              <a:ext cx="1636560" cy="1636920"/>
              <a:chOff x="6500880" y="2539800"/>
              <a:chExt cx="1636560" cy="1636920"/>
            </a:xfrm>
          </p:grpSpPr>
          <p:sp>
            <p:nvSpPr>
              <p:cNvPr id="387" name=""/>
              <p:cNvSpPr/>
              <p:nvPr/>
            </p:nvSpPr>
            <p:spPr>
              <a:xfrm>
                <a:off x="6500880" y="2539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521760" y="25488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538680" y="2564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627600" y="2606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804960" y="4817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38440" y="4817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91360" y="4817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52240" y="314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95440" y="314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38640" y="314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99" name=""/>
            <p:cNvSpPr/>
            <p:nvPr/>
          </p:nvSpPr>
          <p:spPr>
            <a:xfrm rot="17973000">
              <a:off x="4563000" y="253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e88a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3465600">
              <a:off x="4613040" y="4645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e88a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4368800">
              <a:off x="3394440" y="255780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e88a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534800">
              <a:off x="3356280" y="46126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e88a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e88a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e88a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2c582"/>
                </a:gs>
                <a:gs pos="100000">
                  <a:srgbClr val="e8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2c582"/>
                </a:gs>
                <a:gs pos="100000">
                  <a:srgbClr val="e8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2c582"/>
                </a:gs>
                <a:gs pos="100000">
                  <a:srgbClr val="e8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2c582"/>
                </a:gs>
                <a:gs pos="100000">
                  <a:srgbClr val="e8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2c582"/>
                </a:gs>
                <a:gs pos="100000">
                  <a:srgbClr val="e8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2c582"/>
                </a:gs>
                <a:gs pos="100000">
                  <a:srgbClr val="e8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eb62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2eb62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86218"/>
                </a:gs>
                <a:gs pos="50000">
                  <a:srgbClr val="2eb62e"/>
                </a:gs>
                <a:gs pos="100000">
                  <a:srgbClr val="18621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eb62e">
                    <a:alpha val="0"/>
                  </a:srgbClr>
                </a:gs>
                <a:gs pos="100000">
                  <a:srgbClr val="1d73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24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244520" y="2039760"/>
            <a:ext cx="2163600" cy="3165480"/>
            <a:chOff x="1244520" y="2039760"/>
            <a:chExt cx="2163600" cy="3165480"/>
          </a:xfrm>
        </p:grpSpPr>
        <p:sp>
          <p:nvSpPr>
            <p:cNvPr id="431" name=""/>
            <p:cNvSpPr/>
            <p:nvPr/>
          </p:nvSpPr>
          <p:spPr>
            <a:xfrm>
              <a:off x="124452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1278000" y="2039760"/>
              <a:ext cx="2100240" cy="3119400"/>
              <a:chOff x="1278000" y="2039760"/>
              <a:chExt cx="2100240" cy="3119400"/>
            </a:xfrm>
          </p:grpSpPr>
          <p:sp>
            <p:nvSpPr>
              <p:cNvPr id="433" name=""/>
              <p:cNvSpPr/>
              <p:nvPr/>
            </p:nvSpPr>
            <p:spPr>
              <a:xfrm>
                <a:off x="1278000" y="2355840"/>
                <a:ext cx="2098800" cy="2803320"/>
              </a:xfrm>
              <a:custGeom>
                <a:avLst/>
                <a:gdLst>
                  <a:gd name="textAreaLeft" fmla="*/ 102240 w 2098800"/>
                  <a:gd name="textAreaRight" fmla="*/ 1996560 w 209880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49">
                    <a:moveTo>
                      <a:pt x="3600" y="0"/>
                    </a:moveTo>
                    <a:arcTo wR="3600" hR="3600" stAng="16200000" swAng="-5400000"/>
                    <a:lnTo>
                      <a:pt x="0" y="25249"/>
                    </a:lnTo>
                    <a:arcTo wR="3600" hR="3600" stAng="10800000" swAng="-5400000"/>
                    <a:lnTo>
                      <a:pt x="18000" y="288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95640" y="441936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acd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95640" y="237780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ddef5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1989360" y="2039760"/>
                <a:ext cx="642600" cy="642960"/>
                <a:chOff x="1989360" y="2039760"/>
                <a:chExt cx="642600" cy="6429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1989360" y="2039760"/>
                  <a:ext cx="64260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995840" y="2044440"/>
                  <a:ext cx="62136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003400" y="2048400"/>
                  <a:ext cx="606960" cy="60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010240" y="2054160"/>
                  <a:ext cx="57708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044080" y="2069640"/>
                  <a:ext cx="51264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>
                <a:off x="212940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320840" y="280188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5969160" y="2039760"/>
            <a:ext cx="2163600" cy="3165480"/>
            <a:chOff x="5969160" y="2039760"/>
            <a:chExt cx="2163600" cy="3165480"/>
          </a:xfrm>
        </p:grpSpPr>
        <p:sp>
          <p:nvSpPr>
            <p:cNvPr id="445" name=""/>
            <p:cNvSpPr/>
            <p:nvPr/>
          </p:nvSpPr>
          <p:spPr>
            <a:xfrm>
              <a:off x="596916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6002640" y="2039760"/>
              <a:ext cx="2100240" cy="3119400"/>
              <a:chOff x="6002640" y="2039760"/>
              <a:chExt cx="2100240" cy="3119400"/>
            </a:xfrm>
          </p:grpSpPr>
          <p:sp>
            <p:nvSpPr>
              <p:cNvPr id="447" name=""/>
              <p:cNvSpPr/>
              <p:nvPr/>
            </p:nvSpPr>
            <p:spPr>
              <a:xfrm>
                <a:off x="6002640" y="2355840"/>
                <a:ext cx="2098800" cy="2803320"/>
              </a:xfrm>
              <a:custGeom>
                <a:avLst/>
                <a:gdLst>
                  <a:gd name="textAreaLeft" fmla="*/ 102240 w 2098800"/>
                  <a:gd name="textAreaRight" fmla="*/ 1996560 w 209880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49">
                    <a:moveTo>
                      <a:pt x="3600" y="0"/>
                    </a:moveTo>
                    <a:arcTo wR="3600" hR="3600" stAng="16200000" swAng="-5400000"/>
                    <a:lnTo>
                      <a:pt x="0" y="25249"/>
                    </a:lnTo>
                    <a:arcTo wR="3600" hR="3600" stAng="10800000" swAng="-5400000"/>
                    <a:lnTo>
                      <a:pt x="18000" y="288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020280" y="441936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1ec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020280" y="237780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6f3ca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6714000" y="2039760"/>
                <a:ext cx="642600" cy="642960"/>
                <a:chOff x="6714000" y="2039760"/>
                <a:chExt cx="642600" cy="6429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714000" y="2039760"/>
                  <a:ext cx="64260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720480" y="2044440"/>
                  <a:ext cx="62136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728040" y="2048400"/>
                  <a:ext cx="606960" cy="60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34880" y="2054160"/>
                  <a:ext cx="57708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768720" y="2069640"/>
                  <a:ext cx="51264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685404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045480" y="280188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3606840" y="2039760"/>
            <a:ext cx="2163600" cy="3165480"/>
            <a:chOff x="3606840" y="2039760"/>
            <a:chExt cx="2163600" cy="3165480"/>
          </a:xfrm>
        </p:grpSpPr>
        <p:sp>
          <p:nvSpPr>
            <p:cNvPr id="459" name=""/>
            <p:cNvSpPr/>
            <p:nvPr/>
          </p:nvSpPr>
          <p:spPr>
            <a:xfrm>
              <a:off x="360684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4032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760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5760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513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57800" y="204444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65720" y="204768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71840" y="205416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07120" y="207000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49136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8316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0" y="1752480"/>
            <a:ext cx="9144000" cy="4274280"/>
            <a:chOff x="0" y="1752480"/>
            <a:chExt cx="9144000" cy="4274280"/>
          </a:xfrm>
        </p:grpSpPr>
        <p:sp>
          <p:nvSpPr>
            <p:cNvPr id="472" name=""/>
            <p:cNvSpPr/>
            <p:nvPr/>
          </p:nvSpPr>
          <p:spPr>
            <a:xfrm>
              <a:off x="0" y="30304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30826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609480" y="2286000"/>
              <a:ext cx="8159760" cy="3740760"/>
              <a:chOff x="609480" y="2286000"/>
              <a:chExt cx="8159760" cy="374076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4957920" y="3342240"/>
                <a:ext cx="1654920" cy="2612880"/>
                <a:chOff x="4957920" y="3342240"/>
                <a:chExt cx="1654920" cy="2612880"/>
              </a:xfrm>
            </p:grpSpPr>
            <p:grpSp>
              <p:nvGrpSpPr>
                <p:cNvPr id="476" name=""/>
                <p:cNvGrpSpPr/>
                <p:nvPr/>
              </p:nvGrpSpPr>
              <p:grpSpPr>
                <a:xfrm>
                  <a:off x="4957920" y="3514680"/>
                  <a:ext cx="1535040" cy="2440440"/>
                  <a:chOff x="4957920" y="3514680"/>
                  <a:chExt cx="1535040" cy="2440440"/>
                </a:xfrm>
              </p:grpSpPr>
              <p:sp>
                <p:nvSpPr>
                  <p:cNvPr id="477" name="Unknown Shape"/>
                  <p:cNvSpPr/>
                  <p:nvPr/>
                </p:nvSpPr>
                <p:spPr>
                  <a:xfrm rot="3876600">
                    <a:off x="4502520" y="4465440"/>
                    <a:ext cx="244584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Unknown Shape"/>
                  <p:cNvSpPr/>
                  <p:nvPr/>
                </p:nvSpPr>
                <p:spPr>
                  <a:xfrm rot="3876600">
                    <a:off x="5972400" y="5410800"/>
                    <a:ext cx="38448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435280" y="3342240"/>
                  <a:ext cx="1177560" cy="1872360"/>
                  <a:chOff x="5435280" y="3342240"/>
                  <a:chExt cx="1177560" cy="1872360"/>
                </a:xfrm>
              </p:grpSpPr>
              <p:sp>
                <p:nvSpPr>
                  <p:cNvPr id="480" name="Unknown Shape"/>
                  <p:cNvSpPr/>
                  <p:nvPr/>
                </p:nvSpPr>
                <p:spPr>
                  <a:xfrm flipV="1" rot="3876600">
                    <a:off x="5085720" y="4071240"/>
                    <a:ext cx="1876680" cy="41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Unknown Shape"/>
                  <p:cNvSpPr/>
                  <p:nvPr/>
                </p:nvSpPr>
                <p:spPr>
                  <a:xfrm flipV="1" rot="3876600">
                    <a:off x="6196680" y="4804560"/>
                    <a:ext cx="29484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"/>
              <p:cNvGrpSpPr/>
              <p:nvPr/>
            </p:nvGrpSpPr>
            <p:grpSpPr>
              <a:xfrm>
                <a:off x="4502880" y="2440800"/>
                <a:ext cx="1390680" cy="1406880"/>
                <a:chOff x="4502880" y="2440800"/>
                <a:chExt cx="1390680" cy="14068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4502880" y="2440800"/>
                  <a:ext cx="1390680" cy="140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502880" y="2440800"/>
                  <a:ext cx="1390680" cy="140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594680" y="2532240"/>
                  <a:ext cx="1206360" cy="122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594680" y="2535120"/>
                  <a:ext cx="1206360" cy="122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654800" y="2594160"/>
                  <a:ext cx="1086480" cy="1099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4671360" y="2611080"/>
                  <a:ext cx="1053360" cy="1067040"/>
                  <a:chOff x="4671360" y="2611080"/>
                  <a:chExt cx="1053360" cy="106704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4671360" y="2611080"/>
                    <a:ext cx="1053360" cy="106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4684680" y="2616840"/>
                    <a:ext cx="1027800" cy="104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4695480" y="2627280"/>
                    <a:ext cx="97776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4752720" y="2654280"/>
                    <a:ext cx="869040" cy="78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3" name=""/>
              <p:cNvGrpSpPr/>
              <p:nvPr/>
            </p:nvGrpSpPr>
            <p:grpSpPr>
              <a:xfrm>
                <a:off x="7114320" y="3413880"/>
                <a:ext cx="1654920" cy="2612880"/>
                <a:chOff x="7114320" y="3413880"/>
                <a:chExt cx="1654920" cy="261288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7114320" y="3586320"/>
                  <a:ext cx="1535040" cy="2440440"/>
                  <a:chOff x="7114320" y="3586320"/>
                  <a:chExt cx="1535040" cy="2440440"/>
                </a:xfrm>
              </p:grpSpPr>
              <p:sp>
                <p:nvSpPr>
                  <p:cNvPr id="495" name="Unknown Shape"/>
                  <p:cNvSpPr/>
                  <p:nvPr/>
                </p:nvSpPr>
                <p:spPr>
                  <a:xfrm rot="3876600">
                    <a:off x="6658920" y="4537080"/>
                    <a:ext cx="244584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Unknown Shape"/>
                  <p:cNvSpPr/>
                  <p:nvPr/>
                </p:nvSpPr>
                <p:spPr>
                  <a:xfrm rot="3876600">
                    <a:off x="8128800" y="5482440"/>
                    <a:ext cx="38448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7591680" y="3413880"/>
                  <a:ext cx="1177560" cy="1872360"/>
                  <a:chOff x="7591680" y="3413880"/>
                  <a:chExt cx="1177560" cy="1872360"/>
                </a:xfrm>
              </p:grpSpPr>
              <p:sp>
                <p:nvSpPr>
                  <p:cNvPr id="498" name="Unknown Shape"/>
                  <p:cNvSpPr/>
                  <p:nvPr/>
                </p:nvSpPr>
                <p:spPr>
                  <a:xfrm flipV="1" rot="3876600">
                    <a:off x="7242120" y="4142880"/>
                    <a:ext cx="1876680" cy="41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Unknown Shape"/>
                  <p:cNvSpPr/>
                  <p:nvPr/>
                </p:nvSpPr>
                <p:spPr>
                  <a:xfrm flipV="1" rot="3876600">
                    <a:off x="8353080" y="4876200"/>
                    <a:ext cx="29484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0" name=""/>
              <p:cNvSpPr/>
              <p:nvPr/>
            </p:nvSpPr>
            <p:spPr>
              <a:xfrm>
                <a:off x="6448680" y="2286000"/>
                <a:ext cx="1671480" cy="1687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448680" y="2286000"/>
                <a:ext cx="1671480" cy="1687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561000" y="2395800"/>
                <a:ext cx="1450800" cy="14655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62440" y="2399040"/>
                <a:ext cx="1450440" cy="14655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632640" y="2470320"/>
                <a:ext cx="1306440" cy="1318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6653160" y="2490480"/>
                <a:ext cx="1266480" cy="1279440"/>
                <a:chOff x="6653160" y="2490480"/>
                <a:chExt cx="1266480" cy="12794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6653160" y="2490480"/>
                  <a:ext cx="1266480" cy="127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669360" y="2497320"/>
                  <a:ext cx="1235880" cy="124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82320" y="2509920"/>
                  <a:ext cx="1175400" cy="116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751080" y="2542320"/>
                  <a:ext cx="1044720" cy="94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2979360" y="3342240"/>
                <a:ext cx="1655280" cy="2612880"/>
                <a:chOff x="2979360" y="3342240"/>
                <a:chExt cx="1655280" cy="2612880"/>
              </a:xfrm>
            </p:grpSpPr>
            <p:grpSp>
              <p:nvGrpSpPr>
                <p:cNvPr id="511" name=""/>
                <p:cNvGrpSpPr/>
                <p:nvPr/>
              </p:nvGrpSpPr>
              <p:grpSpPr>
                <a:xfrm>
                  <a:off x="2979360" y="3514680"/>
                  <a:ext cx="1535400" cy="2440440"/>
                  <a:chOff x="2979360" y="3514680"/>
                  <a:chExt cx="1535400" cy="2440440"/>
                </a:xfrm>
              </p:grpSpPr>
              <p:sp>
                <p:nvSpPr>
                  <p:cNvPr id="512" name="Unknown Shape"/>
                  <p:cNvSpPr/>
                  <p:nvPr/>
                </p:nvSpPr>
                <p:spPr>
                  <a:xfrm rot="3876600">
                    <a:off x="2523960" y="4465440"/>
                    <a:ext cx="2445840" cy="53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Unknown Shape"/>
                  <p:cNvSpPr/>
                  <p:nvPr/>
                </p:nvSpPr>
                <p:spPr>
                  <a:xfrm rot="3876600">
                    <a:off x="3993840" y="5410800"/>
                    <a:ext cx="384480" cy="44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3457080" y="3342240"/>
                  <a:ext cx="1177560" cy="1872360"/>
                  <a:chOff x="3457080" y="3342240"/>
                  <a:chExt cx="1177560" cy="1872360"/>
                </a:xfrm>
              </p:grpSpPr>
              <p:sp>
                <p:nvSpPr>
                  <p:cNvPr id="515" name="Unknown Shape"/>
                  <p:cNvSpPr/>
                  <p:nvPr/>
                </p:nvSpPr>
                <p:spPr>
                  <a:xfrm flipV="1" rot="3876600">
                    <a:off x="3107520" y="4071240"/>
                    <a:ext cx="1876680" cy="41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Unknown Shape"/>
                  <p:cNvSpPr/>
                  <p:nvPr/>
                </p:nvSpPr>
                <p:spPr>
                  <a:xfrm flipV="1" rot="3876600">
                    <a:off x="4218480" y="4804560"/>
                    <a:ext cx="29484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7" name=""/>
              <p:cNvGrpSpPr/>
              <p:nvPr/>
            </p:nvGrpSpPr>
            <p:grpSpPr>
              <a:xfrm>
                <a:off x="2524680" y="2440800"/>
                <a:ext cx="1390680" cy="1406880"/>
                <a:chOff x="2524680" y="2440800"/>
                <a:chExt cx="1390680" cy="14068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2524680" y="2440800"/>
                  <a:ext cx="1390680" cy="140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524680" y="2440800"/>
                  <a:ext cx="1390680" cy="140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616480" y="2532240"/>
                  <a:ext cx="1206360" cy="122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616480" y="2535120"/>
                  <a:ext cx="1206360" cy="122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76600" y="2594160"/>
                  <a:ext cx="1086480" cy="1099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2693160" y="2611080"/>
                  <a:ext cx="1053360" cy="1067040"/>
                  <a:chOff x="2693160" y="2611080"/>
                  <a:chExt cx="1053360" cy="106704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2693160" y="2611080"/>
                    <a:ext cx="1053360" cy="106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706480" y="2616840"/>
                    <a:ext cx="1027800" cy="104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717280" y="2627280"/>
                    <a:ext cx="97776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774520" y="2654280"/>
                    <a:ext cx="869040" cy="78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8" name=""/>
              <p:cNvGrpSpPr/>
              <p:nvPr/>
            </p:nvGrpSpPr>
            <p:grpSpPr>
              <a:xfrm>
                <a:off x="1064520" y="3342240"/>
                <a:ext cx="1654920" cy="2612880"/>
                <a:chOff x="1064520" y="3342240"/>
                <a:chExt cx="1654920" cy="2612880"/>
              </a:xfrm>
            </p:grpSpPr>
            <p:grpSp>
              <p:nvGrpSpPr>
                <p:cNvPr id="529" name=""/>
                <p:cNvGrpSpPr/>
                <p:nvPr/>
              </p:nvGrpSpPr>
              <p:grpSpPr>
                <a:xfrm>
                  <a:off x="1064520" y="3514680"/>
                  <a:ext cx="1535040" cy="2440440"/>
                  <a:chOff x="1064520" y="3514680"/>
                  <a:chExt cx="1535040" cy="2440440"/>
                </a:xfrm>
              </p:grpSpPr>
              <p:sp>
                <p:nvSpPr>
                  <p:cNvPr id="530" name="Unknown Shape"/>
                  <p:cNvSpPr/>
                  <p:nvPr/>
                </p:nvSpPr>
                <p:spPr>
                  <a:xfrm rot="3876600">
                    <a:off x="609120" y="4465440"/>
                    <a:ext cx="244584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Unknown Shape"/>
                  <p:cNvSpPr/>
                  <p:nvPr/>
                </p:nvSpPr>
                <p:spPr>
                  <a:xfrm rot="3876600">
                    <a:off x="2079000" y="5410800"/>
                    <a:ext cx="38448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1541880" y="3342240"/>
                  <a:ext cx="1177560" cy="1872360"/>
                  <a:chOff x="1541880" y="3342240"/>
                  <a:chExt cx="1177560" cy="1872360"/>
                </a:xfrm>
              </p:grpSpPr>
              <p:sp>
                <p:nvSpPr>
                  <p:cNvPr id="533" name="Unknown Shape"/>
                  <p:cNvSpPr/>
                  <p:nvPr/>
                </p:nvSpPr>
                <p:spPr>
                  <a:xfrm flipV="1" rot="3876600">
                    <a:off x="1192320" y="4071240"/>
                    <a:ext cx="1876680" cy="41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Unknown Shape"/>
                  <p:cNvSpPr/>
                  <p:nvPr/>
                </p:nvSpPr>
                <p:spPr>
                  <a:xfrm flipV="1" rot="3876600">
                    <a:off x="2303280" y="4804560"/>
                    <a:ext cx="29484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5" name=""/>
              <p:cNvGrpSpPr/>
              <p:nvPr/>
            </p:nvGrpSpPr>
            <p:grpSpPr>
              <a:xfrm>
                <a:off x="609480" y="2440800"/>
                <a:ext cx="1390680" cy="1406880"/>
                <a:chOff x="609480" y="2440800"/>
                <a:chExt cx="1390680" cy="14068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09480" y="2440800"/>
                  <a:ext cx="1390680" cy="140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09480" y="2440800"/>
                  <a:ext cx="1390680" cy="140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01280" y="2532240"/>
                  <a:ext cx="1206360" cy="122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01280" y="2535120"/>
                  <a:ext cx="1206360" cy="122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61400" y="2594160"/>
                  <a:ext cx="1086480" cy="1099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1" name=""/>
                <p:cNvGrpSpPr/>
                <p:nvPr/>
              </p:nvGrpSpPr>
              <p:grpSpPr>
                <a:xfrm>
                  <a:off x="777960" y="2611080"/>
                  <a:ext cx="1053360" cy="1067040"/>
                  <a:chOff x="777960" y="2611080"/>
                  <a:chExt cx="1053360" cy="106704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>
                    <a:off x="777960" y="2611080"/>
                    <a:ext cx="1053360" cy="106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91280" y="2616840"/>
                    <a:ext cx="1027800" cy="104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802080" y="2627280"/>
                    <a:ext cx="97776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859320" y="2654280"/>
                    <a:ext cx="869040" cy="78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6" name=""/>
              <p:cNvSpPr/>
              <p:nvPr/>
            </p:nvSpPr>
            <p:spPr>
              <a:xfrm rot="3925800">
                <a:off x="1066320" y="4350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3925800">
                <a:off x="1560960" y="4066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3925800">
                <a:off x="2977200" y="43531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3925800">
                <a:off x="3472200" y="4066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3925800">
                <a:off x="4963320" y="4350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3925800">
                <a:off x="5457600" y="4066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3925800">
                <a:off x="7102440" y="4507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3925800">
                <a:off x="7596000" y="42202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777960" y="1795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68400" y="1795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49840" y="1795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795000" y="17524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58" name=""/>
            <p:cNvCxnSpPr>
              <a:stCxn id="554" idx="3"/>
              <a:endCxn id="555" idx="1"/>
            </p:cNvCxnSpPr>
            <p:nvPr/>
          </p:nvCxnSpPr>
          <p:spPr>
            <a:xfrm>
              <a:off x="1514160" y="197928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55" idx="3"/>
              <a:endCxn id="556" idx="1"/>
            </p:cNvCxnSpPr>
            <p:nvPr/>
          </p:nvCxnSpPr>
          <p:spPr>
            <a:xfrm>
              <a:off x="3504960" y="197928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>
              <a:stCxn id="556" idx="3"/>
              <a:endCxn id="557" idx="1"/>
            </p:cNvCxnSpPr>
            <p:nvPr/>
          </p:nvCxnSpPr>
          <p:spPr>
            <a:xfrm>
              <a:off x="5486040" y="197964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9cc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eb62e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c660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b62e"/>
              </a:gs>
              <a:gs pos="100000">
                <a:srgbClr val="155315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838080" y="16858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120"/>
                <a:gridCol w="1952640"/>
                <a:gridCol w="341280"/>
                <a:gridCol w="181476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0e0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b62e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0e03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b62e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0e0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b62e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0e0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b62e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0e0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b62e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447920" y="1519200"/>
            <a:ext cx="5769000" cy="4574880"/>
            <a:chOff x="1447920" y="1519200"/>
            <a:chExt cx="5769000" cy="4574880"/>
          </a:xfrm>
        </p:grpSpPr>
        <p:sp>
          <p:nvSpPr>
            <p:cNvPr id="572" name=""/>
            <p:cNvSpPr/>
            <p:nvPr/>
          </p:nvSpPr>
          <p:spPr>
            <a:xfrm rot="13770000">
              <a:off x="4911840" y="3958560"/>
              <a:ext cx="96012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856000">
              <a:off x="2923920" y="350820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3862440" y="2202120"/>
              <a:ext cx="1704600" cy="1836000"/>
              <a:chOff x="3862440" y="2202120"/>
              <a:chExt cx="1704600" cy="1836000"/>
            </a:xfrm>
          </p:grpSpPr>
          <p:sp>
            <p:nvSpPr>
              <p:cNvPr id="575" name=""/>
              <p:cNvSpPr/>
              <p:nvPr/>
            </p:nvSpPr>
            <p:spPr>
              <a:xfrm rot="18394200">
                <a:off x="5038200" y="2414880"/>
                <a:ext cx="59616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3862440" y="2448720"/>
                <a:ext cx="1609560" cy="1589400"/>
                <a:chOff x="3862440" y="2448720"/>
                <a:chExt cx="1609560" cy="15894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862440" y="2448720"/>
                  <a:ext cx="1609560" cy="1589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0c313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Unknown Shape"/>
                <p:cNvSpPr/>
                <p:nvPr/>
              </p:nvSpPr>
              <p:spPr>
                <a:xfrm>
                  <a:off x="4046400" y="2475000"/>
                  <a:ext cx="1241640" cy="599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3949200" y="31402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5272200" y="1519200"/>
              <a:ext cx="891720" cy="861840"/>
              <a:chOff x="5272200" y="1519200"/>
              <a:chExt cx="891720" cy="86184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5272200" y="1519200"/>
                <a:ext cx="871560" cy="861840"/>
                <a:chOff x="5272200" y="1519200"/>
                <a:chExt cx="871560" cy="86184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5272200" y="151920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3131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Unknown Shape"/>
                <p:cNvSpPr/>
                <p:nvPr/>
              </p:nvSpPr>
              <p:spPr>
                <a:xfrm>
                  <a:off x="5371560" y="153324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5292720" y="185112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grpSp>
            <p:nvGrpSpPr>
              <p:cNvPr id="586" name=""/>
              <p:cNvGrpSpPr/>
              <p:nvPr/>
            </p:nvGrpSpPr>
            <p:grpSpPr>
              <a:xfrm>
                <a:off x="1447920" y="2844720"/>
                <a:ext cx="1744560" cy="1790640"/>
                <a:chOff x="1447920" y="2844720"/>
                <a:chExt cx="1744560" cy="17906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1447920" y="284472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3d311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Unknown Shape"/>
                <p:cNvSpPr/>
                <p:nvPr/>
              </p:nvSpPr>
              <p:spPr>
                <a:xfrm>
                  <a:off x="1647360" y="287424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1542240" y="36399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5203800" y="4105080"/>
              <a:ext cx="2013120" cy="1989000"/>
              <a:chOff x="5203800" y="4105080"/>
              <a:chExt cx="2013120" cy="19890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5203800" y="4105080"/>
                <a:ext cx="2013120" cy="1989000"/>
                <a:chOff x="5203800" y="4105080"/>
                <a:chExt cx="2013120" cy="198900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5203800" y="410508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461e6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Unknown Shape"/>
                <p:cNvSpPr/>
                <p:nvPr/>
              </p:nvSpPr>
              <p:spPr>
                <a:xfrm>
                  <a:off x="5433840" y="413784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" name=""/>
              <p:cNvSpPr/>
              <p:nvPr/>
            </p:nvSpPr>
            <p:spPr>
              <a:xfrm>
                <a:off x="5492160" y="49669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966240" y="1097280"/>
            <a:ext cx="6879600" cy="4804560"/>
            <a:chOff x="966240" y="1097280"/>
            <a:chExt cx="6879600" cy="4804560"/>
          </a:xfrm>
        </p:grpSpPr>
        <p:sp>
          <p:nvSpPr>
            <p:cNvPr id="597" name=""/>
            <p:cNvSpPr/>
            <p:nvPr/>
          </p:nvSpPr>
          <p:spPr>
            <a:xfrm>
              <a:off x="2033640" y="423684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470e03"/>
                </a:gs>
                <a:gs pos="100000">
                  <a:srgbClr val="211e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0601600">
              <a:off x="1308240" y="212364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0601600">
              <a:off x="1365120" y="196164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0601600">
              <a:off x="1279440" y="194760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rot="20602200">
              <a:off x="1257480" y="197856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20601600">
              <a:off x="1289160" y="195876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rot="20602200">
              <a:off x="1271520" y="196632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20601600">
              <a:off x="2826000" y="267624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41280" y="2898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46400" y="1984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22560" y="24415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Unknown Shape"/>
            <p:cNvSpPr/>
            <p:nvPr/>
          </p:nvSpPr>
          <p:spPr>
            <a:xfrm>
              <a:off x="6148440" y="297468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0539200">
              <a:off x="1283760" y="197712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Unknown Shape"/>
            <p:cNvSpPr/>
            <p:nvPr/>
          </p:nvSpPr>
          <p:spPr>
            <a:xfrm>
              <a:off x="4448160" y="34560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22560" y="3431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0080" y="4194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64960" y="4041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0601600">
              <a:off x="2927520" y="29289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470e03"/>
                </a:gs>
                <a:gs pos="100000">
                  <a:srgbClr val="20060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Unknown Shape"/>
            <p:cNvSpPr/>
            <p:nvPr/>
          </p:nvSpPr>
          <p:spPr>
            <a:xfrm>
              <a:off x="4624560" y="38512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294920" y="1447920"/>
            <a:ext cx="7315200" cy="4467240"/>
            <a:chOff x="1294920" y="1447920"/>
            <a:chExt cx="7315200" cy="4467240"/>
          </a:xfrm>
        </p:grpSpPr>
        <p:grpSp>
          <p:nvGrpSpPr>
            <p:cNvPr id="618" name=""/>
            <p:cNvGrpSpPr/>
            <p:nvPr/>
          </p:nvGrpSpPr>
          <p:grpSpPr>
            <a:xfrm>
              <a:off x="3335040" y="4606920"/>
              <a:ext cx="5275080" cy="1308240"/>
              <a:chOff x="3335040" y="4606920"/>
              <a:chExt cx="5275080" cy="1308240"/>
            </a:xfrm>
          </p:grpSpPr>
          <p:sp>
            <p:nvSpPr>
              <p:cNvPr id="619" name="Unknown Shape"/>
              <p:cNvSpPr/>
              <p:nvPr/>
            </p:nvSpPr>
            <p:spPr>
              <a:xfrm>
                <a:off x="7679880" y="4606920"/>
                <a:ext cx="930240" cy="130680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4646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Unknown Shape"/>
              <p:cNvSpPr/>
              <p:nvPr/>
            </p:nvSpPr>
            <p:spPr>
              <a:xfrm>
                <a:off x="3756240" y="4606920"/>
                <a:ext cx="4335120" cy="55656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4040a1"/>
                  </a:gs>
                  <a:gs pos="100000">
                    <a:srgbClr val="66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Unknown Shape"/>
              <p:cNvSpPr/>
              <p:nvPr/>
            </p:nvSpPr>
            <p:spPr>
              <a:xfrm>
                <a:off x="3335040" y="5160600"/>
                <a:ext cx="4785480" cy="75456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9898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3849480" y="3824280"/>
              <a:ext cx="4179600" cy="1181160"/>
              <a:chOff x="3849480" y="3824280"/>
              <a:chExt cx="4179600" cy="1181160"/>
            </a:xfrm>
          </p:grpSpPr>
          <p:sp>
            <p:nvSpPr>
              <p:cNvPr id="623" name="Unknown Shape"/>
              <p:cNvSpPr/>
              <p:nvPr/>
            </p:nvSpPr>
            <p:spPr>
              <a:xfrm>
                <a:off x="7206840" y="3824280"/>
                <a:ext cx="822240" cy="118116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94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Unknown Shape"/>
              <p:cNvSpPr/>
              <p:nvPr/>
            </p:nvSpPr>
            <p:spPr>
              <a:xfrm>
                <a:off x="4261320" y="3824280"/>
                <a:ext cx="3257280" cy="41580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5a43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Unknown Shape"/>
              <p:cNvSpPr/>
              <p:nvPr/>
            </p:nvSpPr>
            <p:spPr>
              <a:xfrm>
                <a:off x="3849480" y="4238640"/>
                <a:ext cx="3781440" cy="76644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85e5c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4343400" y="3044880"/>
              <a:ext cx="3107880" cy="1027080"/>
              <a:chOff x="4343400" y="3044880"/>
              <a:chExt cx="3107880" cy="1027080"/>
            </a:xfrm>
          </p:grpSpPr>
          <p:sp>
            <p:nvSpPr>
              <p:cNvPr id="627" name="Unknown Shape"/>
              <p:cNvSpPr/>
              <p:nvPr/>
            </p:nvSpPr>
            <p:spPr>
              <a:xfrm>
                <a:off x="6731640" y="3044880"/>
                <a:ext cx="719640" cy="102708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b1790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Unknown Shape"/>
              <p:cNvSpPr/>
              <p:nvPr/>
            </p:nvSpPr>
            <p:spPr>
              <a:xfrm>
                <a:off x="4762080" y="3044880"/>
                <a:ext cx="2174760" cy="27720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734e05"/>
                  </a:gs>
                  <a:gs pos="100000">
                    <a:srgbClr val="f4a70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Unknown Shape"/>
              <p:cNvSpPr/>
              <p:nvPr/>
            </p:nvSpPr>
            <p:spPr>
              <a:xfrm>
                <a:off x="4343400" y="3320640"/>
                <a:ext cx="2813760" cy="75096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f8d4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4844880" y="2257560"/>
              <a:ext cx="2025360" cy="893880"/>
              <a:chOff x="4844880" y="2257560"/>
              <a:chExt cx="2025360" cy="893880"/>
            </a:xfrm>
          </p:grpSpPr>
          <p:sp>
            <p:nvSpPr>
              <p:cNvPr id="631" name="Unknown Shape"/>
              <p:cNvSpPr/>
              <p:nvPr/>
            </p:nvSpPr>
            <p:spPr>
              <a:xfrm>
                <a:off x="6250680" y="2257560"/>
                <a:ext cx="619560" cy="89388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9938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Unknown Shape"/>
              <p:cNvSpPr/>
              <p:nvPr/>
            </p:nvSpPr>
            <p:spPr>
              <a:xfrm>
                <a:off x="5271480" y="2257560"/>
                <a:ext cx="1084680" cy="13392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622481"/>
                  </a:gs>
                  <a:gs pos="100000">
                    <a:srgbClr val="c247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Unknown Shape"/>
              <p:cNvSpPr/>
              <p:nvPr/>
            </p:nvSpPr>
            <p:spPr>
              <a:xfrm>
                <a:off x="4844880" y="2390040"/>
                <a:ext cx="1831320" cy="76104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dfa2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5341680" y="1470240"/>
              <a:ext cx="948960" cy="757080"/>
              <a:chOff x="5341680" y="1470240"/>
              <a:chExt cx="948960" cy="757080"/>
            </a:xfrm>
          </p:grpSpPr>
          <p:sp>
            <p:nvSpPr>
              <p:cNvPr id="635" name="Unknown Shape"/>
              <p:cNvSpPr/>
              <p:nvPr/>
            </p:nvSpPr>
            <p:spPr>
              <a:xfrm>
                <a:off x="5766120" y="1470240"/>
                <a:ext cx="524520" cy="75708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0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Unknown Shape"/>
              <p:cNvSpPr/>
              <p:nvPr/>
            </p:nvSpPr>
            <p:spPr>
              <a:xfrm>
                <a:off x="5341680" y="1470240"/>
                <a:ext cx="850320" cy="75708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9dc4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1294920" y="1560600"/>
              <a:ext cx="4419720" cy="4328640"/>
              <a:chOff x="1294920" y="1560600"/>
              <a:chExt cx="4419720" cy="4328640"/>
            </a:xfrm>
          </p:grpSpPr>
          <p:sp>
            <p:nvSpPr>
              <p:cNvPr id="638" name=""/>
              <p:cNvSpPr/>
              <p:nvPr/>
            </p:nvSpPr>
            <p:spPr>
              <a:xfrm flipH="1">
                <a:off x="1295280" y="5887800"/>
                <a:ext cx="195768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1294920" y="5015160"/>
                <a:ext cx="25268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1294920" y="4110480"/>
                <a:ext cx="29660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1294920" y="3221280"/>
                <a:ext cx="347220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1294920" y="2325600"/>
                <a:ext cx="397620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1295280" y="1560600"/>
                <a:ext cx="441936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1582560" y="1447920"/>
              <a:ext cx="1800" cy="75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582560" y="2248200"/>
              <a:ext cx="1800" cy="88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582560" y="3183120"/>
              <a:ext cx="1800" cy="88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82560" y="4119840"/>
              <a:ext cx="1800" cy="88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82560" y="5051520"/>
              <a:ext cx="1800" cy="82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35840" y="1644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35840" y="2559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35840" y="3473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35840" y="4388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35840" y="5302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82080" y="1844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82080" y="2683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482080" y="35974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82080" y="45118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82080" y="5426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004840" y="2771640"/>
            <a:ext cx="5310360" cy="609480"/>
            <a:chOff x="2004840" y="2771640"/>
            <a:chExt cx="5310360" cy="609480"/>
          </a:xfrm>
        </p:grpSpPr>
        <p:grpSp>
          <p:nvGrpSpPr>
            <p:cNvPr id="138" name=""/>
            <p:cNvGrpSpPr/>
            <p:nvPr/>
          </p:nvGrpSpPr>
          <p:grpSpPr>
            <a:xfrm>
              <a:off x="2004840" y="2771640"/>
              <a:ext cx="609480" cy="609480"/>
              <a:chOff x="2004840" y="2771640"/>
              <a:chExt cx="609480" cy="609480"/>
            </a:xfrm>
          </p:grpSpPr>
          <p:sp>
            <p:nvSpPr>
              <p:cNvPr id="139" name=""/>
              <p:cNvSpPr/>
              <p:nvPr/>
            </p:nvSpPr>
            <p:spPr>
              <a:xfrm>
                <a:off x="2004840" y="277164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cc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004840" y="277164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99cc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44440" y="281124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6d89"/>
                  </a:gs>
                  <a:gs pos="50000">
                    <a:srgbClr val="99ccff"/>
                  </a:gs>
                  <a:gs pos="100000">
                    <a:srgbClr val="526d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84040" y="285084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6081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73240" y="283824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81160" y="284616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87280" y="284940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92320" y="285264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16080" y="286524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514600" y="333360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43200" y="280008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5520" y="28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23920" y="4572000"/>
            <a:ext cx="5291280" cy="609480"/>
            <a:chOff x="2023920" y="4572000"/>
            <a:chExt cx="5291280" cy="609480"/>
          </a:xfrm>
        </p:grpSpPr>
        <p:grpSp>
          <p:nvGrpSpPr>
            <p:cNvPr id="152" name=""/>
            <p:cNvGrpSpPr/>
            <p:nvPr/>
          </p:nvGrpSpPr>
          <p:grpSpPr>
            <a:xfrm>
              <a:off x="2023920" y="4572000"/>
              <a:ext cx="609480" cy="609480"/>
              <a:chOff x="2023920" y="4572000"/>
              <a:chExt cx="609480" cy="609480"/>
            </a:xfrm>
          </p:grpSpPr>
          <p:sp>
            <p:nvSpPr>
              <p:cNvPr id="153" name=""/>
              <p:cNvSpPr/>
              <p:nvPr/>
            </p:nvSpPr>
            <p:spPr>
              <a:xfrm>
                <a:off x="2023920" y="45720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cc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023920" y="45720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99cc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063520" y="46116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6d89"/>
                  </a:gs>
                  <a:gs pos="50000">
                    <a:srgbClr val="99ccff"/>
                  </a:gs>
                  <a:gs pos="100000">
                    <a:srgbClr val="526d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103120" y="46512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6081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092320" y="46386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100240" y="46465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06360" y="46497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11400" y="46530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135160" y="46656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514600" y="51404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3200" y="4606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63960" y="464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981080" y="1886040"/>
            <a:ext cx="5334120" cy="628560"/>
            <a:chOff x="1981080" y="1886040"/>
            <a:chExt cx="5334120" cy="628560"/>
          </a:xfrm>
        </p:grpSpPr>
        <p:sp>
          <p:nvSpPr>
            <p:cNvPr id="166" name=""/>
            <p:cNvSpPr/>
            <p:nvPr/>
          </p:nvSpPr>
          <p:spPr>
            <a:xfrm>
              <a:off x="2514600" y="24195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3200" y="18860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981080" y="1905120"/>
              <a:ext cx="609480" cy="609480"/>
              <a:chOff x="1981080" y="1905120"/>
              <a:chExt cx="609480" cy="6094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981080" y="1905120"/>
                <a:ext cx="609480" cy="609480"/>
                <a:chOff x="1981080" y="1905120"/>
                <a:chExt cx="609480" cy="609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106720" y="1981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981080" y="19051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b62e"/>
                    </a:gs>
                    <a:gs pos="100000">
                      <a:srgbClr val="1553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981080" y="19051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2eb62e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009520" y="191448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6218"/>
                    </a:gs>
                    <a:gs pos="50000">
                      <a:srgbClr val="2eb62e"/>
                    </a:gs>
                    <a:gs pos="100000">
                      <a:srgbClr val="186218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019240" y="194328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b62e">
                        <a:alpha val="0"/>
                      </a:srgbClr>
                    </a:gs>
                    <a:gs pos="100000">
                      <a:srgbClr val="1d731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038320" y="196236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057400" y="197964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5858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063520" y="198288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8e8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068560" y="198612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9797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092320" y="199872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2106720" y="1981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1981080" y="3692520"/>
            <a:ext cx="5334120" cy="631800"/>
            <a:chOff x="1981080" y="3692520"/>
            <a:chExt cx="5334120" cy="631800"/>
          </a:xfrm>
        </p:grpSpPr>
        <p:sp>
          <p:nvSpPr>
            <p:cNvPr id="182" name=""/>
            <p:cNvSpPr/>
            <p:nvPr/>
          </p:nvSpPr>
          <p:spPr>
            <a:xfrm>
              <a:off x="2514600" y="42260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43200" y="36925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981080" y="3714840"/>
              <a:ext cx="609480" cy="609480"/>
              <a:chOff x="1981080" y="3714840"/>
              <a:chExt cx="609480" cy="60948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1981080" y="3714840"/>
                <a:ext cx="609480" cy="609480"/>
                <a:chOff x="1981080" y="3714840"/>
                <a:chExt cx="609480" cy="6094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106720" y="37911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981080" y="37148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b62e"/>
                    </a:gs>
                    <a:gs pos="100000">
                      <a:srgbClr val="1553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981080" y="37148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2eb62e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009520" y="372420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6218"/>
                    </a:gs>
                    <a:gs pos="50000">
                      <a:srgbClr val="2eb62e"/>
                    </a:gs>
                    <a:gs pos="100000">
                      <a:srgbClr val="186218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019240" y="375300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b62e">
                        <a:alpha val="0"/>
                      </a:srgbClr>
                    </a:gs>
                    <a:gs pos="100000">
                      <a:srgbClr val="1d731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038320" y="377208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057400" y="378936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5858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063520" y="379260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8e8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068560" y="379584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9797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092320" y="380844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2106720" y="3791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0e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5638320" y="6172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429000" y="35053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2eb62e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2eb62e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407988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304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2eb6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99ccf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99ccf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99ccf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99ccf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525780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[Image information in product]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● Title Master- www.iclickart.co.kr  - Image licensed by affiliates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● Slide Master –www.iclickart.co.kr - Image licensed by affiliates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● Note to customers: This image has been licensed to be used within this PowerPoint template only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You may not extract the image for any other use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562720" y="3276720"/>
            <a:ext cx="2286000" cy="2666880"/>
            <a:chOff x="5562720" y="3276720"/>
            <a:chExt cx="2286000" cy="2666880"/>
          </a:xfrm>
        </p:grpSpPr>
        <p:sp>
          <p:nvSpPr>
            <p:cNvPr id="202" name=""/>
            <p:cNvSpPr/>
            <p:nvPr/>
          </p:nvSpPr>
          <p:spPr>
            <a:xfrm>
              <a:off x="556272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5000" y="3471840"/>
              <a:ext cx="20574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143000" y="3276720"/>
            <a:ext cx="2286000" cy="2666880"/>
            <a:chOff x="1143000" y="3276720"/>
            <a:chExt cx="2286000" cy="2666880"/>
          </a:xfrm>
        </p:grpSpPr>
        <p:sp>
          <p:nvSpPr>
            <p:cNvPr id="205" name=""/>
            <p:cNvSpPr/>
            <p:nvPr/>
          </p:nvSpPr>
          <p:spPr>
            <a:xfrm>
              <a:off x="114300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38400" y="34768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Unknown Shape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3b1ae"/>
              </a:gs>
              <a:gs pos="100000">
                <a:srgbClr val="470e0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Unknown Shape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dcdad"/>
              </a:gs>
              <a:gs pos="100000">
                <a:srgbClr val="cc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210" name=""/>
            <p:cNvGrpSpPr/>
            <p:nvPr/>
          </p:nvGrpSpPr>
          <p:grpSpPr>
            <a:xfrm>
              <a:off x="3048120" y="1552680"/>
              <a:ext cx="2998440" cy="1601280"/>
              <a:chOff x="3048120" y="1552680"/>
              <a:chExt cx="2998440" cy="160128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3048120" y="1695600"/>
                <a:ext cx="2998440" cy="1458360"/>
                <a:chOff x="3048120" y="1695600"/>
                <a:chExt cx="2998440" cy="14583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080880" y="17420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5816"/>
                    </a:gs>
                    <a:gs pos="100000">
                      <a:srgbClr val="2eb62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048120" y="169560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b62e"/>
                    </a:gs>
                    <a:gs pos="100000">
                      <a:srgbClr val="a1dda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3189240" y="15526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24160" y="156060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ecc8a5"/>
                  </a:gs>
                  <a:gs pos="100000">
                    <a:srgbClr val="cc6600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251160" y="157320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cc6600">
                      <a:alpha val="48235"/>
                    </a:srgbClr>
                  </a:gs>
                  <a:gs pos="100000">
                    <a:srgbClr val="a05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82920" y="160020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cc6600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882960" y="1752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523880" y="1600200"/>
            <a:ext cx="1752480" cy="4267080"/>
            <a:chOff x="1523880" y="1600200"/>
            <a:chExt cx="1752480" cy="4267080"/>
          </a:xfrm>
        </p:grpSpPr>
        <p:sp>
          <p:nvSpPr>
            <p:cNvPr id="221" name=""/>
            <p:cNvSpPr/>
            <p:nvPr/>
          </p:nvSpPr>
          <p:spPr>
            <a:xfrm>
              <a:off x="1600200" y="320040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a5792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17640" y="38862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23880" y="160020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65280" y="309240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2bb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5280" y="162252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ddff2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2880" y="19350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709640" y="553320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8cffe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059520" y="2286000"/>
            <a:ext cx="1712880" cy="3581280"/>
            <a:chOff x="6059520" y="2286000"/>
            <a:chExt cx="1712880" cy="3581280"/>
          </a:xfrm>
        </p:grpSpPr>
        <p:sp>
          <p:nvSpPr>
            <p:cNvPr id="229" name=""/>
            <p:cNvSpPr/>
            <p:nvPr/>
          </p:nvSpPr>
          <p:spPr>
            <a:xfrm>
              <a:off x="6121440" y="365760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a5a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39240" y="431172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59520" y="2286000"/>
              <a:ext cx="1712880" cy="190188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880"/>
                <a:gd name="textAreaBottom" fmla="*/ 1814040 h 1901880"/>
              </a:gdLst>
              <a:ahLst/>
              <a:rect l="textAreaLeft" t="textAreaTop" r="textAreaRight" b="textAreaBottom"/>
              <a:pathLst>
                <a:path w="21600" h="23983">
                  <a:moveTo>
                    <a:pt x="3782" y="0"/>
                  </a:moveTo>
                  <a:arcTo wR="3782" hR="3782" stAng="16200000" swAng="-5400000"/>
                  <a:lnTo>
                    <a:pt x="0" y="20201"/>
                  </a:lnTo>
                  <a:arcTo wR="3782" hR="3782" stAng="10800000" swAng="-5400000"/>
                  <a:lnTo>
                    <a:pt x="17818" y="2398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99120" y="3665520"/>
              <a:ext cx="1639800" cy="47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acf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9120" y="2306520"/>
              <a:ext cx="1639800" cy="47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ce6d0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55240" y="27432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248520" y="556200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3d4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835440" y="1905120"/>
            <a:ext cx="1727280" cy="3961800"/>
            <a:chOff x="3835440" y="1905120"/>
            <a:chExt cx="1727280" cy="3961800"/>
          </a:xfrm>
        </p:grpSpPr>
        <p:sp>
          <p:nvSpPr>
            <p:cNvPr id="237" name=""/>
            <p:cNvSpPr/>
            <p:nvPr/>
          </p:nvSpPr>
          <p:spPr>
            <a:xfrm>
              <a:off x="3911760" y="3504960"/>
              <a:ext cx="1600200" cy="236196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1960"/>
                <a:gd name="textAreaBottom" fmla="*/ 2324880 h 2361960"/>
              </a:gdLst>
              <a:ahLst/>
              <a:rect l="textAreaLeft" t="textAreaTop" r="textAreaRight" b="textAreaBottom"/>
              <a:pathLst>
                <a:path w="21600" h="31880">
                  <a:moveTo>
                    <a:pt x="1714" y="0"/>
                  </a:moveTo>
                  <a:arcTo wR="1714" hR="1714" stAng="16200000" swAng="-5400000"/>
                  <a:lnTo>
                    <a:pt x="0" y="30166"/>
                  </a:lnTo>
                  <a:arcTo wR="1714" hR="1714" stAng="10800000" swAng="-5400000"/>
                  <a:lnTo>
                    <a:pt x="19886" y="3188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35440" y="1905120"/>
              <a:ext cx="1727280" cy="198072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0720"/>
                <a:gd name="textAreaBottom" fmla="*/ 1892160 h 1980720"/>
              </a:gdLst>
              <a:ahLst/>
              <a:rect l="textAreaLeft" t="textAreaTop" r="textAreaRight" b="textAreaBottom"/>
              <a:pathLst>
                <a:path w="21600" h="24769">
                  <a:moveTo>
                    <a:pt x="3782" y="0"/>
                  </a:moveTo>
                  <a:arcTo wR="3782" hR="3782" stAng="16200000" swAng="-5400000"/>
                  <a:lnTo>
                    <a:pt x="0" y="20987"/>
                  </a:lnTo>
                  <a:arcTo wR="3782" hR="3782" stAng="10800000" swAng="-5400000"/>
                  <a:lnTo>
                    <a:pt x="17818" y="2476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6840" y="3342960"/>
              <a:ext cx="165096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2da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76840" y="1928520"/>
              <a:ext cx="1650960" cy="490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ff1df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29200" y="41144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94440" y="236196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03848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ceda9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90720" y="1600200"/>
            <a:ext cx="7010280" cy="4343400"/>
            <a:chOff x="990720" y="1600200"/>
            <a:chExt cx="7010280" cy="4343400"/>
          </a:xfrm>
        </p:grpSpPr>
        <p:sp>
          <p:nvSpPr>
            <p:cNvPr id="246" name=""/>
            <p:cNvSpPr/>
            <p:nvPr/>
          </p:nvSpPr>
          <p:spPr>
            <a:xfrm>
              <a:off x="3657600" y="403848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57600" y="350532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57600" y="29718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99040" y="3201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99040" y="3735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99040" y="4268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71800" y="274320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6e2fe">
                    <a:alpha val="12156"/>
                  </a:srgbClr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90720" y="220968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67040" y="243828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72200" y="220968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8520" y="243828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89640" y="274320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6e2fe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95840" y="160020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a3f00"/>
                </a:gs>
                <a:gs pos="50000">
                  <a:srgbClr val="e88a00"/>
                </a:gs>
                <a:gs pos="100000">
                  <a:srgbClr val="6a3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24480" y="236232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6e2f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4920" y="1833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71800" y="533412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55315"/>
                </a:gs>
                <a:gs pos="50000">
                  <a:srgbClr val="2eb62e"/>
                </a:gs>
                <a:gs pos="100000">
                  <a:srgbClr val="15531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74920" y="5567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02160" y="472428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6e2fe">
                    <a:alpha val="12156"/>
                  </a:srgbClr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38080" y="1981080"/>
            <a:ext cx="7391520" cy="3581280"/>
            <a:chOff x="838080" y="1981080"/>
            <a:chExt cx="7391520" cy="3581280"/>
          </a:xfrm>
        </p:grpSpPr>
        <p:sp>
          <p:nvSpPr>
            <p:cNvPr id="266" name=""/>
            <p:cNvSpPr/>
            <p:nvPr/>
          </p:nvSpPr>
          <p:spPr>
            <a:xfrm>
              <a:off x="838080" y="358128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8080" y="304776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8080" y="25146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24480" y="35812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24480" y="30477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24480" y="25146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917800" y="1981080"/>
              <a:ext cx="3156840" cy="2841480"/>
              <a:chOff x="2917800" y="1981080"/>
              <a:chExt cx="3156840" cy="2841480"/>
            </a:xfrm>
          </p:grpSpPr>
          <p:sp>
            <p:nvSpPr>
              <p:cNvPr id="273" name=""/>
              <p:cNvSpPr/>
              <p:nvPr/>
            </p:nvSpPr>
            <p:spPr>
              <a:xfrm flipH="1" rot="16200000">
                <a:off x="2836080" y="3096360"/>
                <a:ext cx="49032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67676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400000">
                <a:off x="5665320" y="3042000"/>
                <a:ext cx="490320" cy="3272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676767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rot="10800000">
                <a:off x="4250160" y="4495680"/>
                <a:ext cx="4888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676767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22720" y="1981080"/>
                <a:ext cx="25646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68520" y="2125440"/>
                <a:ext cx="227088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502080" y="2260440"/>
                <a:ext cx="200412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2eb62e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02080" y="2260440"/>
                <a:ext cx="200412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33840" y="2392200"/>
                <a:ext cx="1740600" cy="1743120"/>
              </a:xfrm>
              <a:prstGeom prst="ellipse">
                <a:avLst/>
              </a:prstGeom>
              <a:gradFill rotWithShape="0">
                <a:gsLst>
                  <a:gs pos="0">
                    <a:srgbClr val="186218"/>
                  </a:gs>
                  <a:gs pos="50000">
                    <a:srgbClr val="2eb62e"/>
                  </a:gs>
                  <a:gs pos="100000">
                    <a:srgbClr val="18621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33840" y="2392200"/>
                <a:ext cx="174060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12760" y="30477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557440" y="5029200"/>
              <a:ext cx="3886200" cy="5331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73040" y="2671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73040" y="3205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3040" y="37386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92640" y="2671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92640" y="3205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92640" y="37386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92" name="Unknown Shape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Unknown Shape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Unknown Shape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Unknown Shape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Unknown Shape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Unknown Shape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Unknown Shape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Unknown Shape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Unknown Shape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1447920"/>
            <a:ext cx="5410440" cy="4495680"/>
          </a:xfrm>
          <a:prstGeom prst="rightArrow">
            <a:avLst>
              <a:gd name="adj1" fmla="val 79306"/>
              <a:gd name="adj2" fmla="val 29808"/>
            </a:avLst>
          </a:prstGeom>
          <a:gradFill rotWithShape="0">
            <a:gsLst>
              <a:gs pos="0">
                <a:srgbClr val="6c8ed3"/>
              </a:gs>
              <a:gs pos="100000">
                <a:srgbClr val="06276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eb62e"/>
              </a:gs>
              <a:gs pos="100000">
                <a:srgbClr val="15531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ThemeGallery.com</dc:creator>
  <dc:description/>
  <dc:language>en-US</dc:language>
  <cp:lastModifiedBy>THEME_ENG_01</cp:lastModifiedBy>
  <cp:lastPrinted>1899-12-30T00:00:00Z</cp:lastPrinted>
  <dcterms:modified xsi:type="dcterms:W3CDTF">2005-06-16T05:10:48Z</dcterms:modified>
  <cp:revision>24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