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172-38C9-4D4C-97FE-8BC17FF8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C14-7C0A-4BE2-B00A-35CAD46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D23-7099-4747-A37C-CF241615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682-22C2-4EE2-B377-DF2E13D8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612-7E38-4772-B0F4-53E05C82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120-B6B1-42E1-B5E6-3FCA591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042-FC63-4F10-9490-52C2BF60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73A-0F42-4755-9ADE-6A22E669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BCD-EA51-4257-ADF7-432AC810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836-33DD-4DD0-9573-295AECF9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11D-6A83-4D10-AC9C-64DDCF4D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D0F-BF16-4795-8A81-4DD1771E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43621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0758-3DA2-43C9-9C83-1959BBB5B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3621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0360" y="5157720"/>
            <a:ext cx="64008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编辑母版副标题样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39092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324000" y="443700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cp:lastPrinted>1899-12-30T00:00:00Z</cp:lastPrinted>
  <dcterms:modified xsi:type="dcterms:W3CDTF">2008-08-11T06:39:35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