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9CF-02BB-4CE1-950C-34CAE0FC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500-10D5-464D-B5B4-F9DD39F8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2E7-4A9D-491B-8467-A6D1A4CE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F9D-0F06-4E60-B8E0-7D157D82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F404-7588-4938-B6DE-570F1E6E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2824-7C78-488F-B708-EF947DBE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3542-1F70-49FB-94B0-7A6009DC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547A-663B-47F3-B77A-E05C8D0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F25D-0FAD-4272-A596-1BDFA1C7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AA43-2282-44E8-ADEA-EA4B311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8DB2-6592-4494-B435-B15A2D9B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485-1E01-4452-B75A-2E7BC7EF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9503-E852-452A-98C8-CF13C4F8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6365-E856-430B-8ADB-F57D833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DD60-9BC7-4B58-82E3-BA36E18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9611-BF11-471C-AB92-CFF65B49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375B-0CC6-4E39-B7A0-1BEBAFA7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479-DE4D-4923-9F11-D470D5F8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61E-FBFC-4FEB-AF0C-7B915A8E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2D7-595F-4677-914F-254CF312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40F-5DE1-4138-84AB-A4F2EDAD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D48-1E36-4BFE-89FA-304F06C4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2C9-88F6-4A6A-BA32-10FC0F81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EAD-0012-459D-B357-99A597B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A321-7336-4A6E-9388-8236403A1E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5EC-A30A-4DDD-A4B9-0B131091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" descr="2-1.pn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1" descr="2-2.png"/>
          <p:cNvPicPr/>
          <p:nvPr/>
        </p:nvPicPr>
        <p:blipFill>
          <a:blip r:embed="rId3"/>
          <a:stretch/>
        </p:blipFill>
        <p:spPr>
          <a:xfrm>
            <a:off x="4267080" y="3124080"/>
            <a:ext cx="487692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2" descr="2-3.png"/>
          <p:cNvPicPr/>
          <p:nvPr/>
        </p:nvPicPr>
        <p:blipFill>
          <a:blip r:embed="rId4"/>
          <a:stretch/>
        </p:blipFill>
        <p:spPr>
          <a:xfrm>
            <a:off x="4343400" y="2971800"/>
            <a:ext cx="4802040" cy="1228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3" descr="2-4.png"/>
          <p:cNvPicPr/>
          <p:nvPr/>
        </p:nvPicPr>
        <p:blipFill>
          <a:blip r:embed="rId5"/>
          <a:stretch/>
        </p:blipFill>
        <p:spPr>
          <a:xfrm>
            <a:off x="4495680" y="2666880"/>
            <a:ext cx="4648320" cy="1662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4" descr="2-5.png"/>
          <p:cNvPicPr/>
          <p:nvPr/>
        </p:nvPicPr>
        <p:blipFill>
          <a:blip r:embed="rId6"/>
          <a:stretch/>
        </p:blipFill>
        <p:spPr>
          <a:xfrm>
            <a:off x="3886200" y="2514600"/>
            <a:ext cx="5257800" cy="19591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5" descr="3-1.png"/>
          <p:cNvPicPr/>
          <p:nvPr/>
        </p:nvPicPr>
        <p:blipFill>
          <a:blip r:embed="rId7"/>
          <a:stretch/>
        </p:blipFill>
        <p:spPr>
          <a:xfrm>
            <a:off x="0" y="2362320"/>
            <a:ext cx="47372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6" descr="3-2.png"/>
          <p:cNvPicPr/>
          <p:nvPr/>
        </p:nvPicPr>
        <p:blipFill>
          <a:blip r:embed="rId8"/>
          <a:stretch/>
        </p:blipFill>
        <p:spPr>
          <a:xfrm>
            <a:off x="0" y="2362320"/>
            <a:ext cx="4757760" cy="2309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7" descr="3-3.png"/>
          <p:cNvPicPr/>
          <p:nvPr/>
        </p:nvPicPr>
        <p:blipFill>
          <a:blip r:embed="rId9"/>
          <a:stretch/>
        </p:blipFill>
        <p:spPr>
          <a:xfrm>
            <a:off x="0" y="3124080"/>
            <a:ext cx="4297320" cy="10447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8" descr="3-4.png"/>
          <p:cNvPicPr/>
          <p:nvPr/>
        </p:nvPicPr>
        <p:blipFill>
          <a:blip r:embed="rId10"/>
          <a:stretch/>
        </p:blipFill>
        <p:spPr>
          <a:xfrm>
            <a:off x="0" y="3200400"/>
            <a:ext cx="4525920" cy="1238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9" descr="3-5.png"/>
          <p:cNvPicPr/>
          <p:nvPr/>
        </p:nvPicPr>
        <p:blipFill>
          <a:blip r:embed="rId11"/>
          <a:stretch/>
        </p:blipFill>
        <p:spPr>
          <a:xfrm>
            <a:off x="0" y="3200400"/>
            <a:ext cx="4525920" cy="1060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2" descr="光.png"/>
          <p:cNvPicPr/>
          <p:nvPr/>
        </p:nvPicPr>
        <p:blipFill>
          <a:blip r:embed="rId12"/>
          <a:stretch/>
        </p:blipFill>
        <p:spPr>
          <a:xfrm>
            <a:off x="3992400" y="304812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3" descr="光.png"/>
          <p:cNvPicPr/>
          <p:nvPr/>
        </p:nvPicPr>
        <p:blipFill>
          <a:blip r:embed="rId13"/>
          <a:stretch/>
        </p:blipFill>
        <p:spPr>
          <a:xfrm>
            <a:off x="3886200" y="3048120"/>
            <a:ext cx="130824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4" descr="地球2.png"/>
          <p:cNvPicPr/>
          <p:nvPr/>
        </p:nvPicPr>
        <p:blipFill>
          <a:blip r:embed="rId14"/>
          <a:stretch/>
        </p:blipFill>
        <p:spPr>
          <a:xfrm>
            <a:off x="4267080" y="33526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5" descr="地球2.png"/>
          <p:cNvPicPr/>
          <p:nvPr/>
        </p:nvPicPr>
        <p:blipFill>
          <a:blip r:embed="rId15"/>
          <a:stretch/>
        </p:blipFill>
        <p:spPr>
          <a:xfrm>
            <a:off x="380880" y="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9" descr="未标题-1.png"/>
          <p:cNvPicPr/>
          <p:nvPr/>
        </p:nvPicPr>
        <p:blipFill>
          <a:blip r:embed="rId16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2">
                                  <p:stCondLst>
                                    <p:cond delay="9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900"/>
                            </p:stCondLst>
                            <p:childTnLst>
                              <p:par>
                                <p:cTn id="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9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5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57200" y="4648320"/>
            <a:ext cx="4110120" cy="1137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4" descr="未标题-1.png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地球2.png"/>
          <p:cNvPicPr/>
          <p:nvPr/>
        </p:nvPicPr>
        <p:blipFill>
          <a:blip r:embed="rId4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0.01481 L -0.98333 0.01111 E">
                                      <p:cBhvr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225360" y="5562720"/>
            <a:ext cx="9369000" cy="1294920"/>
            <a:chOff x="-225360" y="5562720"/>
            <a:chExt cx="9369000" cy="1294920"/>
          </a:xfrm>
        </p:grpSpPr>
        <p:sp>
          <p:nvSpPr>
            <p:cNvPr id="105" name="Rectangle 3"/>
            <p:cNvSpPr/>
            <p:nvPr/>
          </p:nvSpPr>
          <p:spPr>
            <a:xfrm>
              <a:off x="-225360" y="5855760"/>
              <a:ext cx="9369000" cy="10018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 flipV="1">
              <a:off x="-225360" y="5562360"/>
              <a:ext cx="9369000" cy="301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rc 13"/>
          <p:cNvSpPr/>
          <p:nvPr/>
        </p:nvSpPr>
        <p:spPr>
          <a:xfrm>
            <a:off x="-3654360" y="0"/>
            <a:ext cx="6854760" cy="68580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365200" y="1255680"/>
            <a:ext cx="560520" cy="560520"/>
            <a:chOff x="2365200" y="1255680"/>
            <a:chExt cx="560520" cy="560520"/>
          </a:xfrm>
        </p:grpSpPr>
        <p:pic>
          <p:nvPicPr>
            <p:cNvPr id="109" name="Oval 14" descr=""/>
            <p:cNvPicPr/>
            <p:nvPr/>
          </p:nvPicPr>
          <p:blipFill>
            <a:blip r:embed="rId3"/>
            <a:stretch/>
          </p:blipFill>
          <p:spPr>
            <a:xfrm>
              <a:off x="2365200" y="125568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538360" y="141588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65600" y="2523960"/>
            <a:ext cx="560160" cy="560520"/>
            <a:chOff x="2865600" y="2523960"/>
            <a:chExt cx="560160" cy="560520"/>
          </a:xfrm>
        </p:grpSpPr>
        <p:pic>
          <p:nvPicPr>
            <p:cNvPr id="112" name="Oval 15" descr=""/>
            <p:cNvPicPr/>
            <p:nvPr/>
          </p:nvPicPr>
          <p:blipFill>
            <a:blip r:embed="rId4"/>
            <a:stretch/>
          </p:blipFill>
          <p:spPr>
            <a:xfrm>
              <a:off x="2865600" y="252396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036600" y="268416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865600" y="3790800"/>
            <a:ext cx="560160" cy="561960"/>
            <a:chOff x="2865600" y="3790800"/>
            <a:chExt cx="560160" cy="561960"/>
          </a:xfrm>
        </p:grpSpPr>
        <p:pic>
          <p:nvPicPr>
            <p:cNvPr id="115" name="Oval 16" descr=""/>
            <p:cNvPicPr/>
            <p:nvPr/>
          </p:nvPicPr>
          <p:blipFill>
            <a:blip r:embed="rId5"/>
            <a:stretch/>
          </p:blipFill>
          <p:spPr>
            <a:xfrm>
              <a:off x="2865600" y="379080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38400" y="395280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78160" y="5059440"/>
            <a:ext cx="560160" cy="560160"/>
            <a:chOff x="2378160" y="5059440"/>
            <a:chExt cx="560160" cy="560160"/>
          </a:xfrm>
        </p:grpSpPr>
        <p:pic>
          <p:nvPicPr>
            <p:cNvPr id="118" name="Oval 17" descr=""/>
            <p:cNvPicPr/>
            <p:nvPr/>
          </p:nvPicPr>
          <p:blipFill>
            <a:blip r:embed="rId6"/>
            <a:stretch/>
          </p:blipFill>
          <p:spPr>
            <a:xfrm>
              <a:off x="2378160" y="5059440"/>
              <a:ext cx="5601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50960" y="5221080"/>
              <a:ext cx="2203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228600" y="1901880"/>
            <a:ext cx="1533600" cy="3060720"/>
            <a:chOff x="-228600" y="1901880"/>
            <a:chExt cx="1533600" cy="3060720"/>
          </a:xfrm>
        </p:grpSpPr>
        <p:pic>
          <p:nvPicPr>
            <p:cNvPr id="121" name="Arc 18" descr=""/>
            <p:cNvPicPr/>
            <p:nvPr/>
          </p:nvPicPr>
          <p:blipFill>
            <a:blip r:embed="rId7"/>
            <a:stretch/>
          </p:blipFill>
          <p:spPr>
            <a:xfrm>
              <a:off x="-228600" y="1901880"/>
              <a:ext cx="153360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-225360" y="1905120"/>
              <a:ext cx="152064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46320" y="306720"/>
            <a:ext cx="228960" cy="6245280"/>
            <a:chOff x="-346320" y="306720"/>
            <a:chExt cx="228960" cy="6245280"/>
          </a:xfrm>
        </p:grpSpPr>
        <p:grpSp>
          <p:nvGrpSpPr>
            <p:cNvPr id="124" name=""/>
            <p:cNvGrpSpPr/>
            <p:nvPr/>
          </p:nvGrpSpPr>
          <p:grpSpPr>
            <a:xfrm>
              <a:off x="-345960" y="3236040"/>
              <a:ext cx="228600" cy="3315960"/>
              <a:chOff x="-345960" y="3236040"/>
              <a:chExt cx="228600" cy="3315960"/>
            </a:xfrm>
          </p:grpSpPr>
          <p:pic>
            <p:nvPicPr>
              <p:cNvPr id="125" name="Rounded Rectangle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-345960" y="323604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5"/>
              <p:cNvSpPr/>
              <p:nvPr/>
            </p:nvSpPr>
            <p:spPr>
              <a:xfrm rot="10800000">
                <a:off x="-273600" y="3368520"/>
                <a:ext cx="86040" cy="30301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-346320" y="306720"/>
              <a:ext cx="228600" cy="3315960"/>
              <a:chOff x="-346320" y="306720"/>
              <a:chExt cx="228600" cy="3315960"/>
            </a:xfrm>
          </p:grpSpPr>
          <p:pic>
            <p:nvPicPr>
              <p:cNvPr id="128" name="Rounded Rectangle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-346320" y="30672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8"/>
              <p:cNvSpPr/>
              <p:nvPr/>
            </p:nvSpPr>
            <p:spPr>
              <a:xfrm rot="10800000">
                <a:off x="-272880" y="441720"/>
                <a:ext cx="86040" cy="30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"/>
          <p:cNvSpPr txBox="1"/>
          <p:nvPr/>
        </p:nvSpPr>
        <p:spPr>
          <a:xfrm>
            <a:off x="4191120" y="2286000"/>
            <a:ext cx="396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379880">
                                      <p:cBhvr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dc:language>en-US</dc:language>
  <cp:lastModifiedBy>arkey</cp:lastModifiedBy>
  <cp:lastPrinted>1899-12-30T00:00:00Z</cp:lastPrinted>
  <dcterms:modified xsi:type="dcterms:W3CDTF">2010-07-11T11:01:25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