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AB6-4BA8-4424-B5C1-069A832E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C4E-0FCD-4F36-869F-468D65B2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D8E-DA91-46DF-BBCA-0233D43F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664-0409-4C66-97D8-6F3A4B9A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5BEC-AA30-44F1-924F-8BE58EFF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EAB7-3F4A-4CF4-B47E-118CF556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121D-87D1-4314-B55A-821FE1FD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5BB3-1CDF-495A-9D30-34D54C8C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1226-CB34-4E56-ABCD-781DCC29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93C8-AA7D-425D-B8EE-94781E86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8A30-BFFA-48B8-80D5-10A163FF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920-98B4-466B-8845-B4E78D87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3FD0-9E32-4765-9EA4-71EFEF3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BC42-E16D-407E-85AB-7E1ECABD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8B20-E36D-45F1-8F70-B4CBE605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4CFA-3305-462E-95A5-DD6D4E6A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FB75-D751-45B5-99B1-B4302AA8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EB10-3ADD-4CB0-ADF5-541723EF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0A51-E093-44C7-9A5A-78A84E8E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F8E1-21F7-4226-8834-47ED5EF7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F769-A9E4-4822-A80D-8C65FF2E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7349-64A4-41E5-A5F4-DCD7FF61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9BF-9E84-4F87-8D98-D722D2D7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B8E0-E72B-4C52-AA5C-BBA728AE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ED58-C76A-4FE9-8A62-72450F5E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4E43-C9CA-4E6B-A65E-2379CDE2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3F07-AFF5-41A2-A02D-13C5CB78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4703-EE3E-4F0C-AF98-38479D68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8FFD-64CB-4CE4-860E-7E5C6E57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27AF-30F8-4EED-8430-61D60D8B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DA8-53FA-4764-BE82-FFC08B02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4E4-8DFE-4663-B586-49906EB9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C4B-E890-42BD-9DF0-7AD9B255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571-D0E1-435B-A4DF-FD2B09DB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059-339F-44D9-9223-0B00DB15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FCC-8F53-456C-89FE-AF2BC7DC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adc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adc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4C4E-3A5A-4EFF-939E-6AB9928746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1044-50A7-4B1A-83C2-D3D0BA1FBD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dcf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adc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adc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B0AC-B4F3-44E4-AD32-16A0F887C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190512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6668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42900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419112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14161"/>
              </a:gs>
              <a:gs pos="50000">
                <a:srgbClr val="6b8ed3"/>
              </a:gs>
              <a:gs pos="100000">
                <a:srgbClr val="314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31" name="未知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2a99ec"/>
              </a:gs>
              <a:gs pos="100000">
                <a:srgbClr val="eaf4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63c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e9932"/>
              </a:gs>
              <a:gs pos="100000">
                <a:srgbClr val="3b2f0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a99ec"/>
              </a:gs>
              <a:gs pos="100000">
                <a:srgbClr val="0e365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64e5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430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3680" y="35053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34600" y="19051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68240" y="21826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77600" y="44956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56640" y="511956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循环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4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558720" y="129528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22860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8616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159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161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167" name="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173" name="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2160" y="20718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94640" y="20718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94840" y="20718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47680" y="20718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8640" y="33526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1120" y="33526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3600" y="33526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6440" y="33526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601600">
            <a:off x="1461960" y="20649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20601600">
            <a:off x="1517400" y="190332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0601600">
            <a:off x="1382400" y="19209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0601600">
            <a:off x="1434960" y="188856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rot="20602200">
            <a:off x="1438200" y="1902960"/>
            <a:ext cx="575244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0601600">
            <a:off x="1440000" y="190080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rot="20602200">
            <a:off x="1423440" y="190800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9560" y="1222560"/>
            <a:ext cx="6918480" cy="4356720"/>
            <a:chOff x="529560" y="1222560"/>
            <a:chExt cx="6918480" cy="4356720"/>
          </a:xfrm>
        </p:grpSpPr>
        <p:sp>
          <p:nvSpPr>
            <p:cNvPr id="198" name=""/>
            <p:cNvSpPr/>
            <p:nvPr/>
          </p:nvSpPr>
          <p:spPr>
            <a:xfrm rot="20712600">
              <a:off x="782280" y="199404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 rot="20712600">
              <a:off x="4186080" y="31921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 rot="20712600">
              <a:off x="5562000" y="33602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03680" y="925200"/>
            <a:ext cx="6957360" cy="4863240"/>
            <a:chOff x="1003680" y="925200"/>
            <a:chExt cx="6957360" cy="4863240"/>
          </a:xfrm>
        </p:grpSpPr>
        <p:sp>
          <p:nvSpPr>
            <p:cNvPr id="202" name="未知"/>
            <p:cNvSpPr/>
            <p:nvPr/>
          </p:nvSpPr>
          <p:spPr>
            <a:xfrm rot="20601600">
              <a:off x="6073560" y="32634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17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539200">
              <a:off x="1323720" y="181116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 rot="20601600">
              <a:off x="4757760" y="309348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15720" y="2438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5520" y="1981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720" y="27432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8120" y="40384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10600" y="4267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2040" y="3429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dcf6"/>
                </a:solidFill>
                <a:latin typeface="Times New Roman"/>
              </a:rPr>
              <a:t>市场分析图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3760" y="23144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cf2f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486320" y="4038480"/>
            <a:ext cx="1512720" cy="1511280"/>
            <a:chOff x="4486320" y="4038480"/>
            <a:chExt cx="1512720" cy="1511280"/>
          </a:xfrm>
        </p:grpSpPr>
        <p:sp>
          <p:nvSpPr>
            <p:cNvPr id="216" name="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e993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be9932"/>
                </a:gs>
                <a:gs pos="100000">
                  <a:srgbClr val="d8c3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6521a"/>
                </a:gs>
                <a:gs pos="50000">
                  <a:srgbClr val="be9932"/>
                </a:gs>
                <a:gs pos="100000">
                  <a:srgbClr val="6652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c4a18"/>
                </a:gs>
                <a:gs pos="100000">
                  <a:srgbClr val="be99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5120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574617"/>
                </a:gs>
                <a:gs pos="100000">
                  <a:srgbClr val="be9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887400" y="4038480"/>
            <a:ext cx="1513080" cy="1511280"/>
            <a:chOff x="887400" y="4038480"/>
            <a:chExt cx="1513080" cy="1511280"/>
          </a:xfrm>
        </p:grpSpPr>
        <p:sp>
          <p:nvSpPr>
            <p:cNvPr id="222" name=""/>
            <p:cNvSpPr/>
            <p:nvPr/>
          </p:nvSpPr>
          <p:spPr>
            <a:xfrm>
              <a:off x="887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adc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7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adcf6"/>
                </a:gs>
                <a:gs pos="100000">
                  <a:srgbClr val="c7eb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86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37684"/>
                </a:gs>
                <a:gs pos="50000">
                  <a:srgbClr val="9adcf6"/>
                </a:gs>
                <a:gs pos="100000">
                  <a:srgbClr val="5376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86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a6a77"/>
                </a:gs>
                <a:gs pos="100000">
                  <a:srgbClr val="9adc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52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66571"/>
                </a:gs>
                <a:gs pos="100000">
                  <a:srgbClr val="9adc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59400" y="4038480"/>
            <a:ext cx="1513080" cy="1511280"/>
            <a:chOff x="6359400" y="4038480"/>
            <a:chExt cx="1513080" cy="1511280"/>
          </a:xfrm>
        </p:grpSpPr>
        <p:sp>
          <p:nvSpPr>
            <p:cNvPr id="228" name="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b8e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6b8ed3"/>
                </a:gs>
                <a:gs pos="100000">
                  <a:srgbClr val="9bb2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94c71"/>
                </a:gs>
                <a:gs pos="50000">
                  <a:srgbClr val="6b8ed3"/>
                </a:gs>
                <a:gs pos="100000">
                  <a:srgbClr val="394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34466"/>
                </a:gs>
                <a:gs pos="100000">
                  <a:srgbClr val="6b8e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24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314161"/>
                </a:gs>
                <a:gs pos="100000">
                  <a:srgbClr val="6b8e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687760" y="4038480"/>
            <a:ext cx="1512720" cy="1511280"/>
            <a:chOff x="2687760" y="4038480"/>
            <a:chExt cx="1512720" cy="1511280"/>
          </a:xfrm>
        </p:grpSpPr>
        <p:sp>
          <p:nvSpPr>
            <p:cNvPr id="234" name="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b04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9ac7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c5e22"/>
                </a:gs>
                <a:gs pos="50000">
                  <a:srgbClr val="70b040"/>
                </a:gs>
                <a:gs pos="100000">
                  <a:srgbClr val="3c5e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6551f"/>
                </a:gs>
                <a:gs pos="100000">
                  <a:srgbClr val="70b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5264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3511d"/>
                </a:gs>
                <a:gs pos="100000">
                  <a:srgbClr val="70b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905120" y="1676520"/>
            <a:ext cx="4876560" cy="457200"/>
          </a:xfrm>
          <a:prstGeom prst="roundRect">
            <a:avLst>
              <a:gd name="adj" fmla="val 50000"/>
            </a:avLst>
          </a:prstGeom>
          <a:solidFill>
            <a:srgbClr val="2a99e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59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335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47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38280" y="4648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f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24000" y="4437000"/>
            <a:ext cx="51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7:59:14Z</dcterms:created>
  <dc:creator/>
  <dc:description/>
  <dc:language>en-US</dc:language>
  <cp:lastModifiedBy/>
  <cp:lastPrinted>1899-12-30T00:00:00Z</cp:lastPrinted>
  <dcterms:modified xsi:type="dcterms:W3CDTF">2005-01-04T06:32:3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11368012052</vt:lpwstr>
  </property>
</Properties>
</file>