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EC510-8346-4FEC-A8AE-136866A94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89AE8-A53D-4675-8FFF-DDE80C0A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2211B-DE1F-4F41-B37F-15E19F06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9AF69-B14A-49CA-A972-7548F409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572E9-4217-4FF8-B95B-FEB14435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8ACFE-D05A-499C-9AAE-0D80611A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33D74-F9B2-45BE-9FA2-A83BEFBE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C4C2C-9A5D-46B9-BB63-C67EF6B5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5CB12-52CA-4545-9679-B1FCA8F3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6059E-432C-44EE-8AC8-2F4556B4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E19A6-9F8C-44EA-8A67-99B2CC137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70DB9-2FDA-4C65-8455-3127B7FE1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872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652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1225440"/>
            <a:ext cx="9144000" cy="17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1c1c1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EF4356D3-360D-4373-BF64-452AAEC3DB86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53964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3030480"/>
            <a:ext cx="9144000" cy="38275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6572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1c1c1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0" y="3030480"/>
            <a:ext cx="9144000" cy="38275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2a56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285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3F8C-3A99-41D5-BC87-3787B9662AD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7747-87E3-4224-9E9F-1608068E9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436572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41196-2B96-4695-AF12-C1AD045733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雨林木风</cp:lastModifiedBy>
  <cp:lastPrinted>1899-12-30T00:00:00Z</cp:lastPrinted>
  <dcterms:modified xsi:type="dcterms:W3CDTF">2009-11-12T04:03:59Z</dcterms:modified>
  <cp:revision>39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