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74AE-A73A-4D4C-8685-0FE7B656CB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1B26-021E-4550-AC4E-C27B9A8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F943-EE9F-433C-BAFB-29FD4AB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D2C5-1E6E-4617-BBD2-BD8A605F0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D06D7-4934-4569-B075-C00C67F2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4E8AB-1BFC-4C71-AF96-B644880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079E6-3F97-4177-8EF7-83946A0E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FBEA9-765E-4DE9-98A5-DAB7F304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CB50A-2DB8-4F26-855E-B7E5705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682B-3EC5-44FA-9E27-FFAB3D5C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8FFE-085F-4B9E-B1CB-A3AEC12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35B1-9EFE-4C62-8D29-3356DE8B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4BA7E-B759-4D71-8683-AA05BB8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A125-F9F8-4B31-9FC9-734CF0BF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839F-FEC1-4383-A7B2-AD0AC74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CB708-9BB7-46B7-A27F-6C835D0E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52AD-F4BE-4B12-832F-158DCB9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6CEA-B694-48A2-AEF8-2CD1E9AB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876D-4ADC-4E44-8E19-263096A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19ED-F1E1-4825-8C88-B135177D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97F2-D713-4210-B4C3-934892D6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97BA-F1DB-40CA-A601-09511EA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F84D-0EC2-4A8F-AF89-DFB3D32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7F3F-7092-4C9D-B69B-AB2C442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F652-ADB5-4197-BA7E-3D8C40DC45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6BF-080F-4645-8ED6-952447233E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3740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ABD3-F753-4E4C-9CF8-EC18934E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055" descr=""/>
          <p:cNvPicPr/>
          <p:nvPr/>
        </p:nvPicPr>
        <p:blipFill>
          <a:blip r:embed="rId1"/>
          <a:stretch/>
        </p:blipFill>
        <p:spPr>
          <a:xfrm>
            <a:off x="20520" y="0"/>
            <a:ext cx="9185400" cy="4370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112680" y="1908000"/>
            <a:ext cx="309600" cy="435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4"/>
          <p:cNvSpPr/>
          <p:nvPr/>
        </p:nvSpPr>
        <p:spPr>
          <a:xfrm>
            <a:off x="0" y="4334040"/>
            <a:ext cx="9144000" cy="25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96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7992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5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9692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86840" y="19177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2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17784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3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17784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4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Bread</dc:creator>
  <dc:description/>
  <dc:language>en-US</dc:language>
  <cp:lastModifiedBy>Bread</cp:lastModifiedBy>
  <cp:lastPrinted>1899-12-30T00:00:00Z</cp:lastPrinted>
  <dcterms:modified xsi:type="dcterms:W3CDTF">2011-01-19T06:58:00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