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BCCA-64D7-44E0-8E98-CA0B3C0CF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8FE3-16A0-4D45-9201-FE9BCB83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AF7D-2DA4-4546-AEDB-8BB72B011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BE83-D42E-4BA4-9B93-8230F8E60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F1D3-3D93-4487-9816-BCBD929DB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77EC-88BF-46FC-8791-F4F914B6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3485-91B0-4B88-AF36-714F6976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FCB6-6FD5-4FE0-A212-35B3D3F6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8D8E-9167-4EA6-B260-309BA602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EC88-8D7A-4CFA-9069-189A413E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B60F9-AC18-41C9-BCE1-DB286D22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D6C1-47BB-4C9D-A3E2-0553B6DE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BF18-0C53-4236-909E-C4F775C5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AAC2-7208-46A5-9271-AB48CD6E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FDD8-D7F6-4FB6-8879-A04C7AFC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0DC3-086D-42DC-95ED-7F08A6212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D0AA-C2B4-48F4-ABB7-473888932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885A-0785-4CC9-A02D-06771DF6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4195-10DA-41CF-90E4-444D739A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044A-5C18-4072-ADE2-2583ADCF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B9C6-2A7B-4F04-8F94-A45335AA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B603-BDDE-4D30-BA9D-B3B2CB77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8CB5-752F-404B-A0E3-CFF278EB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9B19-F710-4565-9CFA-5534DC52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A0EC-1F45-4275-A490-8F591A9C2988}" type="slidenum">
              <a:rPr b="0" lang="fr-CA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DB7E-AF0A-4C6E-AEE1-4FF61C59F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57200" y="1142640"/>
            <a:ext cx="667224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"/>
              </a:rPr>
              <a:t>PRESENTATION  NA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27080" y="1919160"/>
            <a:ext cx="514512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Company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071440" y="1600200"/>
            <a:ext cx="66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832040"/>
            <a:ext cx="8229600" cy="39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324000" y="443700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6:02:59Z</dcterms:created>
  <dc:creator/>
  <dc:description/>
  <dc:language>en-US</dc:language>
  <cp:lastModifiedBy>echo</cp:lastModifiedBy>
  <cp:lastPrinted>1899-12-30T00:00:00Z</cp:lastPrinted>
  <dcterms:modified xsi:type="dcterms:W3CDTF">2010-03-19T14:55:48Z</dcterms:modified>
  <cp:revision>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